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0FC-4EB9-406F-8526-A9C92335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995-48FA-4E48-A4FD-DF455F15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B6B-DCCB-4F01-9E15-538FB821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685-6E0A-475B-99C4-6C74C5AD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E83-A9DF-4258-A3C7-A10857FF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A34-E055-432D-BD39-F388589A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C25-64D4-4908-82A8-60C53316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79F-6BC4-42D6-BBE5-58F39EF7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294-EE93-4991-B500-D89AECB5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65C-C700-4CB6-B048-AF48B36A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2F1-AF83-45FE-9FAB-FBAAE8C2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638-AE2D-401D-AF1A-37AB2FE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F82A-E1C9-46DA-A219-7E1D020C1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物中的营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8836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天的食物中我能获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哪些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57120" y="1500120"/>
            <a:ext cx="77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样辨别食物中的营养成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429160" y="3429000"/>
            <a:ext cx="371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TB6GT98AN_XR3$PM779LF@V.jpg"/>
          <p:cNvPicPr/>
          <p:nvPr/>
        </p:nvPicPr>
        <p:blipFill>
          <a:blip r:embed="rId1"/>
          <a:stretch/>
        </p:blipFill>
        <p:spPr>
          <a:xfrm>
            <a:off x="714240" y="2857680"/>
            <a:ext cx="4442040" cy="35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6500880" y="4643280"/>
            <a:ext cx="1811160" cy="1928880"/>
          </a:xfrm>
          <a:prstGeom prst="rect">
            <a:avLst/>
          </a:prstGeom>
          <a:ln w="0">
            <a:noFill/>
          </a:ln>
        </p:spPr>
      </p:pic>
      <p:sp>
        <p:nvSpPr>
          <p:cNvPr id="86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在白纸上挤压、滑动，看看会留下油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C:\Users\Administrator\AppData\Roaming\Tencent\Users\173692760\QQ\WinTemp\RichOle\_G4}P@DE%ST]Y8KW}E]ZK@9.jpg"/>
          <p:cNvPicPr/>
          <p:nvPr/>
        </p:nvPicPr>
        <p:blipFill>
          <a:blip r:embed="rId2"/>
          <a:stretch/>
        </p:blipFill>
        <p:spPr>
          <a:xfrm>
            <a:off x="571680" y="2857680"/>
            <a:ext cx="4530600" cy="3071520"/>
          </a:xfrm>
          <a:prstGeom prst="rect">
            <a:avLst/>
          </a:prstGeom>
          <a:ln w="0">
            <a:noFill/>
          </a:ln>
        </p:spPr>
      </p:pic>
      <p:sp>
        <p:nvSpPr>
          <p:cNvPr id="88" name="矩形 6"/>
          <p:cNvSpPr/>
          <p:nvPr/>
        </p:nvSpPr>
        <p:spPr>
          <a:xfrm>
            <a:off x="1470600" y="592920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肥肉  花生  食用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云形标注 7"/>
          <p:cNvSpPr/>
          <p:nvPr/>
        </p:nvSpPr>
        <p:spPr>
          <a:xfrm>
            <a:off x="5429160" y="2286000"/>
            <a:ext cx="3714840" cy="1785960"/>
          </a:xfrm>
          <a:prstGeom prst="cloudCallout">
            <a:avLst>
              <a:gd name="adj1" fmla="val -10921"/>
              <a:gd name="adj2" fmla="val 804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和水渍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淀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滴一滴碘酒，看看会不会变蓝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3206D"/>
          <p:cNvPicPr/>
          <p:nvPr/>
        </p:nvPicPr>
        <p:blipFill>
          <a:blip r:embed="rId1"/>
          <a:stretch/>
        </p:blipFill>
        <p:spPr>
          <a:xfrm>
            <a:off x="214200" y="2714760"/>
            <a:ext cx="5643720" cy="400032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6000840" y="32716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淀粉是糖类的一种。碘酒只能辨别淀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142920" y="21420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知道食物中是否含有蛋白质、维生素、矿物质等营养，我们可以采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看标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Administrator\AppData\Roaming\Tencent\Users\173692760\QQ\WinTemp\RichOle\Y(YTLZ(9Z1FI5L@NYSI9F85.jpg"/>
          <p:cNvPicPr/>
          <p:nvPr/>
        </p:nvPicPr>
        <p:blipFill>
          <a:blip r:embed="rId1"/>
          <a:stretch/>
        </p:blipFill>
        <p:spPr>
          <a:xfrm>
            <a:off x="3071880" y="2571840"/>
            <a:ext cx="3071880" cy="266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Administrator\AppData\Roaming\Tencent\Users\173692760\QQ\WinTemp\RichOle\YK)OFC%QTKT]50U7F(V4999.jpg"/>
          <p:cNvPicPr/>
          <p:nvPr/>
        </p:nvPicPr>
        <p:blipFill>
          <a:blip r:embed="rId2"/>
          <a:stretch/>
        </p:blipFill>
        <p:spPr>
          <a:xfrm>
            <a:off x="0" y="2571840"/>
            <a:ext cx="295416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Administrator\AppData\Roaming\Tencent\Users\173692760\QQ\WinTemp\RichOle\`]~}5RLFL5~0T`DENE]XRZ7.jpg"/>
          <p:cNvPicPr/>
          <p:nvPr/>
        </p:nvPicPr>
        <p:blipFill>
          <a:blip r:embed="rId3"/>
          <a:stretch/>
        </p:blipFill>
        <p:spPr>
          <a:xfrm>
            <a:off x="6215040" y="2571840"/>
            <a:ext cx="2928960" cy="26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Administrator\AppData\Roaming\Tencent\Users\173692760\QQ\WinTemp\RichOle\}P_X5GESY$8NCUDOTBX0CI0.jpg"/>
          <p:cNvPicPr/>
          <p:nvPr/>
        </p:nvPicPr>
        <p:blipFill>
          <a:blip r:embed="rId4"/>
          <a:stretch/>
        </p:blipFill>
        <p:spPr>
          <a:xfrm>
            <a:off x="2714760" y="5429160"/>
            <a:ext cx="6172200" cy="1190880"/>
          </a:xfrm>
          <a:prstGeom prst="rect">
            <a:avLst/>
          </a:prstGeom>
          <a:ln w="0">
            <a:noFill/>
          </a:ln>
        </p:spPr>
      </p:pic>
      <p:sp>
        <p:nvSpPr>
          <p:cNvPr id="98" name="矩形 10"/>
          <p:cNvSpPr/>
          <p:nvPr/>
        </p:nvSpPr>
        <p:spPr>
          <a:xfrm>
            <a:off x="594360" y="571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428920" y="157176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查阅资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79280" y="2320560"/>
            <a:ext cx="8820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体维持健康需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蛋白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（         ）、（           ）、（          ）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矿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膳食纤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把食物放在白纸上挤压、滑动，白纸上留下油渍，说明这种食物含（         ）。在食物上滴碘酒，是为了检测食物中是否含有（          ）。想知道食物中是否含有蛋白质、维生素、矿物质等营养，我们可以采用看标签或（                      ） 等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58000" y="357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糖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11280" y="981000"/>
            <a:ext cx="22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571920" y="1000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128000" y="3068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714680" y="44290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85776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菠菜"/>
          <p:cNvPicPr/>
          <p:nvPr/>
        </p:nvPicPr>
        <p:blipFill>
          <a:blip r:embed="rId1"/>
          <a:stretch/>
        </p:blipFill>
        <p:spPr>
          <a:xfrm>
            <a:off x="5357880" y="2571840"/>
            <a:ext cx="2214360" cy="214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Users\Administrator\AppData\Roaming\Tencent\Users\173692760\QQ\WinTemp\RichOle\V]W%3`J8SYC`FU6SI3SJIKF.jpg"/>
          <p:cNvPicPr/>
          <p:nvPr/>
        </p:nvPicPr>
        <p:blipFill>
          <a:blip r:embed="rId2"/>
          <a:stretch/>
        </p:blipFill>
        <p:spPr>
          <a:xfrm>
            <a:off x="0" y="0"/>
            <a:ext cx="2928960" cy="245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Users\Administrator\AppData\Roaming\Tencent\Users\173692760\QQ\WinTemp\RichOle\1~78]2RYET8UMA{BI9G14X2.jpg"/>
          <p:cNvPicPr/>
          <p:nvPr/>
        </p:nvPicPr>
        <p:blipFill>
          <a:blip r:embed="rId3"/>
          <a:stretch/>
        </p:blipFill>
        <p:spPr>
          <a:xfrm>
            <a:off x="3044880" y="0"/>
            <a:ext cx="274140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C:\Users\Administrator\AppData\Roaming\Tencent\Users\173692760\QQ\WinTemp\RichOle\(}EDS1P3TFOE0)YS50[67@M.jpg"/>
          <p:cNvPicPr/>
          <p:nvPr/>
        </p:nvPicPr>
        <p:blipFill>
          <a:blip r:embed="rId4"/>
          <a:stretch/>
        </p:blipFill>
        <p:spPr>
          <a:xfrm>
            <a:off x="5929200" y="0"/>
            <a:ext cx="3214800" cy="245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C:\Users\Administrator\AppData\Roaming\Tencent\Users\173692760\QQ\WinTemp\RichOle\~Q0M%K@XX1()6GW8${NP@J8.jpg"/>
          <p:cNvPicPr/>
          <p:nvPr/>
        </p:nvPicPr>
        <p:blipFill>
          <a:blip r:embed="rId5"/>
          <a:stretch/>
        </p:blipFill>
        <p:spPr>
          <a:xfrm>
            <a:off x="71280" y="2571840"/>
            <a:ext cx="2571840" cy="207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C:\Users\Administrator\AppData\Roaming\Tencent\Users\173692760\QQ\WinTemp\RichOle\{952R~}TN4ST4B8_8YQ`$IB.jpg"/>
          <p:cNvPicPr/>
          <p:nvPr/>
        </p:nvPicPr>
        <p:blipFill>
          <a:blip r:embed="rId6"/>
          <a:stretch/>
        </p:blipFill>
        <p:spPr>
          <a:xfrm>
            <a:off x="2747880" y="2571840"/>
            <a:ext cx="24670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C:\Users\Administrator\AppData\Roaming\Tencent\Users\173692760\QQ\WinTemp\RichOle\M)E4213$N4G7P4~NF8N{6SY.jpg"/>
          <p:cNvPicPr/>
          <p:nvPr/>
        </p:nvPicPr>
        <p:blipFill>
          <a:blip r:embed="rId7"/>
          <a:stretch/>
        </p:blipFill>
        <p:spPr>
          <a:xfrm>
            <a:off x="7715160" y="2571840"/>
            <a:ext cx="1428840" cy="2149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C:\Users\Administrator\AppData\Roaming\Tencent\Users\173692760\QQ\WinTemp\RichOle\K[QZQ_95X%C(UA[L90KCD7C.jpg"/>
          <p:cNvPicPr/>
          <p:nvPr/>
        </p:nvPicPr>
        <p:blipFill>
          <a:blip r:embed="rId8"/>
          <a:stretch/>
        </p:blipFill>
        <p:spPr>
          <a:xfrm>
            <a:off x="0" y="4870440"/>
            <a:ext cx="2071800" cy="19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C:\Users\Administrator\AppData\Roaming\Tencent\Users\173692760\QQ\WinTemp\RichOle\GI_MA7NXSMA_R9)~4PTHTWA.jpg"/>
          <p:cNvPicPr/>
          <p:nvPr/>
        </p:nvPicPr>
        <p:blipFill>
          <a:blip r:embed="rId9"/>
          <a:stretch/>
        </p:blipFill>
        <p:spPr>
          <a:xfrm>
            <a:off x="2214720" y="4870440"/>
            <a:ext cx="2286000" cy="198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C:\Users\Administrator\AppData\Roaming\Tencent\Users\173692760\QQ\WinTemp\RichOle\O%Y@K28%[H93LR8U3UQJ$K8.jpg"/>
          <p:cNvPicPr/>
          <p:nvPr/>
        </p:nvPicPr>
        <p:blipFill>
          <a:blip r:embed="rId10"/>
          <a:stretch/>
        </p:blipFill>
        <p:spPr>
          <a:xfrm>
            <a:off x="4572000" y="4929120"/>
            <a:ext cx="2200320" cy="19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C:\Users\Administrator\AppData\Roaming\Tencent\Users\173692760\QQ\WinTemp\RichOle\U%I2_6I)8}FA}10BTQ(1)VF.jpg"/>
          <p:cNvPicPr/>
          <p:nvPr/>
        </p:nvPicPr>
        <p:blipFill>
          <a:blip r:embed="rId11"/>
          <a:stretch/>
        </p:blipFill>
        <p:spPr>
          <a:xfrm>
            <a:off x="6858000" y="492912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118" name="矩形 23"/>
          <p:cNvSpPr/>
          <p:nvPr/>
        </p:nvSpPr>
        <p:spPr>
          <a:xfrm>
            <a:off x="4178520" y="2149560"/>
            <a:ext cx="6883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一种食物包含所有的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4"/>
          <p:cNvSpPr/>
          <p:nvPr/>
        </p:nvSpPr>
        <p:spPr>
          <a:xfrm>
            <a:off x="611280" y="4429080"/>
            <a:ext cx="7993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每种食物都包含多种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42920" y="1481760"/>
            <a:ext cx="885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结论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的身体需要各种营养，这些营养储存在种类丰富的食物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从各种食物中获取营养，这些营养合理搭配，保证我们正常生活和成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57120" y="50292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所含的营养成分非常丰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6500880" y="1785960"/>
            <a:ext cx="2428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蛋白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糖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脂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矿物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4643280" y="3159000"/>
            <a:ext cx="200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左大括号 4"/>
          <p:cNvSpPr/>
          <p:nvPr/>
        </p:nvSpPr>
        <p:spPr>
          <a:xfrm>
            <a:off x="6000840" y="2143080"/>
            <a:ext cx="428400" cy="350064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3500640"/>
              <a:gd name="textAreaBottom" fmla="*/ 3489840 h 350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20"/>
                </a:cubicBezTo>
                <a:lnTo>
                  <a:pt x="10800" y="10580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0"/>
                  <a:pt x="10800" y="11020"/>
                </a:cubicBezTo>
                <a:lnTo>
                  <a:pt x="10800" y="21380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b6dcd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357120" y="2214720"/>
            <a:ext cx="419904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:\Users\Administrator\AppData\Roaming\Tencent\Users\173692760\QQ\WinTemp\RichOle\DX_]]TT{W5N@G3N}VN~1L8W.jpg"/>
          <p:cNvPicPr/>
          <p:nvPr/>
        </p:nvPicPr>
        <p:blipFill>
          <a:blip r:embed="rId1"/>
          <a:stretch/>
        </p:blipFill>
        <p:spPr>
          <a:xfrm>
            <a:off x="285840" y="1357200"/>
            <a:ext cx="4638600" cy="3286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蛋白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00040" y="5000760"/>
            <a:ext cx="807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蛋白质：构成人体肌肉、内脏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头发、指甲和血液的主要成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214960" y="214308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豆类、家禽类、肉类、水产类、蛋类、内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14960" y="1857240"/>
            <a:ext cx="392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类、巧克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、鸭蛋、花生、核桃、果仁、芝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C:\Users\Administrator\AppData\Roaming\Tencent\Users\173692760\QQ\WinTemp\RichOle\S7~}E7F)WO%G}NC7_1RK1XP.jpg"/>
          <p:cNvPicPr/>
          <p:nvPr/>
        </p:nvPicPr>
        <p:blipFill>
          <a:blip r:embed="rId1"/>
          <a:stretch/>
        </p:blipFill>
        <p:spPr>
          <a:xfrm>
            <a:off x="357120" y="1500120"/>
            <a:ext cx="4605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糖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糖类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5000760" y="221472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米、面条、苹果、香蕉、桔子、橙子、西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Users\Administrator\AppData\Roaming\Tencent\Users\173692760\QQ\WinTemp\RichOle\W%@LX7IE(IE8MTO}BVVPJTG.jpg"/>
          <p:cNvPicPr/>
          <p:nvPr/>
        </p:nvPicPr>
        <p:blipFill>
          <a:blip r:embed="rId1"/>
          <a:stretch/>
        </p:blipFill>
        <p:spPr>
          <a:xfrm>
            <a:off x="214200" y="1285920"/>
            <a:ext cx="4500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维生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357120" y="52308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维生素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2786040" y="407196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Administrator\AppData\Roaming\Tencent\Users\173692760\QQ\WinTemp\RichOle\E[]N([7W(882]122[PTAGW1.jpg"/>
          <p:cNvPicPr/>
          <p:nvPr/>
        </p:nvPicPr>
        <p:blipFill>
          <a:blip r:embed="rId1"/>
          <a:stretch/>
        </p:blipFill>
        <p:spPr>
          <a:xfrm>
            <a:off x="4700520" y="1214280"/>
            <a:ext cx="4229280" cy="261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Administrator\AppData\Roaming\Tencent\Users\173692760\QQ\WinTemp\RichOle\MYYV)W0BGST%OQCY3Y6WBNP.jpg"/>
          <p:cNvPicPr/>
          <p:nvPr/>
        </p:nvPicPr>
        <p:blipFill>
          <a:blip r:embed="rId2"/>
          <a:stretch/>
        </p:blipFill>
        <p:spPr>
          <a:xfrm>
            <a:off x="200160" y="1214280"/>
            <a:ext cx="42145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矿物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357120" y="51595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矿物质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9160" y="214308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食盐、海带、木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C:\Users\Administrator\AppData\Roaming\Tencent\Users\173692760\QQ\WinTemp\RichOle\BJK7}SBHCYH6B6VRQWV{7[R.jpg"/>
          <p:cNvPicPr/>
          <p:nvPr/>
        </p:nvPicPr>
        <p:blipFill>
          <a:blip r:embed="rId1"/>
          <a:stretch/>
        </p:blipFill>
        <p:spPr>
          <a:xfrm>
            <a:off x="214200" y="1214280"/>
            <a:ext cx="47865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357120" y="53737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水：人对水的需要仅次于氧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715000" y="15001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饮用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dministrator\AppData\Roaming\Tencent\Users\173692760\QQ\WinTemp\RichOle\2QXCI2)E`2(041CEX_NKVG0.jpg"/>
          <p:cNvPicPr/>
          <p:nvPr/>
        </p:nvPicPr>
        <p:blipFill>
          <a:blip r:embed="rId1"/>
          <a:stretch/>
        </p:blipFill>
        <p:spPr>
          <a:xfrm>
            <a:off x="214200" y="1214280"/>
            <a:ext cx="5214960" cy="3829320"/>
          </a:xfrm>
          <a:prstGeom prst="rect">
            <a:avLst/>
          </a:prstGeom>
          <a:ln w="0">
            <a:noFill/>
          </a:ln>
        </p:spPr>
      </p:pic>
      <p:sp>
        <p:nvSpPr>
          <p:cNvPr id="74" name="矩形 5"/>
          <p:cNvSpPr/>
          <p:nvPr/>
        </p:nvSpPr>
        <p:spPr>
          <a:xfrm>
            <a:off x="5857920" y="3286080"/>
            <a:ext cx="328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约占人体组成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142920" y="28584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线：各种营养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42920" y="1643040"/>
            <a:ext cx="414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白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糖类、脂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维生素、矿物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714920" y="1643040"/>
            <a:ext cx="442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能量的主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肌肉、内脏、血液的主要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节身体节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2000160" y="2000160"/>
            <a:ext cx="2714760" cy="228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0"/>
          <p:cNvSpPr/>
          <p:nvPr/>
        </p:nvSpPr>
        <p:spPr>
          <a:xfrm flipV="1">
            <a:off x="2928960" y="2000160"/>
            <a:ext cx="2000160" cy="1928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3"/>
          <p:cNvSpPr/>
          <p:nvPr/>
        </p:nvSpPr>
        <p:spPr>
          <a:xfrm>
            <a:off x="3857760" y="5715000"/>
            <a:ext cx="92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0T07:57:35Z</dcterms:modified>
  <cp:revision>128</cp:revision>
  <dc:subject/>
  <dc:title>幻灯片 1</dc:title>
</cp:coreProperties>
</file>