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489-2155-4F72-AC64-841B894D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A38-A606-4EEF-8EE8-E38F8739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518-C536-408B-AD90-186B974C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D4B-90FF-47D6-BAB7-8B730F3B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3D4E-7092-4624-8522-93EBA251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417E-1C91-4570-9FEF-27C0442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0085-DE35-4FE9-839A-7794D59F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20C2-11E4-4A75-9D1E-F0D9FE79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B7EA-B8A2-4C07-8D74-73A9FCED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39A1-58A2-4EBB-9C65-2C21C9D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1B43-9AEE-4AE1-9C24-D3D078ED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90C-3818-4BEA-A90F-10481E95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2035-A5AC-4EF1-877C-C262EA07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08D9-FDE3-4ACE-BC72-35E0A5F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A218-9B0E-4C39-99E9-681A2BC3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2FE4-651E-4405-AEAE-91467BF5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20F6-F9ED-47BA-95B3-A7982FAD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5C30-AECC-4EBA-942D-31E36381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51B3-3339-4CFD-B5C9-CDD4A87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3B31-7AEE-4982-BA2F-16183FD6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C9AA-8128-4262-87E7-D66E5840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0C8B-02A3-406E-9903-FDEDB652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E3C-953F-4A2E-95B3-B78F8F6B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1AEF-9D38-4CBA-B31A-EC9A9429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5515-A1B8-4295-837E-0A676727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FAA3-B28A-4D9A-9908-3995F2CC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C218-19FA-49CB-BB80-5766A20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D6F9-51E8-4B4F-A492-7796951F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957E-758F-4D32-9FB5-41480D71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78E3-4290-4D65-87DA-36AAA007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22A-933A-47EF-A3DA-78650F76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EC3-77B1-4F8E-B0B8-28BEBE17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C9E-3F9B-4A7A-AF53-232A5C6D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C72-043D-44B9-A8B9-B6A5C49D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A74-CA80-4796-8671-E12A71F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93A-4F52-451A-AF6A-0B3A8ED0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30C9-306D-4B12-92A1-A8DA9B05A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C43-A165-4824-8C67-EF95F5ED4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B4AA-3FC1-4389-893D-7CFA0E22EE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营养要均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1071720"/>
            <a:ext cx="4143240" cy="4643280"/>
          </a:xfrm>
          <a:prstGeom prst="rect">
            <a:avLst/>
          </a:prstGeom>
          <a:ln w="0">
            <a:noFill/>
          </a:ln>
        </p:spPr>
      </p:pic>
      <p:sp>
        <p:nvSpPr>
          <p:cNvPr id="197" name="矩形 9"/>
          <p:cNvSpPr/>
          <p:nvPr/>
        </p:nvSpPr>
        <p:spPr>
          <a:xfrm>
            <a:off x="4429080" y="5716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是高热量高脂肪，摄入脂肪过多，人就会发胖，因此只宜少量进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285840" y="1285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4071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14200" y="1071720"/>
            <a:ext cx="8715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荤素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粗细粮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每日吃适当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新鲜水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蔬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早吃好，午吃饱，晚吃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运动量比较大，需要多吃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糖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食物，补充足够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手指间有一些脱皮，需要多吃含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维生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0" y="777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膳食营养搭配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42920" y="571320"/>
            <a:ext cx="43578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，这些营养必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合理搭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才能保证我们正常生活和成长，这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均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357120" y="214200"/>
            <a:ext cx="40244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矩形 3"/>
          <p:cNvSpPr/>
          <p:nvPr/>
        </p:nvSpPr>
        <p:spPr>
          <a:xfrm>
            <a:off x="428760" y="5873760"/>
            <a:ext cx="40003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85840" y="1353960"/>
          <a:ext cx="8502480" cy="2860920"/>
        </p:xfrm>
        <a:graphic>
          <a:graphicData uri="http://schemas.openxmlformats.org/drawingml/2006/table">
            <a:tbl>
              <a:tblPr/>
              <a:tblGrid>
                <a:gridCol w="1111320"/>
                <a:gridCol w="4579920"/>
                <a:gridCol w="28112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该食谱的优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5"/>
          <p:cNvSpPr/>
          <p:nvPr/>
        </p:nvSpPr>
        <p:spPr>
          <a:xfrm>
            <a:off x="357120" y="4429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参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饭、面条、牛奶、面包、西红柿炒蛋、紫菜汤、牛肉、鸡肉、炒青菜、糖醋鱼、红烧肉、炒四季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是小小营养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5400720" y="214200"/>
            <a:ext cx="31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天的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46160" y="142920"/>
            <a:ext cx="86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有营养均衡，才能保证我们正常的生活和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类食物在均衡营养中的地位、比重是一样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手指脱皮、口腔溃疡时，需要多吃富含维生素的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60400" y="142812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50960" y="32140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785880" y="5083920"/>
            <a:ext cx="8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95280" y="3333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哪些做法利于我们保持长期均衡营养？请在括号里打“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吃爱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荤素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选零食时也要考虑营养丰富。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粮、细粮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量大时，适当多吃能提供能量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糖既好吃又提供能量，应该多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和水果天天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65240" y="2492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79640" y="371628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79640" y="19162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79640" y="306864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79640" y="573876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214200" y="357120"/>
            <a:ext cx="5000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奶类和奶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豆类和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虾类、蛋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、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谷物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4643280" y="35100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我们提供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持我们的生长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我们保持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"/>
          <p:cNvSpPr/>
          <p:nvPr/>
        </p:nvSpPr>
        <p:spPr>
          <a:xfrm>
            <a:off x="1785960" y="642960"/>
            <a:ext cx="2786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"/>
          <p:cNvSpPr/>
          <p:nvPr/>
        </p:nvSpPr>
        <p:spPr>
          <a:xfrm>
            <a:off x="3071880" y="1714680"/>
            <a:ext cx="1643040" cy="857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"/>
          <p:cNvSpPr/>
          <p:nvPr/>
        </p:nvSpPr>
        <p:spPr>
          <a:xfrm>
            <a:off x="3143160" y="2857680"/>
            <a:ext cx="1500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"/>
          <p:cNvSpPr/>
          <p:nvPr/>
        </p:nvSpPr>
        <p:spPr>
          <a:xfrm flipV="1">
            <a:off x="3143160" y="3142800"/>
            <a:ext cx="1500120" cy="785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"/>
          <p:cNvSpPr/>
          <p:nvPr/>
        </p:nvSpPr>
        <p:spPr>
          <a:xfrm>
            <a:off x="3143160" y="5072040"/>
            <a:ext cx="157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"/>
          <p:cNvSpPr/>
          <p:nvPr/>
        </p:nvSpPr>
        <p:spPr>
          <a:xfrm flipV="1">
            <a:off x="1785960" y="785520"/>
            <a:ext cx="2786040" cy="5357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2858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获取的营养越多越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Administrator\AppData\Roaming\Tencent\Users\173692760\QQ\WinTemp\RichOle\~QP759BCLZ]YBWEU(EENQZR.jpg"/>
          <p:cNvPicPr/>
          <p:nvPr/>
        </p:nvPicPr>
        <p:blipFill>
          <a:blip r:embed="rId1"/>
          <a:stretch/>
        </p:blipFill>
        <p:spPr>
          <a:xfrm>
            <a:off x="0" y="2714760"/>
            <a:ext cx="411012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YFXNLLZKN5`Y~$@%7QCRE5Y.jpg"/>
          <p:cNvPicPr/>
          <p:nvPr/>
        </p:nvPicPr>
        <p:blipFill>
          <a:blip r:embed="rId2"/>
          <a:stretch/>
        </p:blipFill>
        <p:spPr>
          <a:xfrm>
            <a:off x="4179960" y="2714760"/>
            <a:ext cx="4964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4190760" cy="2819160"/>
            <a:chOff x="0" y="0"/>
            <a:chExt cx="4190760" cy="281916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4190760" cy="2819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谷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玉米"/>
            <p:cNvPicPr/>
            <p:nvPr/>
          </p:nvPicPr>
          <p:blipFill>
            <a:blip r:embed="rId1"/>
            <a:stretch/>
          </p:blipFill>
          <p:spPr>
            <a:xfrm>
              <a:off x="1571400" y="1715040"/>
              <a:ext cx="10476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煮粉"/>
            <p:cNvPicPr/>
            <p:nvPr/>
          </p:nvPicPr>
          <p:blipFill>
            <a:blip r:embed="rId2"/>
            <a:stretch/>
          </p:blipFill>
          <p:spPr>
            <a:xfrm>
              <a:off x="2922840" y="1571040"/>
              <a:ext cx="1126080" cy="10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面"/>
            <p:cNvPicPr/>
            <p:nvPr/>
          </p:nvPicPr>
          <p:blipFill>
            <a:blip r:embed="rId3"/>
            <a:stretch/>
          </p:blipFill>
          <p:spPr>
            <a:xfrm>
              <a:off x="214200" y="1500120"/>
              <a:ext cx="114264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饭"/>
            <p:cNvPicPr/>
            <p:nvPr/>
          </p:nvPicPr>
          <p:blipFill>
            <a:blip r:embed="rId4"/>
            <a:stretch/>
          </p:blipFill>
          <p:spPr>
            <a:xfrm>
              <a:off x="214200" y="214560"/>
              <a:ext cx="122256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面包"/>
            <p:cNvPicPr/>
            <p:nvPr/>
          </p:nvPicPr>
          <p:blipFill>
            <a:blip r:embed="rId5"/>
            <a:stretch/>
          </p:blipFill>
          <p:spPr>
            <a:xfrm>
              <a:off x="2713680" y="214560"/>
              <a:ext cx="1309680" cy="104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9"/>
          <p:cNvSpPr/>
          <p:nvPr/>
        </p:nvSpPr>
        <p:spPr>
          <a:xfrm>
            <a:off x="3286080" y="4786200"/>
            <a:ext cx="257184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蛋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鱼"/>
          <p:cNvPicPr/>
          <p:nvPr/>
        </p:nvPicPr>
        <p:blipFill>
          <a:blip r:embed="rId6"/>
          <a:stretch/>
        </p:blipFill>
        <p:spPr>
          <a:xfrm>
            <a:off x="4276800" y="4929120"/>
            <a:ext cx="143820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肉"/>
          <p:cNvPicPr/>
          <p:nvPr/>
        </p:nvPicPr>
        <p:blipFill>
          <a:blip r:embed="rId7"/>
          <a:stretch/>
        </p:blipFill>
        <p:spPr>
          <a:xfrm>
            <a:off x="4286160" y="5786280"/>
            <a:ext cx="1500120" cy="928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5072040" y="0"/>
            <a:ext cx="4071600" cy="2857320"/>
            <a:chOff x="5072040" y="0"/>
            <a:chExt cx="4071600" cy="2857320"/>
          </a:xfrm>
        </p:grpSpPr>
        <p:sp>
          <p:nvSpPr>
            <p:cNvPr id="140" name="Rectangle 13"/>
            <p:cNvSpPr/>
            <p:nvPr/>
          </p:nvSpPr>
          <p:spPr>
            <a:xfrm>
              <a:off x="5072040" y="0"/>
              <a:ext cx="4071600" cy="285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蔬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水果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4" descr="橙"/>
            <p:cNvPicPr/>
            <p:nvPr/>
          </p:nvPicPr>
          <p:blipFill>
            <a:blip r:embed="rId8"/>
            <a:stretch/>
          </p:blipFill>
          <p:spPr>
            <a:xfrm>
              <a:off x="7714800" y="1785960"/>
              <a:ext cx="142884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5" descr="萝卜"/>
            <p:cNvPicPr/>
            <p:nvPr/>
          </p:nvPicPr>
          <p:blipFill>
            <a:blip r:embed="rId9"/>
            <a:stretch/>
          </p:blipFill>
          <p:spPr>
            <a:xfrm>
              <a:off x="7714800" y="0"/>
              <a:ext cx="142884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6" descr="白菜"/>
            <p:cNvPicPr/>
            <p:nvPr/>
          </p:nvPicPr>
          <p:blipFill>
            <a:blip r:embed="rId10"/>
            <a:stretch/>
          </p:blipFill>
          <p:spPr>
            <a:xfrm>
              <a:off x="5072040" y="0"/>
              <a:ext cx="14288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7" descr="苹果"/>
            <p:cNvPicPr/>
            <p:nvPr/>
          </p:nvPicPr>
          <p:blipFill>
            <a:blip r:embed="rId11"/>
            <a:stretch/>
          </p:blipFill>
          <p:spPr>
            <a:xfrm>
              <a:off x="5072040" y="1748520"/>
              <a:ext cx="1357200" cy="110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Rectangle 18"/>
          <p:cNvSpPr/>
          <p:nvPr/>
        </p:nvSpPr>
        <p:spPr>
          <a:xfrm>
            <a:off x="6000840" y="4786200"/>
            <a:ext cx="314316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奶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豆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图片1_副本"/>
          <p:cNvPicPr/>
          <p:nvPr/>
        </p:nvPicPr>
        <p:blipFill>
          <a:blip r:embed="rId12"/>
          <a:stretch/>
        </p:blipFill>
        <p:spPr>
          <a:xfrm>
            <a:off x="7467480" y="5181480"/>
            <a:ext cx="1447920" cy="139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0"/>
          <p:cNvSpPr/>
          <p:nvPr/>
        </p:nvSpPr>
        <p:spPr>
          <a:xfrm>
            <a:off x="0" y="306396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吃哪类食物？其它食物要不要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每种食物吃的数量是不是要一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1"/>
          <p:cNvGrpSpPr/>
          <p:nvPr/>
        </p:nvGrpSpPr>
        <p:grpSpPr>
          <a:xfrm>
            <a:off x="0" y="4800600"/>
            <a:ext cx="2971440" cy="2057400"/>
            <a:chOff x="0" y="4800600"/>
            <a:chExt cx="2971440" cy="2057400"/>
          </a:xfrm>
        </p:grpSpPr>
        <p:sp>
          <p:nvSpPr>
            <p:cNvPr id="149" name="Rectangle 22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23" descr="图片1_副本"/>
            <p:cNvPicPr/>
            <p:nvPr/>
          </p:nvPicPr>
          <p:blipFill>
            <a:blip r:embed="rId13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5" descr="图片1_副本"/>
            <p:cNvPicPr/>
            <p:nvPr/>
          </p:nvPicPr>
          <p:blipFill>
            <a:blip r:embed="rId14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26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7" descr="图片1_副本"/>
            <p:cNvPicPr/>
            <p:nvPr/>
          </p:nvPicPr>
          <p:blipFill>
            <a:blip r:embed="rId15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28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9" descr="图片1_副本"/>
            <p:cNvPicPr/>
            <p:nvPr/>
          </p:nvPicPr>
          <p:blipFill>
            <a:blip r:embed="rId16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30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31" descr="图片1_副本"/>
            <p:cNvPicPr/>
            <p:nvPr/>
          </p:nvPicPr>
          <p:blipFill>
            <a:blip r:embed="rId17"/>
            <a:stretch/>
          </p:blipFill>
          <p:spPr>
            <a:xfrm>
              <a:off x="123480" y="5143680"/>
              <a:ext cx="144756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5"/>
          <p:cNvSpPr/>
          <p:nvPr/>
        </p:nvSpPr>
        <p:spPr>
          <a:xfrm>
            <a:off x="5286240" y="5715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5286240" y="42861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7"/>
          <p:cNvSpPr/>
          <p:nvPr/>
        </p:nvSpPr>
        <p:spPr>
          <a:xfrm>
            <a:off x="5286240" y="278604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8"/>
          <p:cNvSpPr/>
          <p:nvPr/>
        </p:nvSpPr>
        <p:spPr>
          <a:xfrm>
            <a:off x="5286240" y="1500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9"/>
          <p:cNvSpPr/>
          <p:nvPr/>
        </p:nvSpPr>
        <p:spPr>
          <a:xfrm>
            <a:off x="5286240" y="357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5715000" y="571680"/>
            <a:ext cx="3357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你能从中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有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养均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的秘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357800" y="214200"/>
            <a:ext cx="457200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:\Users\Administrator\AppData\Roaming\Tencent\Users\173692760\QQ\WinTemp\RichOle\]9QPKG@C%H~EZYZZ1I6{8OL.jpg"/>
          <p:cNvPicPr/>
          <p:nvPr/>
        </p:nvPicPr>
        <p:blipFill>
          <a:blip r:embed="rId3"/>
          <a:stretch/>
        </p:blipFill>
        <p:spPr>
          <a:xfrm>
            <a:off x="4357800" y="2643120"/>
            <a:ext cx="4572000" cy="1214640"/>
          </a:xfrm>
          <a:prstGeom prst="rect">
            <a:avLst/>
          </a:prstGeom>
          <a:ln w="0">
            <a:noFill/>
          </a:ln>
        </p:spPr>
      </p:pic>
      <p:sp>
        <p:nvSpPr>
          <p:cNvPr id="172" name="矩形 6"/>
          <p:cNvSpPr/>
          <p:nvPr/>
        </p:nvSpPr>
        <p:spPr>
          <a:xfrm>
            <a:off x="500040" y="5786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Administrator\AppData\Roaming\Tencent\Users\173692760\QQ\WinTemp\RichOle\B9%CI6M5$M50~D32CVOZK~H.jpg"/>
          <p:cNvPicPr/>
          <p:nvPr/>
        </p:nvPicPr>
        <p:blipFill>
          <a:blip r:embed="rId4"/>
          <a:stretch/>
        </p:blipFill>
        <p:spPr>
          <a:xfrm>
            <a:off x="0" y="0"/>
            <a:ext cx="4143240" cy="4357800"/>
          </a:xfrm>
          <a:prstGeom prst="rect">
            <a:avLst/>
          </a:prstGeom>
          <a:ln w="0">
            <a:noFill/>
          </a:ln>
        </p:spPr>
      </p:pic>
      <p:sp>
        <p:nvSpPr>
          <p:cNvPr id="174" name="矩形 9"/>
          <p:cNvSpPr/>
          <p:nvPr/>
        </p:nvSpPr>
        <p:spPr>
          <a:xfrm>
            <a:off x="4429080" y="42861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含有碳水混合物，提供我们每天所需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4357800"/>
            <a:ext cx="4143240" cy="1357200"/>
          </a:xfrm>
          <a:prstGeom prst="rect">
            <a:avLst/>
          </a:prstGeom>
          <a:ln w="0">
            <a:noFill/>
          </a:ln>
        </p:spPr>
      </p:pic>
      <p:sp>
        <p:nvSpPr>
          <p:cNvPr id="177" name="矩形 9"/>
          <p:cNvSpPr/>
          <p:nvPr/>
        </p:nvSpPr>
        <p:spPr>
          <a:xfrm>
            <a:off x="4500720" y="4960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提供纤维，使我们健康成长，减少疾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C:\Users\Administrator\AppData\Roaming\Tencent\Users\173692760\QQ\WinTemp\RichOle\76T6@6412BB@1$`6B@`%`D7.jpg"/>
          <p:cNvPicPr/>
          <p:nvPr/>
        </p:nvPicPr>
        <p:blipFill>
          <a:blip r:embed="rId4"/>
          <a:stretch/>
        </p:blipFill>
        <p:spPr>
          <a:xfrm>
            <a:off x="4357800" y="142920"/>
            <a:ext cx="4643280" cy="157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Users\Administrator\AppData\Roaming\Tencent\Users\173692760\QQ\WinTemp\RichOle\O(A5)_~TV)0PR@X[9`JDF_K.jpg"/>
          <p:cNvPicPr/>
          <p:nvPr/>
        </p:nvPicPr>
        <p:blipFill>
          <a:blip r:embed="rId5"/>
          <a:stretch/>
        </p:blipFill>
        <p:spPr>
          <a:xfrm>
            <a:off x="4357800" y="3786120"/>
            <a:ext cx="4643280" cy="10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6"/>
          <a:stretch/>
        </p:blipFill>
        <p:spPr>
          <a:xfrm>
            <a:off x="4357800" y="1857240"/>
            <a:ext cx="4643280" cy="1785960"/>
          </a:xfrm>
          <a:prstGeom prst="rect">
            <a:avLst/>
          </a:prstGeom>
          <a:ln w="0">
            <a:noFill/>
          </a:ln>
        </p:spPr>
      </p:pic>
      <p:sp>
        <p:nvSpPr>
          <p:cNvPr id="182" name="矩形 6"/>
          <p:cNvSpPr/>
          <p:nvPr/>
        </p:nvSpPr>
        <p:spPr>
          <a:xfrm>
            <a:off x="14292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3071880"/>
            <a:ext cx="3929040" cy="2643120"/>
          </a:xfrm>
          <a:prstGeom prst="rect">
            <a:avLst/>
          </a:prstGeom>
          <a:ln w="0">
            <a:noFill/>
          </a:ln>
        </p:spPr>
      </p:pic>
      <p:sp>
        <p:nvSpPr>
          <p:cNvPr id="185" name="矩形 9"/>
          <p:cNvSpPr/>
          <p:nvPr/>
        </p:nvSpPr>
        <p:spPr>
          <a:xfrm>
            <a:off x="142920" y="4071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2000160"/>
          </a:xfrm>
          <a:prstGeom prst="rect">
            <a:avLst/>
          </a:prstGeom>
          <a:ln w="0">
            <a:noFill/>
          </a:ln>
        </p:spPr>
      </p:pic>
      <p:sp>
        <p:nvSpPr>
          <p:cNvPr id="187" name="矩形 6"/>
          <p:cNvSpPr/>
          <p:nvPr/>
        </p:nvSpPr>
        <p:spPr>
          <a:xfrm>
            <a:off x="214200" y="31431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图片1_副本"/>
          <p:cNvPicPr/>
          <p:nvPr/>
        </p:nvPicPr>
        <p:blipFill>
          <a:blip r:embed="rId4"/>
          <a:stretch/>
        </p:blipFill>
        <p:spPr>
          <a:xfrm>
            <a:off x="5000760" y="1857240"/>
            <a:ext cx="4143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2071800"/>
            <a:ext cx="4143240" cy="3643200"/>
          </a:xfrm>
          <a:prstGeom prst="rect">
            <a:avLst/>
          </a:prstGeom>
          <a:ln w="0">
            <a:noFill/>
          </a:ln>
        </p:spPr>
      </p:pic>
      <p:sp>
        <p:nvSpPr>
          <p:cNvPr id="191" name="矩形 9"/>
          <p:cNvSpPr/>
          <p:nvPr/>
        </p:nvSpPr>
        <p:spPr>
          <a:xfrm>
            <a:off x="71280" y="307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1071720"/>
          </a:xfrm>
          <a:prstGeom prst="rect">
            <a:avLst/>
          </a:prstGeom>
          <a:ln w="0">
            <a:noFill/>
          </a:ln>
        </p:spPr>
      </p:pic>
      <p:sp>
        <p:nvSpPr>
          <p:cNvPr id="193" name="矩形 6"/>
          <p:cNvSpPr/>
          <p:nvPr/>
        </p:nvSpPr>
        <p:spPr>
          <a:xfrm>
            <a:off x="0" y="23572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图片1_副本"/>
          <p:cNvPicPr/>
          <p:nvPr/>
        </p:nvPicPr>
        <p:blipFill>
          <a:blip r:embed="rId4"/>
          <a:stretch/>
        </p:blipFill>
        <p:spPr>
          <a:xfrm>
            <a:off x="4643280" y="642960"/>
            <a:ext cx="4143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08T00:20:13Z</dcterms:modified>
  <cp:revision>142</cp:revision>
  <dc:subject/>
  <dc:title>幻灯片 1</dc:title>
</cp:coreProperties>
</file>