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20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4BC4-F6AE-4A40-B574-EE93573C7EC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3007-44E9-4E2A-9029-459016D4B9F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E014-96E0-4953-B7A4-5FF384A7A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DF5A-E389-4A30-800D-D33F2CE0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53C9-D4E5-4923-B1C7-4E4D358C3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8C94-1CE4-4AB2-BF11-2883386A2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3FEF-01EF-47EE-8234-7B067208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7681-D1C7-426D-BAB4-E1625970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C919-EC80-4A04-820D-843B75D5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F704-36D4-4E25-AF28-BD3CC884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80F8-917E-4B9F-A4A1-EC965294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D915-7445-438D-A135-ED0ED852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FE74-D0F5-4E32-94CD-EC2D47A1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AE57-9FDA-4418-8832-439926A7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8FC4-3C84-442A-8323-936AE9D94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三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763640" y="48690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莲都区天宁小学    陈建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食品包装上的信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0" descr="3708d"/>
          <p:cNvPicPr/>
          <p:nvPr/>
        </p:nvPicPr>
        <p:blipFill>
          <a:blip r:embed="rId1"/>
          <a:stretch/>
        </p:blipFill>
        <p:spPr>
          <a:xfrm>
            <a:off x="393840" y="260280"/>
            <a:ext cx="8393040" cy="585468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1"/>
          <p:cNvSpPr/>
          <p:nvPr/>
        </p:nvSpPr>
        <p:spPr>
          <a:xfrm>
            <a:off x="5143680" y="2286000"/>
            <a:ext cx="975960" cy="341280"/>
          </a:xfrm>
          <a:prstGeom prst="leftArrow">
            <a:avLst>
              <a:gd name="adj1" fmla="val 50000"/>
              <a:gd name="adj2" fmla="val 7149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6750720" y="1571760"/>
            <a:ext cx="1400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厂家地址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电话等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业信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2"/>
          <p:cNvSpPr/>
          <p:nvPr/>
        </p:nvSpPr>
        <p:spPr>
          <a:xfrm>
            <a:off x="8458200" y="6165720"/>
            <a:ext cx="685800" cy="6922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04">
                <a:moveTo>
                  <a:pt x="0" y="0"/>
                </a:moveTo>
                <a:lnTo>
                  <a:pt x="21600" y="0"/>
                </a:lnTo>
                <a:lnTo>
                  <a:pt x="21600" y="21804"/>
                </a:lnTo>
                <a:lnTo>
                  <a:pt x="0" y="21804"/>
                </a:lnTo>
                <a:close/>
              </a:path>
              <a:path fill="lightenLess" w="21600" h="21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4">
                <a:moveTo>
                  <a:pt x="21600" y="0"/>
                </a:moveTo>
                <a:lnTo>
                  <a:pt x="21600" y="21804"/>
                </a:lnTo>
                <a:lnTo>
                  <a:pt x="20200" y="20404"/>
                </a:lnTo>
                <a:lnTo>
                  <a:pt x="20200" y="1400"/>
                </a:lnTo>
                <a:close/>
              </a:path>
              <a:path fill="darkenLess" w="21600" h="21804">
                <a:moveTo>
                  <a:pt x="21600" y="21804"/>
                </a:moveTo>
                <a:lnTo>
                  <a:pt x="0" y="21804"/>
                </a:lnTo>
                <a:lnTo>
                  <a:pt x="1400" y="20404"/>
                </a:lnTo>
                <a:lnTo>
                  <a:pt x="20200" y="20404"/>
                </a:lnTo>
                <a:close/>
              </a:path>
              <a:path fill="lighten" w="21600" h="21804">
                <a:moveTo>
                  <a:pt x="0" y="21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4"/>
                </a:lnTo>
                <a:close/>
              </a:path>
              <a:path fill="darken" w="21600" h="21804">
                <a:moveTo>
                  <a:pt x="3794" y="10902"/>
                </a:moveTo>
                <a:lnTo>
                  <a:pt x="17806" y="3896"/>
                </a:lnTo>
                <a:lnTo>
                  <a:pt x="17806" y="179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3" descr="3709d"/>
          <p:cNvPicPr/>
          <p:nvPr/>
        </p:nvPicPr>
        <p:blipFill>
          <a:blip r:embed="rId1"/>
          <a:stretch/>
        </p:blipFill>
        <p:spPr>
          <a:xfrm>
            <a:off x="324000" y="189000"/>
            <a:ext cx="8177040" cy="60292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4"/>
          <p:cNvSpPr/>
          <p:nvPr/>
        </p:nvSpPr>
        <p:spPr>
          <a:xfrm>
            <a:off x="5922360" y="23572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h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贮存条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5"/>
          <p:cNvSpPr/>
          <p:nvPr/>
        </p:nvSpPr>
        <p:spPr>
          <a:xfrm>
            <a:off x="4429080" y="3214800"/>
            <a:ext cx="934920" cy="288720"/>
          </a:xfrm>
          <a:prstGeom prst="leftArrow">
            <a:avLst>
              <a:gd name="adj1" fmla="val 50000"/>
              <a:gd name="adj2" fmla="val 809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2"/>
          <p:cNvSpPr/>
          <p:nvPr/>
        </p:nvSpPr>
        <p:spPr>
          <a:xfrm>
            <a:off x="8458200" y="6165720"/>
            <a:ext cx="685800" cy="6922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04">
                <a:moveTo>
                  <a:pt x="0" y="0"/>
                </a:moveTo>
                <a:lnTo>
                  <a:pt x="21600" y="0"/>
                </a:lnTo>
                <a:lnTo>
                  <a:pt x="21600" y="21804"/>
                </a:lnTo>
                <a:lnTo>
                  <a:pt x="0" y="21804"/>
                </a:lnTo>
                <a:close/>
              </a:path>
              <a:path fill="lightenLess" w="21600" h="21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4">
                <a:moveTo>
                  <a:pt x="21600" y="0"/>
                </a:moveTo>
                <a:lnTo>
                  <a:pt x="21600" y="21804"/>
                </a:lnTo>
                <a:lnTo>
                  <a:pt x="20200" y="20404"/>
                </a:lnTo>
                <a:lnTo>
                  <a:pt x="20200" y="1400"/>
                </a:lnTo>
                <a:close/>
              </a:path>
              <a:path fill="darkenLess" w="21600" h="21804">
                <a:moveTo>
                  <a:pt x="21600" y="21804"/>
                </a:moveTo>
                <a:lnTo>
                  <a:pt x="0" y="21804"/>
                </a:lnTo>
                <a:lnTo>
                  <a:pt x="1400" y="20404"/>
                </a:lnTo>
                <a:lnTo>
                  <a:pt x="20200" y="20404"/>
                </a:lnTo>
                <a:close/>
              </a:path>
              <a:path fill="lighten" w="21600" h="21804">
                <a:moveTo>
                  <a:pt x="0" y="21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4"/>
                </a:lnTo>
                <a:close/>
              </a:path>
              <a:path fill="darken" w="21600" h="21804">
                <a:moveTo>
                  <a:pt x="3794" y="10902"/>
                </a:moveTo>
                <a:lnTo>
                  <a:pt x="17806" y="3896"/>
                </a:lnTo>
                <a:lnTo>
                  <a:pt x="17806" y="179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0" descr="3707d"/>
          <p:cNvPicPr/>
          <p:nvPr/>
        </p:nvPicPr>
        <p:blipFill>
          <a:blip r:embed="rId1"/>
          <a:stretch/>
        </p:blipFill>
        <p:spPr>
          <a:xfrm>
            <a:off x="179280" y="333360"/>
            <a:ext cx="8194680" cy="56674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1"/>
          <p:cNvSpPr/>
          <p:nvPr/>
        </p:nvSpPr>
        <p:spPr>
          <a:xfrm>
            <a:off x="1143000" y="37274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条形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2"/>
          <p:cNvSpPr/>
          <p:nvPr/>
        </p:nvSpPr>
        <p:spPr>
          <a:xfrm>
            <a:off x="3143160" y="3929040"/>
            <a:ext cx="1081080" cy="287280"/>
          </a:xfrm>
          <a:prstGeom prst="rightArrow">
            <a:avLst>
              <a:gd name="adj1" fmla="val 50000"/>
              <a:gd name="adj2" fmla="val 9407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8458200" y="6165720"/>
            <a:ext cx="685800" cy="6922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04">
                <a:moveTo>
                  <a:pt x="0" y="0"/>
                </a:moveTo>
                <a:lnTo>
                  <a:pt x="21600" y="0"/>
                </a:lnTo>
                <a:lnTo>
                  <a:pt x="21600" y="21804"/>
                </a:lnTo>
                <a:lnTo>
                  <a:pt x="0" y="21804"/>
                </a:lnTo>
                <a:close/>
              </a:path>
              <a:path fill="lightenLess" w="21600" h="21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4">
                <a:moveTo>
                  <a:pt x="21600" y="0"/>
                </a:moveTo>
                <a:lnTo>
                  <a:pt x="21600" y="21804"/>
                </a:lnTo>
                <a:lnTo>
                  <a:pt x="20200" y="20404"/>
                </a:lnTo>
                <a:lnTo>
                  <a:pt x="20200" y="1400"/>
                </a:lnTo>
                <a:close/>
              </a:path>
              <a:path fill="darkenLess" w="21600" h="21804">
                <a:moveTo>
                  <a:pt x="21600" y="21804"/>
                </a:moveTo>
                <a:lnTo>
                  <a:pt x="0" y="21804"/>
                </a:lnTo>
                <a:lnTo>
                  <a:pt x="1400" y="20404"/>
                </a:lnTo>
                <a:lnTo>
                  <a:pt x="20200" y="20404"/>
                </a:lnTo>
                <a:close/>
              </a:path>
              <a:path fill="lighten" w="21600" h="21804">
                <a:moveTo>
                  <a:pt x="0" y="21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4"/>
                </a:lnTo>
                <a:close/>
              </a:path>
              <a:path fill="darken" w="21600" h="21804">
                <a:moveTo>
                  <a:pt x="3794" y="10902"/>
                </a:moveTo>
                <a:lnTo>
                  <a:pt x="17806" y="3896"/>
                </a:lnTo>
                <a:lnTo>
                  <a:pt x="17806" y="179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6" descr="P1010159"/>
          <p:cNvPicPr/>
          <p:nvPr/>
        </p:nvPicPr>
        <p:blipFill>
          <a:blip r:embed="rId1"/>
          <a:stretch/>
        </p:blipFill>
        <p:spPr>
          <a:xfrm>
            <a:off x="500040" y="571680"/>
            <a:ext cx="7967520" cy="5738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4356000" y="3573360"/>
            <a:ext cx="35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质量安全标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2124000" y="3716280"/>
            <a:ext cx="1944720" cy="486000"/>
          </a:xfrm>
          <a:prstGeom prst="leftArrow">
            <a:avLst>
              <a:gd name="adj1" fmla="val 50000"/>
              <a:gd name="adj2" fmla="val 10003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2"/>
          <p:cNvSpPr/>
          <p:nvPr/>
        </p:nvSpPr>
        <p:spPr>
          <a:xfrm>
            <a:off x="8458200" y="6165720"/>
            <a:ext cx="685800" cy="6922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04">
                <a:moveTo>
                  <a:pt x="0" y="0"/>
                </a:moveTo>
                <a:lnTo>
                  <a:pt x="21600" y="0"/>
                </a:lnTo>
                <a:lnTo>
                  <a:pt x="21600" y="21804"/>
                </a:lnTo>
                <a:lnTo>
                  <a:pt x="0" y="21804"/>
                </a:lnTo>
                <a:close/>
              </a:path>
              <a:path fill="lightenLess" w="21600" h="21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4">
                <a:moveTo>
                  <a:pt x="21600" y="0"/>
                </a:moveTo>
                <a:lnTo>
                  <a:pt x="21600" y="21804"/>
                </a:lnTo>
                <a:lnTo>
                  <a:pt x="20200" y="20404"/>
                </a:lnTo>
                <a:lnTo>
                  <a:pt x="20200" y="1400"/>
                </a:lnTo>
                <a:close/>
              </a:path>
              <a:path fill="darkenLess" w="21600" h="21804">
                <a:moveTo>
                  <a:pt x="21600" y="21804"/>
                </a:moveTo>
                <a:lnTo>
                  <a:pt x="0" y="21804"/>
                </a:lnTo>
                <a:lnTo>
                  <a:pt x="1400" y="20404"/>
                </a:lnTo>
                <a:lnTo>
                  <a:pt x="20200" y="20404"/>
                </a:lnTo>
                <a:close/>
              </a:path>
              <a:path fill="lighten" w="21600" h="21804">
                <a:moveTo>
                  <a:pt x="0" y="21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4"/>
                </a:lnTo>
                <a:close/>
              </a:path>
              <a:path fill="darken" w="21600" h="21804">
                <a:moveTo>
                  <a:pt x="3794" y="10902"/>
                </a:moveTo>
                <a:lnTo>
                  <a:pt x="17806" y="3896"/>
                </a:lnTo>
                <a:lnTo>
                  <a:pt x="17806" y="179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品包装上的有哪些信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0" y="1052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从包装袋（盒）中获得的信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357120" y="3149640"/>
            <a:ext cx="8501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食品名称、配料、净含量、厂名、厂家地址、生产日期、保质期限、贮存指南和产品标准号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内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照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食品标签通用标准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规定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质量合格的食品必须标识齐全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3"/>
          <p:cNvSpPr/>
          <p:nvPr/>
        </p:nvSpPr>
        <p:spPr>
          <a:xfrm>
            <a:off x="0" y="857160"/>
            <a:ext cx="6386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调查了解食品的配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7" descr="C:\Users\Administrator\AppData\Roaming\Tencent\Users\173692760\QQ\WinTemp\RichOle\DU22UB]LWXSK~(38FWBIU4N.jpg"/>
          <p:cNvPicPr/>
          <p:nvPr/>
        </p:nvPicPr>
        <p:blipFill>
          <a:blip r:embed="rId1"/>
          <a:stretch/>
        </p:blipFill>
        <p:spPr>
          <a:xfrm>
            <a:off x="0" y="1500120"/>
            <a:ext cx="5072040" cy="2038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8" descr="C:\Users\Administrator\AppData\Roaming\Tencent\Users\173692760\QQ\WinTemp\RichOle\XWGHTWE[$%}ZR~AFR_I_NKG.jpg"/>
          <p:cNvPicPr/>
          <p:nvPr/>
        </p:nvPicPr>
        <p:blipFill>
          <a:blip r:embed="rId2"/>
          <a:stretch/>
        </p:blipFill>
        <p:spPr>
          <a:xfrm>
            <a:off x="214200" y="3714840"/>
            <a:ext cx="4714920" cy="2955960"/>
          </a:xfrm>
          <a:prstGeom prst="rect">
            <a:avLst/>
          </a:prstGeom>
          <a:ln w="0">
            <a:noFill/>
          </a:ln>
        </p:spPr>
      </p:pic>
      <p:sp>
        <p:nvSpPr>
          <p:cNvPr id="115" name="矩形 6"/>
          <p:cNvSpPr/>
          <p:nvPr/>
        </p:nvSpPr>
        <p:spPr>
          <a:xfrm>
            <a:off x="0" y="1000080"/>
            <a:ext cx="492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牛奶饼干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7"/>
          <p:cNvSpPr/>
          <p:nvPr/>
        </p:nvSpPr>
        <p:spPr>
          <a:xfrm>
            <a:off x="5357880" y="1011240"/>
            <a:ext cx="3643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配料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麦粉、白砂糖、精炼植物油、转化糖浆、全脂奶粉、淀粉、膨松剂、食盐、食用香精、乳化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调查了解食品的配料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牛奶饼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7"/>
          <p:cNvSpPr/>
          <p:nvPr/>
        </p:nvSpPr>
        <p:spPr>
          <a:xfrm>
            <a:off x="214200" y="609480"/>
            <a:ext cx="35719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麦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白砂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精炼植物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转化糖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全脂奶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淀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膨松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食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用香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乳化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3"/>
          <p:cNvSpPr/>
          <p:nvPr/>
        </p:nvSpPr>
        <p:spPr>
          <a:xfrm>
            <a:off x="2214720" y="642960"/>
            <a:ext cx="692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Arial"/>
              </a:rPr>
              <a:t>饼干的主要原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4"/>
          <p:cNvSpPr/>
          <p:nvPr/>
        </p:nvSpPr>
        <p:spPr>
          <a:xfrm>
            <a:off x="2214720" y="1292400"/>
            <a:ext cx="692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Arial"/>
              </a:rPr>
              <a:t>增加饼干的口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5"/>
          <p:cNvSpPr/>
          <p:nvPr/>
        </p:nvSpPr>
        <p:spPr>
          <a:xfrm>
            <a:off x="3071880" y="1857240"/>
            <a:ext cx="607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Arial"/>
              </a:rPr>
              <a:t>使饼干酥脆有光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6"/>
          <p:cNvSpPr/>
          <p:nvPr/>
        </p:nvSpPr>
        <p:spPr>
          <a:xfrm>
            <a:off x="2571840" y="3078000"/>
            <a:ext cx="657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Arial"/>
              </a:rPr>
              <a:t>主要原料，起增香作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7"/>
          <p:cNvSpPr/>
          <p:nvPr/>
        </p:nvSpPr>
        <p:spPr>
          <a:xfrm>
            <a:off x="1643040" y="3714840"/>
            <a:ext cx="750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Arial"/>
              </a:rPr>
              <a:t>起调合作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8"/>
          <p:cNvSpPr/>
          <p:nvPr/>
        </p:nvSpPr>
        <p:spPr>
          <a:xfrm>
            <a:off x="1714680" y="4857840"/>
            <a:ext cx="74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Arial"/>
              </a:rPr>
              <a:t>起着味作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调查了解食品的配料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牛奶饼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7"/>
          <p:cNvSpPr/>
          <p:nvPr/>
        </p:nvSpPr>
        <p:spPr>
          <a:xfrm>
            <a:off x="5572080" y="609480"/>
            <a:ext cx="35719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麦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白砂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精炼植物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转化糖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全脂奶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淀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膨松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食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用香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乳化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3"/>
          <p:cNvSpPr/>
          <p:nvPr/>
        </p:nvSpPr>
        <p:spPr>
          <a:xfrm>
            <a:off x="500040" y="11430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品添加剂：用于改善食品品质、延长食品保存期、便于食品加工和增加食品营养成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调查了解食品的配料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牛奶饼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7"/>
          <p:cNvSpPr/>
          <p:nvPr/>
        </p:nvSpPr>
        <p:spPr>
          <a:xfrm>
            <a:off x="5572080" y="609480"/>
            <a:ext cx="35719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麦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白砂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精炼植物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转化糖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全脂奶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淀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膨松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食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用香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乳化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14"/>
          <p:cNvSpPr/>
          <p:nvPr/>
        </p:nvSpPr>
        <p:spPr>
          <a:xfrm flipV="1">
            <a:off x="3000240" y="2857320"/>
            <a:ext cx="2643480" cy="285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16"/>
          <p:cNvSpPr/>
          <p:nvPr/>
        </p:nvSpPr>
        <p:spPr>
          <a:xfrm>
            <a:off x="3929040" y="2143080"/>
            <a:ext cx="1643040" cy="2357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17"/>
          <p:cNvSpPr/>
          <p:nvPr/>
        </p:nvSpPr>
        <p:spPr>
          <a:xfrm>
            <a:off x="3000240" y="5357880"/>
            <a:ext cx="2714760" cy="500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18"/>
          <p:cNvSpPr/>
          <p:nvPr/>
        </p:nvSpPr>
        <p:spPr>
          <a:xfrm>
            <a:off x="3928320" y="4214880"/>
            <a:ext cx="1785960" cy="2357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8"/>
          <p:cNvSpPr/>
          <p:nvPr/>
        </p:nvSpPr>
        <p:spPr>
          <a:xfrm>
            <a:off x="928800" y="178596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使食品更松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9"/>
          <p:cNvSpPr/>
          <p:nvPr/>
        </p:nvSpPr>
        <p:spPr>
          <a:xfrm>
            <a:off x="928800" y="278604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增加甜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0"/>
          <p:cNvSpPr/>
          <p:nvPr/>
        </p:nvSpPr>
        <p:spPr>
          <a:xfrm>
            <a:off x="928800" y="385776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使水和油混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1"/>
          <p:cNvSpPr/>
          <p:nvPr/>
        </p:nvSpPr>
        <p:spPr>
          <a:xfrm>
            <a:off x="928800" y="500076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增加香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调查了解食品的配料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牛奶饼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7"/>
          <p:cNvSpPr/>
          <p:nvPr/>
        </p:nvSpPr>
        <p:spPr>
          <a:xfrm>
            <a:off x="5572080" y="609480"/>
            <a:ext cx="35719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麦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白砂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精炼植物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转化糖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全脂奶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淀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膨松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食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用香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乳化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3"/>
          <p:cNvSpPr/>
          <p:nvPr/>
        </p:nvSpPr>
        <p:spPr>
          <a:xfrm>
            <a:off x="500040" y="11430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品添加剂：用于改善食品品质、延长食品保存期、便于食品加工和增加食品营养成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" descr=""/>
          <p:cNvPicPr/>
          <p:nvPr/>
        </p:nvPicPr>
        <p:blipFill>
          <a:blip r:embed="rId1"/>
          <a:stretch/>
        </p:blipFill>
        <p:spPr>
          <a:xfrm>
            <a:off x="142920" y="4714920"/>
            <a:ext cx="1285920" cy="1785960"/>
          </a:xfrm>
          <a:prstGeom prst="rect">
            <a:avLst/>
          </a:prstGeom>
          <a:ln w="0">
            <a:noFill/>
          </a:ln>
        </p:spPr>
      </p:pic>
      <p:sp>
        <p:nvSpPr>
          <p:cNvPr id="142" name="矩形 27"/>
          <p:cNvSpPr/>
          <p:nvPr/>
        </p:nvSpPr>
        <p:spPr>
          <a:xfrm>
            <a:off x="1785960" y="4500720"/>
            <a:ext cx="285732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品添加剂过多对人体有害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6"/>
          <p:cNvSpPr/>
          <p:nvPr/>
        </p:nvSpPr>
        <p:spPr>
          <a:xfrm>
            <a:off x="0" y="30312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要想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快速、全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了解食物的相关信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其中比较好的方法就是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观察食品包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C:\Users\Administrator\AppData\Roaming\Tencent\Users\173692760\QQ\WinTemp\RichOle\ULPE%9HO9A2YCLNZ3EG4EIG.jpg"/>
          <p:cNvPicPr/>
          <p:nvPr/>
        </p:nvPicPr>
        <p:blipFill>
          <a:blip r:embed="rId1"/>
          <a:stretch/>
        </p:blipFill>
        <p:spPr>
          <a:xfrm>
            <a:off x="5715000" y="3500280"/>
            <a:ext cx="2674800" cy="1928880"/>
          </a:xfrm>
          <a:prstGeom prst="rect">
            <a:avLst/>
          </a:prstGeom>
          <a:ln w="0">
            <a:noFill/>
          </a:ln>
        </p:spPr>
      </p:pic>
      <p:sp>
        <p:nvSpPr>
          <p:cNvPr id="53" name="矩形 6"/>
          <p:cNvSpPr/>
          <p:nvPr/>
        </p:nvSpPr>
        <p:spPr>
          <a:xfrm>
            <a:off x="0" y="40006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买食品时会看包装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有没有仔细看过食品包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比较几种食品的保质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33"/>
          <p:cNvPicPr/>
          <p:nvPr/>
        </p:nvPicPr>
        <p:blipFill>
          <a:blip r:embed="rId1"/>
          <a:stretch/>
        </p:blipFill>
        <p:spPr>
          <a:xfrm>
            <a:off x="0" y="1571760"/>
            <a:ext cx="2928960" cy="2630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" descr="2"/>
          <p:cNvPicPr/>
          <p:nvPr/>
        </p:nvPicPr>
        <p:blipFill>
          <a:blip r:embed="rId2"/>
          <a:stretch/>
        </p:blipFill>
        <p:spPr>
          <a:xfrm>
            <a:off x="3071880" y="1571760"/>
            <a:ext cx="2995560" cy="2643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4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6215040" y="1571760"/>
            <a:ext cx="2928960" cy="2571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4" descr="3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7037280" y="4429080"/>
            <a:ext cx="2106720" cy="2428920"/>
          </a:xfrm>
          <a:prstGeom prst="rect">
            <a:avLst/>
          </a:prstGeom>
          <a:ln w="0">
            <a:noFill/>
          </a:ln>
        </p:spPr>
      </p:pic>
      <p:sp>
        <p:nvSpPr>
          <p:cNvPr id="148" name="矩形 9"/>
          <p:cNvSpPr/>
          <p:nvPr/>
        </p:nvSpPr>
        <p:spPr>
          <a:xfrm>
            <a:off x="409320" y="857160"/>
            <a:ext cx="26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光明优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-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0"/>
          <p:cNvSpPr/>
          <p:nvPr/>
        </p:nvSpPr>
        <p:spPr>
          <a:xfrm>
            <a:off x="2571840" y="428616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蒙牛特仑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1"/>
          <p:cNvSpPr/>
          <p:nvPr/>
        </p:nvSpPr>
        <p:spPr>
          <a:xfrm>
            <a:off x="6224040" y="857160"/>
            <a:ext cx="251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蒙牛酸奶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2"/>
          <p:cNvSpPr/>
          <p:nvPr/>
        </p:nvSpPr>
        <p:spPr>
          <a:xfrm>
            <a:off x="2786040" y="550080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旺仔牛奶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比较几种食品的保质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6"/>
          <p:cNvSpPr/>
          <p:nvPr/>
        </p:nvSpPr>
        <p:spPr>
          <a:xfrm>
            <a:off x="357120" y="928800"/>
            <a:ext cx="76438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影响保质期长短的因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食品的包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保存条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食品本身的特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食品的配料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2"/>
          <p:cNvSpPr/>
          <p:nvPr/>
        </p:nvSpPr>
        <p:spPr>
          <a:xfrm>
            <a:off x="285840" y="50004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我们通过阅读食品包装，了解食品的原料组成、营养成分、保存方法、保质期后，我们的饮食就不再是盲目的，包装上的信息为我们科学均衡营养提供了帮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图片 7" descr="QQ图片20130520234643.jpg"/>
          <p:cNvPicPr/>
          <p:nvPr/>
        </p:nvPicPr>
        <p:blipFill>
          <a:blip r:embed="rId1"/>
          <a:stretch/>
        </p:blipFill>
        <p:spPr>
          <a:xfrm>
            <a:off x="2500200" y="3286080"/>
            <a:ext cx="41896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250920" y="910080"/>
            <a:ext cx="8497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判断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食品包装上的信息，能为我们科学、均衡、营养地选择食物提供帮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食品自身的特点、保存方法、配料等都会影响食品的保质期长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保质期短的食物一定比保质期长的食物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739440" y="4436640"/>
            <a:ext cx="70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822960" y="278064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750240" y="105192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250920" y="145836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厂家生产食品时采用不同的包装，仅仅是为了美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食品添加剂能改善食品的色、香、味，但食用过多对人体有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822960" y="299664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739440" y="134100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6"/>
          <p:cNvSpPr/>
          <p:nvPr/>
        </p:nvSpPr>
        <p:spPr>
          <a:xfrm>
            <a:off x="4000680" y="71280"/>
            <a:ext cx="507204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各种各样的食品包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" descr="C:\Users\Administrator\AppData\Roaming\Tencent\Users\173692760\QQ\WinTemp\RichOle\SLLSA0MJYL{C{AG{I)[M_CR.jpg"/>
          <p:cNvPicPr/>
          <p:nvPr/>
        </p:nvPicPr>
        <p:blipFill>
          <a:blip r:embed="rId1"/>
          <a:stretch/>
        </p:blipFill>
        <p:spPr>
          <a:xfrm>
            <a:off x="0" y="0"/>
            <a:ext cx="3913200" cy="221472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2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5" descr="QQ图片20130517000146.jpg"/>
          <p:cNvPicPr/>
          <p:nvPr/>
        </p:nvPicPr>
        <p:blipFill>
          <a:blip r:embed="rId2"/>
          <a:stretch/>
        </p:blipFill>
        <p:spPr>
          <a:xfrm>
            <a:off x="0" y="2286000"/>
            <a:ext cx="3917880" cy="2214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Administrator\AppData\Roaming\Tencent\Users\173692760\QQ\WinTemp\RichOle\OWDK74JL`0Q[CV`I6AZM{9X.jpg"/>
          <p:cNvPicPr/>
          <p:nvPr/>
        </p:nvPicPr>
        <p:blipFill>
          <a:blip r:embed="rId3"/>
          <a:stretch/>
        </p:blipFill>
        <p:spPr>
          <a:xfrm>
            <a:off x="0" y="4614840"/>
            <a:ext cx="3929040" cy="2243160"/>
          </a:xfrm>
          <a:prstGeom prst="rect">
            <a:avLst/>
          </a:prstGeom>
          <a:ln w="0">
            <a:noFill/>
          </a:ln>
        </p:spPr>
      </p:pic>
      <p:sp>
        <p:nvSpPr>
          <p:cNvPr id="59" name="矩形 7"/>
          <p:cNvSpPr/>
          <p:nvPr/>
        </p:nvSpPr>
        <p:spPr>
          <a:xfrm>
            <a:off x="4286160" y="1214280"/>
            <a:ext cx="4643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透明包装：避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真空包装：肉制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硬实包装：怕磕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充气包装：防破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品包装上的有哪些信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9" descr="20039261435280"/>
          <p:cNvPicPr/>
          <p:nvPr/>
        </p:nvPicPr>
        <p:blipFill>
          <a:blip r:embed="rId1"/>
          <a:stretch/>
        </p:blipFill>
        <p:spPr>
          <a:xfrm>
            <a:off x="684360" y="907920"/>
            <a:ext cx="7632720" cy="51483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>
            <a:hlinkClick r:id="rId2" action="ppaction://hlinksldjump"/>
          </p:cNvPr>
          <p:cNvSpPr/>
          <p:nvPr/>
        </p:nvSpPr>
        <p:spPr>
          <a:xfrm>
            <a:off x="357120" y="6093000"/>
            <a:ext cx="62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商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>
            <a:hlinkClick r:id="rId3" action="ppaction://hlinksldjump"/>
          </p:cNvPr>
          <p:cNvSpPr/>
          <p:nvPr/>
        </p:nvSpPr>
        <p:spPr>
          <a:xfrm>
            <a:off x="1214280" y="6091200"/>
            <a:ext cx="9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净含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>
            <a:hlinkClick r:id="rId4" action="ppaction://hlinksldjump"/>
          </p:cNvPr>
          <p:cNvSpPr/>
          <p:nvPr/>
        </p:nvSpPr>
        <p:spPr>
          <a:xfrm>
            <a:off x="2286000" y="6093000"/>
            <a:ext cx="8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日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>
            <a:hlinkClick r:id="rId5" action="ppaction://hlinksldjump"/>
          </p:cNvPr>
          <p:cNvSpPr/>
          <p:nvPr/>
        </p:nvSpPr>
        <p:spPr>
          <a:xfrm>
            <a:off x="3143160" y="609300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保质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>
            <a:hlinkClick r:id="rId6" action="ppaction://hlinksldjump"/>
          </p:cNvPr>
          <p:cNvSpPr/>
          <p:nvPr/>
        </p:nvSpPr>
        <p:spPr>
          <a:xfrm>
            <a:off x="4143240" y="609300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>
            <a:hlinkClick r:id="rId7" action="ppaction://hlinksldjump"/>
          </p:cNvPr>
          <p:cNvSpPr/>
          <p:nvPr/>
        </p:nvSpPr>
        <p:spPr>
          <a:xfrm>
            <a:off x="6000840" y="607212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贮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5">
            <a:hlinkClick r:id="rId8" action="ppaction://hlinksldjump"/>
          </p:cNvPr>
          <p:cNvSpPr/>
          <p:nvPr/>
        </p:nvSpPr>
        <p:spPr>
          <a:xfrm>
            <a:off x="6858000" y="6093000"/>
            <a:ext cx="100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条形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6">
            <a:hlinkClick r:id="rId9" action="ppaction://hlinksldjump"/>
          </p:cNvPr>
          <p:cNvSpPr/>
          <p:nvPr/>
        </p:nvSpPr>
        <p:spPr>
          <a:xfrm>
            <a:off x="7929720" y="6093000"/>
            <a:ext cx="8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标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5072040" y="6093000"/>
            <a:ext cx="8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厂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右箭头 14"/>
          <p:cNvSpPr/>
          <p:nvPr/>
        </p:nvSpPr>
        <p:spPr>
          <a:xfrm>
            <a:off x="8358120" y="928800"/>
            <a:ext cx="785880" cy="57132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12"/>
          <p:cNvSpPr/>
          <p:nvPr/>
        </p:nvSpPr>
        <p:spPr>
          <a:xfrm>
            <a:off x="8458200" y="6165720"/>
            <a:ext cx="685800" cy="6922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04">
                <a:moveTo>
                  <a:pt x="0" y="0"/>
                </a:moveTo>
                <a:lnTo>
                  <a:pt x="21600" y="0"/>
                </a:lnTo>
                <a:lnTo>
                  <a:pt x="21600" y="21804"/>
                </a:lnTo>
                <a:lnTo>
                  <a:pt x="0" y="21804"/>
                </a:lnTo>
                <a:close/>
              </a:path>
              <a:path fill="lightenLess" w="21600" h="21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4">
                <a:moveTo>
                  <a:pt x="21600" y="0"/>
                </a:moveTo>
                <a:lnTo>
                  <a:pt x="21600" y="21804"/>
                </a:lnTo>
                <a:lnTo>
                  <a:pt x="20200" y="20404"/>
                </a:lnTo>
                <a:lnTo>
                  <a:pt x="20200" y="1400"/>
                </a:lnTo>
                <a:close/>
              </a:path>
              <a:path fill="darkenLess" w="21600" h="21804">
                <a:moveTo>
                  <a:pt x="21600" y="21804"/>
                </a:moveTo>
                <a:lnTo>
                  <a:pt x="0" y="21804"/>
                </a:lnTo>
                <a:lnTo>
                  <a:pt x="1400" y="20404"/>
                </a:lnTo>
                <a:lnTo>
                  <a:pt x="20200" y="20404"/>
                </a:lnTo>
                <a:close/>
              </a:path>
              <a:path fill="lighten" w="21600" h="21804">
                <a:moveTo>
                  <a:pt x="0" y="21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4"/>
                </a:lnTo>
                <a:close/>
              </a:path>
              <a:path fill="darken" w="21600" h="21804">
                <a:moveTo>
                  <a:pt x="3794" y="10902"/>
                </a:moveTo>
                <a:lnTo>
                  <a:pt x="17806" y="3896"/>
                </a:lnTo>
                <a:lnTo>
                  <a:pt x="17806" y="179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4" descr="3702d"/>
          <p:cNvPicPr/>
          <p:nvPr/>
        </p:nvPicPr>
        <p:blipFill>
          <a:blip r:embed="rId1"/>
          <a:stretch/>
        </p:blipFill>
        <p:spPr>
          <a:xfrm>
            <a:off x="539640" y="404640"/>
            <a:ext cx="8352000" cy="56167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5"/>
          <p:cNvSpPr/>
          <p:nvPr/>
        </p:nvSpPr>
        <p:spPr>
          <a:xfrm>
            <a:off x="0" y="2363760"/>
            <a:ext cx="285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商标和名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6"/>
          <p:cNvSpPr/>
          <p:nvPr/>
        </p:nvSpPr>
        <p:spPr>
          <a:xfrm>
            <a:off x="2843280" y="2637000"/>
            <a:ext cx="934920" cy="215640"/>
          </a:xfrm>
          <a:prstGeom prst="rightArrow">
            <a:avLst>
              <a:gd name="adj1" fmla="val 50000"/>
              <a:gd name="adj2" fmla="val 108389"/>
            </a:avLst>
          </a:prstGeom>
          <a:solidFill>
            <a:srgbClr val="0000ff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3" descr="3701d"/>
          <p:cNvPicPr/>
          <p:nvPr/>
        </p:nvPicPr>
        <p:blipFill>
          <a:blip r:embed="rId1"/>
          <a:stretch/>
        </p:blipFill>
        <p:spPr>
          <a:xfrm>
            <a:off x="285840" y="285840"/>
            <a:ext cx="8291520" cy="56433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4"/>
          <p:cNvSpPr/>
          <p:nvPr/>
        </p:nvSpPr>
        <p:spPr>
          <a:xfrm>
            <a:off x="179280" y="2786040"/>
            <a:ext cx="172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ff66"/>
                </a:solidFill>
                <a:latin typeface="Arial"/>
              </a:rPr>
              <a:t>食品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ff66"/>
                </a:solidFill>
                <a:latin typeface="Arial"/>
              </a:rPr>
              <a:t>净含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5"/>
          <p:cNvSpPr/>
          <p:nvPr/>
        </p:nvSpPr>
        <p:spPr>
          <a:xfrm>
            <a:off x="1979640" y="3433680"/>
            <a:ext cx="793800" cy="142920"/>
          </a:xfrm>
          <a:prstGeom prst="rightArrow">
            <a:avLst>
              <a:gd name="adj1" fmla="val 50000"/>
              <a:gd name="adj2" fmla="val 138854"/>
            </a:avLst>
          </a:prstGeom>
          <a:solidFill>
            <a:srgbClr val="0000ff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2"/>
          <p:cNvSpPr/>
          <p:nvPr/>
        </p:nvSpPr>
        <p:spPr>
          <a:xfrm>
            <a:off x="8458200" y="6165720"/>
            <a:ext cx="685800" cy="6922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04">
                <a:moveTo>
                  <a:pt x="0" y="0"/>
                </a:moveTo>
                <a:lnTo>
                  <a:pt x="21600" y="0"/>
                </a:lnTo>
                <a:lnTo>
                  <a:pt x="21600" y="21804"/>
                </a:lnTo>
                <a:lnTo>
                  <a:pt x="0" y="21804"/>
                </a:lnTo>
                <a:close/>
              </a:path>
              <a:path fill="lightenLess" w="21600" h="21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4">
                <a:moveTo>
                  <a:pt x="21600" y="0"/>
                </a:moveTo>
                <a:lnTo>
                  <a:pt x="21600" y="21804"/>
                </a:lnTo>
                <a:lnTo>
                  <a:pt x="20200" y="20404"/>
                </a:lnTo>
                <a:lnTo>
                  <a:pt x="20200" y="1400"/>
                </a:lnTo>
                <a:close/>
              </a:path>
              <a:path fill="darkenLess" w="21600" h="21804">
                <a:moveTo>
                  <a:pt x="21600" y="21804"/>
                </a:moveTo>
                <a:lnTo>
                  <a:pt x="0" y="21804"/>
                </a:lnTo>
                <a:lnTo>
                  <a:pt x="1400" y="20404"/>
                </a:lnTo>
                <a:lnTo>
                  <a:pt x="20200" y="20404"/>
                </a:lnTo>
                <a:close/>
              </a:path>
              <a:path fill="lighten" w="21600" h="21804">
                <a:moveTo>
                  <a:pt x="0" y="21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4"/>
                </a:lnTo>
                <a:close/>
              </a:path>
              <a:path fill="darken" w="21600" h="21804">
                <a:moveTo>
                  <a:pt x="3794" y="10902"/>
                </a:moveTo>
                <a:lnTo>
                  <a:pt x="17806" y="3896"/>
                </a:lnTo>
                <a:lnTo>
                  <a:pt x="17806" y="179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8" descr="3707d"/>
          <p:cNvPicPr/>
          <p:nvPr/>
        </p:nvPicPr>
        <p:blipFill>
          <a:blip r:embed="rId1"/>
          <a:stretch/>
        </p:blipFill>
        <p:spPr>
          <a:xfrm>
            <a:off x="324000" y="260280"/>
            <a:ext cx="8099280" cy="588348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19"/>
          <p:cNvSpPr/>
          <p:nvPr/>
        </p:nvSpPr>
        <p:spPr>
          <a:xfrm>
            <a:off x="3851280" y="4645080"/>
            <a:ext cx="1584360" cy="485640"/>
          </a:xfrm>
          <a:prstGeom prst="leftArrow">
            <a:avLst>
              <a:gd name="adj1" fmla="val 50000"/>
              <a:gd name="adj2" fmla="val 8156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0"/>
          <p:cNvSpPr/>
          <p:nvPr/>
        </p:nvSpPr>
        <p:spPr>
          <a:xfrm>
            <a:off x="5651640" y="4572000"/>
            <a:ext cx="253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生产日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2"/>
          <p:cNvSpPr/>
          <p:nvPr/>
        </p:nvSpPr>
        <p:spPr>
          <a:xfrm>
            <a:off x="8458200" y="6165720"/>
            <a:ext cx="685800" cy="6922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04">
                <a:moveTo>
                  <a:pt x="0" y="0"/>
                </a:moveTo>
                <a:lnTo>
                  <a:pt x="21600" y="0"/>
                </a:lnTo>
                <a:lnTo>
                  <a:pt x="21600" y="21804"/>
                </a:lnTo>
                <a:lnTo>
                  <a:pt x="0" y="21804"/>
                </a:lnTo>
                <a:close/>
              </a:path>
              <a:path fill="lightenLess" w="21600" h="21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4">
                <a:moveTo>
                  <a:pt x="21600" y="0"/>
                </a:moveTo>
                <a:lnTo>
                  <a:pt x="21600" y="21804"/>
                </a:lnTo>
                <a:lnTo>
                  <a:pt x="20200" y="20404"/>
                </a:lnTo>
                <a:lnTo>
                  <a:pt x="20200" y="1400"/>
                </a:lnTo>
                <a:close/>
              </a:path>
              <a:path fill="darkenLess" w="21600" h="21804">
                <a:moveTo>
                  <a:pt x="21600" y="21804"/>
                </a:moveTo>
                <a:lnTo>
                  <a:pt x="0" y="21804"/>
                </a:lnTo>
                <a:lnTo>
                  <a:pt x="1400" y="20404"/>
                </a:lnTo>
                <a:lnTo>
                  <a:pt x="20200" y="20404"/>
                </a:lnTo>
                <a:close/>
              </a:path>
              <a:path fill="lighten" w="21600" h="21804">
                <a:moveTo>
                  <a:pt x="0" y="21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4"/>
                </a:lnTo>
                <a:close/>
              </a:path>
              <a:path fill="darken" w="21600" h="21804">
                <a:moveTo>
                  <a:pt x="3794" y="10902"/>
                </a:moveTo>
                <a:lnTo>
                  <a:pt x="17806" y="3896"/>
                </a:lnTo>
                <a:lnTo>
                  <a:pt x="17806" y="179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1" descr="3708d"/>
          <p:cNvPicPr/>
          <p:nvPr/>
        </p:nvPicPr>
        <p:blipFill>
          <a:blip r:embed="rId1"/>
          <a:stretch/>
        </p:blipFill>
        <p:spPr>
          <a:xfrm>
            <a:off x="468360" y="404640"/>
            <a:ext cx="8023320" cy="573912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2"/>
          <p:cNvSpPr/>
          <p:nvPr/>
        </p:nvSpPr>
        <p:spPr>
          <a:xfrm>
            <a:off x="3851280" y="4216320"/>
            <a:ext cx="1297080" cy="486000"/>
          </a:xfrm>
          <a:prstGeom prst="leftArrow">
            <a:avLst>
              <a:gd name="adj1" fmla="val 50000"/>
              <a:gd name="adj2" fmla="val 667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5364000" y="4143240"/>
            <a:ext cx="18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保质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2"/>
          <p:cNvSpPr/>
          <p:nvPr/>
        </p:nvSpPr>
        <p:spPr>
          <a:xfrm>
            <a:off x="8458200" y="6165720"/>
            <a:ext cx="685800" cy="6922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04">
                <a:moveTo>
                  <a:pt x="0" y="0"/>
                </a:moveTo>
                <a:lnTo>
                  <a:pt x="21600" y="0"/>
                </a:lnTo>
                <a:lnTo>
                  <a:pt x="21600" y="21804"/>
                </a:lnTo>
                <a:lnTo>
                  <a:pt x="0" y="21804"/>
                </a:lnTo>
                <a:close/>
              </a:path>
              <a:path fill="lightenLess" w="21600" h="21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4">
                <a:moveTo>
                  <a:pt x="21600" y="0"/>
                </a:moveTo>
                <a:lnTo>
                  <a:pt x="21600" y="21804"/>
                </a:lnTo>
                <a:lnTo>
                  <a:pt x="20200" y="20404"/>
                </a:lnTo>
                <a:lnTo>
                  <a:pt x="20200" y="1400"/>
                </a:lnTo>
                <a:close/>
              </a:path>
              <a:path fill="darkenLess" w="21600" h="21804">
                <a:moveTo>
                  <a:pt x="21600" y="21804"/>
                </a:moveTo>
                <a:lnTo>
                  <a:pt x="0" y="21804"/>
                </a:lnTo>
                <a:lnTo>
                  <a:pt x="1400" y="20404"/>
                </a:lnTo>
                <a:lnTo>
                  <a:pt x="20200" y="20404"/>
                </a:lnTo>
                <a:close/>
              </a:path>
              <a:path fill="lighten" w="21600" h="21804">
                <a:moveTo>
                  <a:pt x="0" y="21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4"/>
                </a:lnTo>
                <a:close/>
              </a:path>
              <a:path fill="darken" w="21600" h="21804">
                <a:moveTo>
                  <a:pt x="3794" y="10902"/>
                </a:moveTo>
                <a:lnTo>
                  <a:pt x="17806" y="3896"/>
                </a:lnTo>
                <a:lnTo>
                  <a:pt x="17806" y="179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0" descr="3704d"/>
          <p:cNvPicPr/>
          <p:nvPr/>
        </p:nvPicPr>
        <p:blipFill>
          <a:blip r:embed="rId1"/>
          <a:stretch/>
        </p:blipFill>
        <p:spPr>
          <a:xfrm>
            <a:off x="395280" y="260280"/>
            <a:ext cx="8034480" cy="5888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1"/>
          <p:cNvSpPr/>
          <p:nvPr/>
        </p:nvSpPr>
        <p:spPr>
          <a:xfrm>
            <a:off x="1500120" y="365292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食品的配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3"/>
          <p:cNvSpPr/>
          <p:nvPr/>
        </p:nvSpPr>
        <p:spPr>
          <a:xfrm>
            <a:off x="2652840" y="2357280"/>
            <a:ext cx="485640" cy="1368720"/>
          </a:xfrm>
          <a:prstGeom prst="upArrow">
            <a:avLst>
              <a:gd name="adj1" fmla="val 50000"/>
              <a:gd name="adj2" fmla="val 7046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2"/>
          <p:cNvSpPr/>
          <p:nvPr/>
        </p:nvSpPr>
        <p:spPr>
          <a:xfrm>
            <a:off x="8458200" y="6165720"/>
            <a:ext cx="685800" cy="6922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04">
                <a:moveTo>
                  <a:pt x="0" y="0"/>
                </a:moveTo>
                <a:lnTo>
                  <a:pt x="21600" y="0"/>
                </a:lnTo>
                <a:lnTo>
                  <a:pt x="21600" y="21804"/>
                </a:lnTo>
                <a:lnTo>
                  <a:pt x="0" y="21804"/>
                </a:lnTo>
                <a:close/>
              </a:path>
              <a:path fill="lightenLess" w="21600" h="21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4">
                <a:moveTo>
                  <a:pt x="21600" y="0"/>
                </a:moveTo>
                <a:lnTo>
                  <a:pt x="21600" y="21804"/>
                </a:lnTo>
                <a:lnTo>
                  <a:pt x="20200" y="20404"/>
                </a:lnTo>
                <a:lnTo>
                  <a:pt x="20200" y="1400"/>
                </a:lnTo>
                <a:close/>
              </a:path>
              <a:path fill="darkenLess" w="21600" h="21804">
                <a:moveTo>
                  <a:pt x="21600" y="21804"/>
                </a:moveTo>
                <a:lnTo>
                  <a:pt x="0" y="21804"/>
                </a:lnTo>
                <a:lnTo>
                  <a:pt x="1400" y="20404"/>
                </a:lnTo>
                <a:lnTo>
                  <a:pt x="20200" y="20404"/>
                </a:lnTo>
                <a:close/>
              </a:path>
              <a:path fill="lighten" w="21600" h="21804">
                <a:moveTo>
                  <a:pt x="0" y="21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4"/>
                </a:lnTo>
                <a:close/>
              </a:path>
              <a:path fill="darken" w="21600" h="21804">
                <a:moveTo>
                  <a:pt x="3794" y="10902"/>
                </a:moveTo>
                <a:lnTo>
                  <a:pt x="17806" y="3896"/>
                </a:lnTo>
                <a:lnTo>
                  <a:pt x="17806" y="179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3-05-20T15:47:49Z</dcterms:modified>
  <cp:revision>160</cp:revision>
  <dc:subject/>
  <dc:title>幻灯片 1</dc:title>
</cp:coreProperties>
</file>