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258-8650-4B66-81A0-E96AD53B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387-61BA-49C4-A551-A5DA9D67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BF3-C439-4BBC-9FCB-7788452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D3D-AC66-49DA-AC2C-E84C09F8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EE0-8D73-40DD-AAF5-E3EB930C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1CD-8ADA-487D-9595-999406B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BE4-12D2-4C7E-A8E7-9D78DD53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BCE-B476-4663-9019-26054AD5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3DE-91B7-45AF-BE69-AA073B33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C41-0F76-4399-8299-7F1EAE3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9CC-82DB-4F97-8775-868C57D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FEF-76B6-45DB-82E4-3244C55A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C2DF-5C6C-4F61-B4F3-B0F1FF3C4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的食物和熟的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Users\Administrator\AppData\Roaming\Tencent\Users\173692760\QQ\WinTemp\RichOle\NXOYEP3KJ%JXG@[]_[C7B9N.jpg"/>
          <p:cNvPicPr/>
          <p:nvPr/>
        </p:nvPicPr>
        <p:blipFill>
          <a:blip r:embed="rId1"/>
          <a:stretch/>
        </p:blipFill>
        <p:spPr>
          <a:xfrm>
            <a:off x="642960" y="928800"/>
            <a:ext cx="5857920" cy="2690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500040" y="392904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棉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脚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烧杯装少量水，放在石棉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酒精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行加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鸡肉的变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Administrator\AppData\Roaming\Tencent\Users\173692760\QQ\WinTemp\RichOle\V82N@LYBR{S9PQ{XPJ%VEQ7.jpg"/>
          <p:cNvPicPr/>
          <p:nvPr/>
        </p:nvPicPr>
        <p:blipFill>
          <a:blip r:embed="rId1"/>
          <a:stretch/>
        </p:blipFill>
        <p:spPr>
          <a:xfrm>
            <a:off x="428760" y="857160"/>
            <a:ext cx="372564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Administrator\AppData\Roaming\Tencent\Users\173692760\QQ\WinTemp\RichOle\_(TH~CB4QDKLQ06PB)0)`98.jpg"/>
          <p:cNvPicPr/>
          <p:nvPr/>
        </p:nvPicPr>
        <p:blipFill>
          <a:blip r:embed="rId2"/>
          <a:stretch/>
        </p:blipFill>
        <p:spPr>
          <a:xfrm>
            <a:off x="4786200" y="85716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428760" y="3571920"/>
            <a:ext cx="8286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重点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化过程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开始是怎样？然后是怎样？接着怎样？最后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熟对比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留一部分生鸡肉，以便与熟鸡肉进行对比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85880" y="1071720"/>
          <a:ext cx="7643880" cy="5121000"/>
        </p:xfrm>
        <a:graphic>
          <a:graphicData uri="http://schemas.openxmlformats.org/drawingml/2006/table">
            <a:tbl>
              <a:tblPr/>
              <a:tblGrid>
                <a:gridCol w="1571400"/>
                <a:gridCol w="2928960"/>
                <a:gridCol w="3143520"/>
              </a:tblGrid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看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闻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牙签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实验中我们还发现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矩形 8"/>
          <p:cNvSpPr/>
          <p:nvPr/>
        </p:nvSpPr>
        <p:spPr>
          <a:xfrm>
            <a:off x="785880" y="5929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安全，不能用尝的方法观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60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觉得鸡肉熟吃有哪些好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Administrator\AppData\Roaming\Tencent\Users\173692760\QQ\WinTemp\RichOle\)%D26YY%OEFV~`5UK9VQS46.jpg"/>
          <p:cNvPicPr/>
          <p:nvPr/>
        </p:nvPicPr>
        <p:blipFill>
          <a:blip r:embed="rId1"/>
          <a:stretch/>
        </p:blipFill>
        <p:spPr>
          <a:xfrm>
            <a:off x="357120" y="1571760"/>
            <a:ext cx="5000760" cy="485748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5572080" y="185724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肉里的蛋白质和脂肪在加热后会发生变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容易被人体消化和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在加热的过程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杀死细菌，更卫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57120" y="2853360"/>
            <a:ext cx="8569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熟吃的食物：蛋白质和脂肪在加热后会发生变化，容易被人体消化和吸收，而且熟的食物比较松软，也容易被消化。但是食物在加工过程中，会有一些营养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生吃的食物：保留自身的营养成分，特别是维生素不会被破坏，能够减少营养的损失，但是一定要注意饮食卫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0" y="28584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食物生吃和熟吃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证人体对营养的吸收，有的食物适宜生吃，有的食物适宜熟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加热会破坏食物中的营养成分，所以食物应该以生吃为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白质和脂肪加热后，变得容易被人体消化和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吃食物和熟吃食物各有优势与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94960" y="36046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39440" y="2028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16920" y="4280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65880" y="5196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鸡蛋"/>
          <p:cNvPicPr/>
          <p:nvPr/>
        </p:nvPicPr>
        <p:blipFill>
          <a:blip r:embed="rId1"/>
          <a:stretch/>
        </p:blipFill>
        <p:spPr>
          <a:xfrm>
            <a:off x="0" y="107172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3409d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5857920" y="407196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"/>
          <p:cNvPicPr/>
          <p:nvPr/>
        </p:nvPicPr>
        <p:blipFill>
          <a:blip r:embed="rId3"/>
          <a:stretch/>
        </p:blipFill>
        <p:spPr>
          <a:xfrm>
            <a:off x="5857920" y="92880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4"/>
          <p:cNvSpPr/>
          <p:nvPr/>
        </p:nvSpPr>
        <p:spPr>
          <a:xfrm>
            <a:off x="3000240" y="2428920"/>
            <a:ext cx="785880" cy="2000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西瓜"/>
          <p:cNvPicPr/>
          <p:nvPr/>
        </p:nvPicPr>
        <p:blipFill>
          <a:blip r:embed="rId4"/>
          <a:stretch/>
        </p:blipFill>
        <p:spPr>
          <a:xfrm>
            <a:off x="0" y="4057560"/>
            <a:ext cx="2928960" cy="280044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2"/>
          <p:cNvSpPr/>
          <p:nvPr/>
        </p:nvSpPr>
        <p:spPr>
          <a:xfrm flipH="1">
            <a:off x="5000400" y="2391480"/>
            <a:ext cx="857160" cy="225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5"/>
          <p:cNvSpPr/>
          <p:nvPr/>
        </p:nvSpPr>
        <p:spPr>
          <a:xfrm flipH="1">
            <a:off x="2928600" y="3357720"/>
            <a:ext cx="857160" cy="210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8"/>
          <p:cNvSpPr/>
          <p:nvPr/>
        </p:nvSpPr>
        <p:spPr>
          <a:xfrm>
            <a:off x="5000040" y="4643280"/>
            <a:ext cx="857160" cy="1214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>
            <a:off x="3059280" y="2276640"/>
            <a:ext cx="72072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8"/>
          <p:cNvSpPr/>
          <p:nvPr/>
        </p:nvSpPr>
        <p:spPr>
          <a:xfrm>
            <a:off x="5003640" y="4724280"/>
            <a:ext cx="936720" cy="86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8"/>
          <p:cNvSpPr/>
          <p:nvPr/>
        </p:nvSpPr>
        <p:spPr>
          <a:xfrm flipH="1">
            <a:off x="5003640" y="2349360"/>
            <a:ext cx="1036800" cy="935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 flipH="1">
            <a:off x="3071520" y="4653000"/>
            <a:ext cx="708120" cy="776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草莓"/>
          <p:cNvPicPr/>
          <p:nvPr/>
        </p:nvPicPr>
        <p:blipFill>
          <a:blip r:embed="rId1"/>
          <a:srcRect l="1760" t="3748" r="4438" b="8756"/>
          <a:stretch/>
        </p:blipFill>
        <p:spPr>
          <a:xfrm>
            <a:off x="0" y="1125360"/>
            <a:ext cx="30592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香蕉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2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`0)[V`SP%VD]H3OA8I(O`)N"/>
          <p:cNvPicPr/>
          <p:nvPr/>
        </p:nvPicPr>
        <p:blipFill>
          <a:blip r:embed="rId3"/>
          <a:stretch/>
        </p:blipFill>
        <p:spPr>
          <a:xfrm>
            <a:off x="0" y="4595760"/>
            <a:ext cx="3059280" cy="22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]5`6$[8R{_D~`5NZ$3IK7`2"/>
          <p:cNvPicPr/>
          <p:nvPr/>
        </p:nvPicPr>
        <p:blipFill>
          <a:blip r:embed="rId4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3000240" y="2535120"/>
            <a:ext cx="779760" cy="2046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2"/>
          <p:cNvSpPr/>
          <p:nvPr/>
        </p:nvSpPr>
        <p:spPr>
          <a:xfrm flipH="1">
            <a:off x="5000760" y="2463840"/>
            <a:ext cx="963360" cy="2179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5"/>
          <p:cNvSpPr/>
          <p:nvPr/>
        </p:nvSpPr>
        <p:spPr>
          <a:xfrm flipH="1">
            <a:off x="3071880" y="3357720"/>
            <a:ext cx="714240" cy="207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5000040" y="3357720"/>
            <a:ext cx="857160" cy="2357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螃蟹"/>
          <p:cNvPicPr/>
          <p:nvPr/>
        </p:nvPicPr>
        <p:blipFill>
          <a:blip r:embed="rId1"/>
          <a:stretch/>
        </p:blipFill>
        <p:spPr>
          <a:xfrm>
            <a:off x="0" y="128592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番茄2"/>
          <p:cNvPicPr/>
          <p:nvPr/>
        </p:nvPicPr>
        <p:blipFill>
          <a:blip r:embed="rId2"/>
          <a:stretch/>
        </p:blipFill>
        <p:spPr>
          <a:xfrm>
            <a:off x="0" y="4429080"/>
            <a:ext cx="300816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5964120" y="1214280"/>
            <a:ext cx="3179880" cy="25005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8"/>
          <p:cNvSpPr/>
          <p:nvPr/>
        </p:nvSpPr>
        <p:spPr>
          <a:xfrm flipH="1">
            <a:off x="5072040" y="2463840"/>
            <a:ext cx="892080" cy="822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5929200" y="4214880"/>
            <a:ext cx="321480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31"/>
          <p:cNvSpPr/>
          <p:nvPr/>
        </p:nvSpPr>
        <p:spPr>
          <a:xfrm flipH="1">
            <a:off x="3071520" y="4724280"/>
            <a:ext cx="708120" cy="704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3276720" y="4869000"/>
            <a:ext cx="29509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肉类、水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类、粮食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214200" y="5000760"/>
            <a:ext cx="3000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6588000" y="4869000"/>
            <a:ext cx="23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857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熟吃：更健康，口感好，营养好吸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吃：减少营养的损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比较生马铃薯和熟马铃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2571840" y="1000080"/>
            <a:ext cx="5928840" cy="2097000"/>
            <a:chOff x="2571840" y="1000080"/>
            <a:chExt cx="5928840" cy="209700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253872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5998680" y="1000080"/>
              <a:ext cx="2502000" cy="2097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500040" y="3168720"/>
          <a:ext cx="8143920" cy="3504960"/>
        </p:xfrm>
        <a:graphic>
          <a:graphicData uri="http://schemas.openxmlformats.org/drawingml/2006/table">
            <a:tbl>
              <a:tblPr/>
              <a:tblGrid>
                <a:gridCol w="1803600"/>
                <a:gridCol w="3197160"/>
                <a:gridCol w="314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颜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软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气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未命名"/>
          <p:cNvPicPr/>
          <p:nvPr/>
        </p:nvPicPr>
        <p:blipFill>
          <a:blip r:embed="rId3"/>
          <a:stretch/>
        </p:blipFill>
        <p:spPr>
          <a:xfrm>
            <a:off x="285840" y="928800"/>
            <a:ext cx="1942920" cy="1931760"/>
          </a:xfrm>
          <a:prstGeom prst="rect">
            <a:avLst/>
          </a:prstGeom>
          <a:ln w="0">
            <a:noFill/>
          </a:ln>
        </p:spPr>
      </p:pic>
      <p:sp>
        <p:nvSpPr>
          <p:cNvPr id="118" name="矩形 8"/>
          <p:cNvSpPr/>
          <p:nvPr/>
        </p:nvSpPr>
        <p:spPr>
          <a:xfrm>
            <a:off x="997920" y="593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水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之后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Administrator\AppData\Roaming\Tencent\Users\125210212\QQ\WinTemp\RichOle\H{[(FFLMH5{R4_{)N4VDJ{O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401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0" y="571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容易消化和吸收营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5840" y="32148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旦马铃薯发芽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芽眼、芽根和变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地方龙葵素的含量急剧增高，高出平时含量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倍。人吃了这种马铃薯，轻者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恶心呕吐、腹痛、腹泻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重者会出现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脱水、血压下降、呼吸困难、昏迷、抽搐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等现象，严重者还可因心肺麻痹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死亡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马铃薯能不能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1214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龙葵素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种对人体有害的生物碱。平时，马铃薯中龙葵素含量极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Administrator\AppData\Roaming\Tencent\Users\173692760\QQ\WinTemp\RichOle\]BX~J5XOH8(]U2QMCBHDT`E.jpg"/>
          <p:cNvPicPr/>
          <p:nvPr/>
        </p:nvPicPr>
        <p:blipFill>
          <a:blip r:embed="rId1"/>
          <a:stretch/>
        </p:blipFill>
        <p:spPr>
          <a:xfrm>
            <a:off x="6072120" y="928800"/>
            <a:ext cx="25718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4T07:23:25Z</dcterms:modified>
  <cp:revision>148</cp:revision>
  <dc:subject/>
  <dc:title>幻灯片 1</dc:title>
</cp:coreProperties>
</file>