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2CE-E300-419C-B3B8-6CFDE715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866-0641-4153-BF60-416CB13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B9-4C47-4E77-8C9B-E6FA0792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9A1-ACFB-46E4-8A97-884B2588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78E-A4E3-4934-AB89-BFA2A4B1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A4F-200B-4112-AAEC-24308FE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B78-CCD4-492F-B3C5-07F9947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A20-302C-46B8-B652-636FF9C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AA3-9DA4-4FCA-B742-639B5400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B1B-29F9-4DD7-BD81-E555906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3BD-1478-4E64-8A1C-2CD2B5F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037-22BC-4D53-AC8A-D987E76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FDDC-743D-4950-8557-EC2BAF691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包发霉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1285920"/>
            <a:ext cx="4357800" cy="3319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7160" y="4792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4578480" y="128592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734080" y="4792680"/>
            <a:ext cx="25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湿润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4"/>
          <p:cNvPicPr/>
          <p:nvPr/>
        </p:nvPicPr>
        <p:blipFill>
          <a:blip r:embed="rId1"/>
          <a:stretch/>
        </p:blipFill>
        <p:spPr>
          <a:xfrm>
            <a:off x="4714920" y="1065240"/>
            <a:ext cx="4429080" cy="3270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28592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0084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2"/>
          <p:cNvPicPr/>
          <p:nvPr/>
        </p:nvPicPr>
        <p:blipFill>
          <a:blip r:embed="rId2"/>
          <a:stretch/>
        </p:blipFill>
        <p:spPr>
          <a:xfrm>
            <a:off x="0" y="1065240"/>
            <a:ext cx="4214880" cy="32925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214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包发霉是因为在它的上面生长了一种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，与其他生物一样，它的生长需要获取（          ）和适宜的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霉变过程中产生的（         ）含有对人体有害的物质，所以发霉变质的食物是绝对不能食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43120" y="20779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786200" y="26431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71680" y="3286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长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5786280" y="4506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214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干燥常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常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低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较高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714680" y="264312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2960" y="32925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分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14720" y="50720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214280" y="57150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高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200736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保存的过程中也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霉变过程中产生的霉菌含有对人体有害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发霉的食物，扔掉可惜，洗一洗就可以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干燥、常温的地方，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潮湿、常温的地方，是为了研究水分对霉菌生长速度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84160" y="30682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2960" y="1915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0240" y="83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22960" y="407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572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研究光会不会影响霉菌的生长，该怎样设计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3429000"/>
            <a:ext cx="84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两块烘干的面包中各滴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滴水，一块放入透明塑料袋中，一块放入黑色塑料袋中，包扎紧后放到阳台上。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7168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比实验，只改变一个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Administrator\AppData\Roaming\Tencent\Users\173692760\QQ\WinTemp\RichOle\1J2]O_(R8QKP$YQ_PY[9M0Z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8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AppData\Roaming\Tencent\Users\173692760\QQ\WinTemp\RichOle\J0BG8)2)4@O0{3%B43SUJMR.jpg"/>
          <p:cNvPicPr/>
          <p:nvPr/>
        </p:nvPicPr>
        <p:blipFill>
          <a:blip r:embed="rId2"/>
          <a:stretch/>
        </p:blipFill>
        <p:spPr>
          <a:xfrm>
            <a:off x="4516560" y="0"/>
            <a:ext cx="462744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AppData\Roaming\Tencent\Users\173692760\QQ\WinTemp\RichOle\KFANE[]M@`8T8F9XH`D[_34.jpg"/>
          <p:cNvPicPr/>
          <p:nvPr/>
        </p:nvPicPr>
        <p:blipFill>
          <a:blip r:embed="rId3"/>
          <a:stretch/>
        </p:blipFill>
        <p:spPr>
          <a:xfrm>
            <a:off x="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" descr="1.jpg"/>
          <p:cNvPicPr/>
          <p:nvPr/>
        </p:nvPicPr>
        <p:blipFill>
          <a:blip r:embed="rId4"/>
          <a:stretch/>
        </p:blipFill>
        <p:spPr>
          <a:xfrm>
            <a:off x="4500720" y="3624120"/>
            <a:ext cx="464328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0" y="31431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霉的南瓜、甜菜根、土豆、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AppData\Roaming\Tencent\Users\173692760\QQ\WinTemp\RichOle\YPCMEG1]JEE}N4P7%NAX(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上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786120" cy="369252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1071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肉眼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152960" y="107172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放大镜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AppData\Roaming\Tencent\Users\173692760\QQ\WinTemp\RichOle\W~[_6B76]Q0@CG_CI}{E[NG.jpg"/>
          <p:cNvPicPr/>
          <p:nvPr/>
        </p:nvPicPr>
        <p:blipFill>
          <a:blip r:embed="rId2"/>
          <a:stretch/>
        </p:blipFill>
        <p:spPr>
          <a:xfrm>
            <a:off x="5286240" y="2071800"/>
            <a:ext cx="249084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AppData\Roaming\Tencent\Users\173692760\QQ\WinTemp\RichOle\[{@)B7GC[MHZ9@@HZ8(V64S.jpg"/>
          <p:cNvPicPr/>
          <p:nvPr/>
        </p:nvPicPr>
        <p:blipFill>
          <a:blip r:embed="rId3"/>
          <a:stretch/>
        </p:blipFill>
        <p:spPr>
          <a:xfrm>
            <a:off x="4389480" y="2357280"/>
            <a:ext cx="4754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786280" y="107172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0" y="9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50713124738727"/>
          <p:cNvPicPr/>
          <p:nvPr/>
        </p:nvPicPr>
        <p:blipFill>
          <a:blip r:embed="rId2"/>
          <a:stretch/>
        </p:blipFill>
        <p:spPr>
          <a:xfrm>
            <a:off x="142920" y="17146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43760" y="4000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571560" y="4286160"/>
            <a:ext cx="25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215040" y="5214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71720" y="5572080"/>
            <a:ext cx="50004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面包发霉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哪些因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istrator\AppData\Roaming\Tencent\Users\173692760\QQ\WinTemp\RichOle\EW7IHPARWJWL_AV)491UH6E.jpg"/>
          <p:cNvPicPr/>
          <p:nvPr/>
        </p:nvPicPr>
        <p:blipFill>
          <a:blip r:embed="rId1"/>
          <a:stretch/>
        </p:blipFill>
        <p:spPr>
          <a:xfrm>
            <a:off x="3286080" y="3786120"/>
            <a:ext cx="4408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2709720" cy="2643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5715000" y="1785960"/>
            <a:ext cx="3214800" cy="1643040"/>
          </a:xfrm>
          <a:prstGeom prst="cloudCallout">
            <a:avLst>
              <a:gd name="adj1" fmla="val -21685"/>
              <a:gd name="adj2" fmla="val 742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11"/>
          <p:cNvSpPr/>
          <p:nvPr/>
        </p:nvSpPr>
        <p:spPr>
          <a:xfrm flipH="1">
            <a:off x="428760" y="1357200"/>
            <a:ext cx="4000320" cy="1724040"/>
          </a:xfrm>
          <a:prstGeom prst="cloudCallout">
            <a:avLst>
              <a:gd name="adj1" fmla="val -42212"/>
              <a:gd name="adj2" fmla="val 98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7172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觉得和温度有关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43760" y="2000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水分也有关系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233280" y="4281480"/>
            <a:ext cx="2455920" cy="236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2928960" y="428292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85840" y="928800"/>
            <a:ext cx="87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保持干燥，在第二块面包上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滴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分别装在两个塑料袋内，用线扎紧袋口放在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线形标注 2 7"/>
          <p:cNvSpPr/>
          <p:nvPr/>
        </p:nvSpPr>
        <p:spPr>
          <a:xfrm>
            <a:off x="6786720" y="357192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67583"/>
              <a:gd name="adj6" fmla="val -45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线形标注 2 8"/>
          <p:cNvSpPr/>
          <p:nvPr/>
        </p:nvSpPr>
        <p:spPr>
          <a:xfrm>
            <a:off x="6786720" y="4643280"/>
            <a:ext cx="150012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25388"/>
              <a:gd name="adj6" fmla="val -2653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4200" y="92880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都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放进冷藏室，将第二块面包放在温暖的室温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dministrator\AppData\Roaming\Tencent\Users\173692760\QQ\WinTemp\RichOle\)4L7_20GE9RM1[JQM[AD%N2.jpg"/>
          <p:cNvPicPr/>
          <p:nvPr/>
        </p:nvPicPr>
        <p:blipFill>
          <a:blip r:embed="rId1"/>
          <a:stretch/>
        </p:blipFill>
        <p:spPr>
          <a:xfrm>
            <a:off x="122400" y="4000680"/>
            <a:ext cx="5592600" cy="2714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线形标注 2 12"/>
          <p:cNvSpPr/>
          <p:nvPr/>
        </p:nvSpPr>
        <p:spPr>
          <a:xfrm>
            <a:off x="6786720" y="385776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5972"/>
              <a:gd name="adj6" fmla="val 101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13"/>
          <p:cNvSpPr/>
          <p:nvPr/>
        </p:nvSpPr>
        <p:spPr>
          <a:xfrm>
            <a:off x="6786720" y="485784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49004"/>
              <a:gd name="adj6" fmla="val -105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面包上霉菌的生长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31800" y="1143000"/>
          <a:ext cx="7797960" cy="5425920"/>
        </p:xfrm>
        <a:graphic>
          <a:graphicData uri="http://schemas.openxmlformats.org/drawingml/2006/table">
            <a:tbl>
              <a:tblPr/>
              <a:tblGrid>
                <a:gridCol w="703440"/>
                <a:gridCol w="1519200"/>
                <a:gridCol w="930240"/>
                <a:gridCol w="928440"/>
                <a:gridCol w="928800"/>
                <a:gridCol w="928800"/>
                <a:gridCol w="928800"/>
                <a:gridCol w="930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低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较高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1:54:19Z</dcterms:modified>
  <cp:revision>130</cp:revision>
  <dc:subject/>
  <dc:title>幻灯片 1</dc:title>
</cp:coreProperties>
</file>