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13F-C55F-42BB-8322-9D511A0F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8BF-6197-40E0-9FDB-CD6BFC4C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894-8E7B-4D65-9368-30AE6434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CDE-22ED-44E8-B7FA-DCE89CB8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F58-1340-4824-9DAD-4B773B2B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46E-18F2-4263-BF7E-FD583FF1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E96-A271-4623-9635-9A813712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7BB-00DA-4ECD-8356-524A3E4A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345-DE8F-4AD6-A8B5-1CAA49B0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DD8-E466-4444-B414-1AA49AF5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186-CA96-4410-A288-D1FC422B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CA1-F3AD-4523-A6A0-454950BE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9A4A-2302-4C11-9995-3B5D4DE5B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食物中的营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8836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天的食物中我能获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哪些营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57120" y="1500120"/>
            <a:ext cx="771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怎样辨别食物中的营养成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5429160" y="3429000"/>
            <a:ext cx="371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做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查阅资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Administrator\AppData\Roaming\Tencent\Users\173692760\QQ\WinTemp\RichOle\TB6GT98AN_XR3$PM779LF@V.jpg"/>
          <p:cNvPicPr/>
          <p:nvPr/>
        </p:nvPicPr>
        <p:blipFill>
          <a:blip r:embed="rId1"/>
          <a:stretch/>
        </p:blipFill>
        <p:spPr>
          <a:xfrm>
            <a:off x="714240" y="2857680"/>
            <a:ext cx="4442040" cy="35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6500880" y="4643280"/>
            <a:ext cx="1811160" cy="1928880"/>
          </a:xfrm>
          <a:prstGeom prst="rect">
            <a:avLst/>
          </a:prstGeom>
          <a:ln w="0">
            <a:noFill/>
          </a:ln>
        </p:spPr>
      </p:pic>
      <p:sp>
        <p:nvSpPr>
          <p:cNvPr id="86" name="矩形 2"/>
          <p:cNvSpPr/>
          <p:nvPr/>
        </p:nvSpPr>
        <p:spPr>
          <a:xfrm>
            <a:off x="142920" y="71280"/>
            <a:ext cx="88581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脂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辨别方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取少量食物，在白纸上挤压、滑动，看看会留下油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C:\Users\Administrator\AppData\Roaming\Tencent\Users\173692760\QQ\WinTemp\RichOle\_G4}P@DE%ST]Y8KW}E]ZK@9.jpg"/>
          <p:cNvPicPr/>
          <p:nvPr/>
        </p:nvPicPr>
        <p:blipFill>
          <a:blip r:embed="rId2"/>
          <a:stretch/>
        </p:blipFill>
        <p:spPr>
          <a:xfrm>
            <a:off x="571680" y="2857680"/>
            <a:ext cx="4530600" cy="3071520"/>
          </a:xfrm>
          <a:prstGeom prst="rect">
            <a:avLst/>
          </a:prstGeom>
          <a:ln w="0">
            <a:noFill/>
          </a:ln>
        </p:spPr>
      </p:pic>
      <p:sp>
        <p:nvSpPr>
          <p:cNvPr id="88" name="矩形 6"/>
          <p:cNvSpPr/>
          <p:nvPr/>
        </p:nvSpPr>
        <p:spPr>
          <a:xfrm>
            <a:off x="1470600" y="5929200"/>
            <a:ext cx="28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肥肉  花生  食用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云形标注 7"/>
          <p:cNvSpPr/>
          <p:nvPr/>
        </p:nvSpPr>
        <p:spPr>
          <a:xfrm>
            <a:off x="5429160" y="2286000"/>
            <a:ext cx="3714840" cy="1785960"/>
          </a:xfrm>
          <a:prstGeom prst="cloudCallout">
            <a:avLst>
              <a:gd name="adj1" fmla="val -10921"/>
              <a:gd name="adj2" fmla="val 804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和水渍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142920" y="71280"/>
            <a:ext cx="88581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淀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辨别方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取少量食物，滴一滴碘酒，看看会不会变蓝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3206D"/>
          <p:cNvPicPr/>
          <p:nvPr/>
        </p:nvPicPr>
        <p:blipFill>
          <a:blip r:embed="rId1"/>
          <a:stretch/>
        </p:blipFill>
        <p:spPr>
          <a:xfrm>
            <a:off x="214200" y="2714760"/>
            <a:ext cx="5643720" cy="4000320"/>
          </a:xfrm>
          <a:prstGeom prst="rect">
            <a:avLst/>
          </a:prstGeom>
          <a:ln w="0">
            <a:noFill/>
          </a:ln>
        </p:spPr>
      </p:pic>
      <p:sp>
        <p:nvSpPr>
          <p:cNvPr id="92" name="矩形 3"/>
          <p:cNvSpPr/>
          <p:nvPr/>
        </p:nvSpPr>
        <p:spPr>
          <a:xfrm>
            <a:off x="6000840" y="32716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淀粉是糖类的一种。碘酒只能辨别淀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142920" y="21420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知道食物中是否含有蛋白质、维生素、矿物质等营养，我们可以采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看标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Administrator\AppData\Roaming\Tencent\Users\173692760\QQ\WinTemp\RichOle\Y(YTLZ(9Z1FI5L@NYSI9F85.jpg"/>
          <p:cNvPicPr/>
          <p:nvPr/>
        </p:nvPicPr>
        <p:blipFill>
          <a:blip r:embed="rId1"/>
          <a:stretch/>
        </p:blipFill>
        <p:spPr>
          <a:xfrm>
            <a:off x="3071880" y="2571840"/>
            <a:ext cx="3071880" cy="266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Administrator\AppData\Roaming\Tencent\Users\173692760\QQ\WinTemp\RichOle\YK)OFC%QTKT]50U7F(V4999.jpg"/>
          <p:cNvPicPr/>
          <p:nvPr/>
        </p:nvPicPr>
        <p:blipFill>
          <a:blip r:embed="rId2"/>
          <a:stretch/>
        </p:blipFill>
        <p:spPr>
          <a:xfrm>
            <a:off x="0" y="2571840"/>
            <a:ext cx="295416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Administrator\AppData\Roaming\Tencent\Users\173692760\QQ\WinTemp\RichOle\`]~}5RLFL5~0T`DENE]XRZ7.jpg"/>
          <p:cNvPicPr/>
          <p:nvPr/>
        </p:nvPicPr>
        <p:blipFill>
          <a:blip r:embed="rId3"/>
          <a:stretch/>
        </p:blipFill>
        <p:spPr>
          <a:xfrm>
            <a:off x="6215040" y="2571840"/>
            <a:ext cx="2928960" cy="264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Users\Administrator\AppData\Roaming\Tencent\Users\173692760\QQ\WinTemp\RichOle\}P_X5GESY$8NCUDOTBX0CI0.jpg"/>
          <p:cNvPicPr/>
          <p:nvPr/>
        </p:nvPicPr>
        <p:blipFill>
          <a:blip r:embed="rId4"/>
          <a:stretch/>
        </p:blipFill>
        <p:spPr>
          <a:xfrm>
            <a:off x="2714760" y="5429160"/>
            <a:ext cx="6172200" cy="1190880"/>
          </a:xfrm>
          <a:prstGeom prst="rect">
            <a:avLst/>
          </a:prstGeom>
          <a:ln w="0">
            <a:noFill/>
          </a:ln>
        </p:spPr>
      </p:pic>
      <p:sp>
        <p:nvSpPr>
          <p:cNvPr id="98" name="矩形 10"/>
          <p:cNvSpPr/>
          <p:nvPr/>
        </p:nvSpPr>
        <p:spPr>
          <a:xfrm>
            <a:off x="594360" y="571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查阅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428920" y="157176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查阅资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等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79280" y="2320560"/>
            <a:ext cx="8820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体维持健康需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蛋白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（         ）、（           ）、（          ）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矿物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膳食纤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把食物放在白纸上挤压、滑动，白纸上留下油渍，说明这种食物含（         ）。在食物上滴碘酒，是为了检测食物中是否含有（          ）。想知道食物中是否含有蛋白质、维生素、矿物质等营养，我们可以采用看标签或（                      ） 等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58000" y="357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糖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11280" y="981000"/>
            <a:ext cx="22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571920" y="1000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脂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128000" y="3068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脂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714680" y="44290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淀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857760" y="585792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查阅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菠菜"/>
          <p:cNvPicPr/>
          <p:nvPr/>
        </p:nvPicPr>
        <p:blipFill>
          <a:blip r:embed="rId1"/>
          <a:stretch/>
        </p:blipFill>
        <p:spPr>
          <a:xfrm>
            <a:off x="5357880" y="2571840"/>
            <a:ext cx="2214360" cy="2143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C:\Users\Administrator\AppData\Roaming\Tencent\Users\173692760\QQ\WinTemp\RichOle\V]W%3`J8SYC`FU6SI3SJIKF.jpg"/>
          <p:cNvPicPr/>
          <p:nvPr/>
        </p:nvPicPr>
        <p:blipFill>
          <a:blip r:embed="rId2"/>
          <a:stretch/>
        </p:blipFill>
        <p:spPr>
          <a:xfrm>
            <a:off x="0" y="0"/>
            <a:ext cx="2928960" cy="2451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C:\Users\Administrator\AppData\Roaming\Tencent\Users\173692760\QQ\WinTemp\RichOle\1~78]2RYET8UMA{BI9G14X2.jpg"/>
          <p:cNvPicPr/>
          <p:nvPr/>
        </p:nvPicPr>
        <p:blipFill>
          <a:blip r:embed="rId3"/>
          <a:stretch/>
        </p:blipFill>
        <p:spPr>
          <a:xfrm>
            <a:off x="3044880" y="0"/>
            <a:ext cx="2741400" cy="242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C:\Users\Administrator\AppData\Roaming\Tencent\Users\173692760\QQ\WinTemp\RichOle\(}EDS1P3TFOE0)YS50[67@M.jpg"/>
          <p:cNvPicPr/>
          <p:nvPr/>
        </p:nvPicPr>
        <p:blipFill>
          <a:blip r:embed="rId4"/>
          <a:stretch/>
        </p:blipFill>
        <p:spPr>
          <a:xfrm>
            <a:off x="5929200" y="0"/>
            <a:ext cx="3214800" cy="2451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C:\Users\Administrator\AppData\Roaming\Tencent\Users\173692760\QQ\WinTemp\RichOle\~Q0M%K@XX1()6GW8${NP@J8.jpg"/>
          <p:cNvPicPr/>
          <p:nvPr/>
        </p:nvPicPr>
        <p:blipFill>
          <a:blip r:embed="rId5"/>
          <a:stretch/>
        </p:blipFill>
        <p:spPr>
          <a:xfrm>
            <a:off x="71280" y="2571840"/>
            <a:ext cx="2571840" cy="207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C:\Users\Administrator\AppData\Roaming\Tencent\Users\173692760\QQ\WinTemp\RichOle\{952R~}TN4ST4B8_8YQ`$IB.jpg"/>
          <p:cNvPicPr/>
          <p:nvPr/>
        </p:nvPicPr>
        <p:blipFill>
          <a:blip r:embed="rId6"/>
          <a:stretch/>
        </p:blipFill>
        <p:spPr>
          <a:xfrm>
            <a:off x="2747880" y="2571840"/>
            <a:ext cx="24670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C:\Users\Administrator\AppData\Roaming\Tencent\Users\173692760\QQ\WinTemp\RichOle\M)E4213$N4G7P4~NF8N{6SY.jpg"/>
          <p:cNvPicPr/>
          <p:nvPr/>
        </p:nvPicPr>
        <p:blipFill>
          <a:blip r:embed="rId7"/>
          <a:stretch/>
        </p:blipFill>
        <p:spPr>
          <a:xfrm>
            <a:off x="7715160" y="2571840"/>
            <a:ext cx="1428840" cy="2149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C:\Users\Administrator\AppData\Roaming\Tencent\Users\173692760\QQ\WinTemp\RichOle\K[QZQ_95X%C(UA[L90KCD7C.jpg"/>
          <p:cNvPicPr/>
          <p:nvPr/>
        </p:nvPicPr>
        <p:blipFill>
          <a:blip r:embed="rId8"/>
          <a:stretch/>
        </p:blipFill>
        <p:spPr>
          <a:xfrm>
            <a:off x="0" y="4870440"/>
            <a:ext cx="2071800" cy="198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C:\Users\Administrator\AppData\Roaming\Tencent\Users\173692760\QQ\WinTemp\RichOle\GI_MA7NXSMA_R9)~4PTHTWA.jpg"/>
          <p:cNvPicPr/>
          <p:nvPr/>
        </p:nvPicPr>
        <p:blipFill>
          <a:blip r:embed="rId9"/>
          <a:stretch/>
        </p:blipFill>
        <p:spPr>
          <a:xfrm>
            <a:off x="2214720" y="4870440"/>
            <a:ext cx="2286000" cy="1987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C:\Users\Administrator\AppData\Roaming\Tencent\Users\173692760\QQ\WinTemp\RichOle\O%Y@K28%[H93LR8U3UQJ$K8.jpg"/>
          <p:cNvPicPr/>
          <p:nvPr/>
        </p:nvPicPr>
        <p:blipFill>
          <a:blip r:embed="rId10"/>
          <a:stretch/>
        </p:blipFill>
        <p:spPr>
          <a:xfrm>
            <a:off x="4572000" y="4929120"/>
            <a:ext cx="2200320" cy="192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3" descr="C:\Users\Administrator\AppData\Roaming\Tencent\Users\173692760\QQ\WinTemp\RichOle\U%I2_6I)8}FA}10BTQ(1)VF.jpg"/>
          <p:cNvPicPr/>
          <p:nvPr/>
        </p:nvPicPr>
        <p:blipFill>
          <a:blip r:embed="rId11"/>
          <a:stretch/>
        </p:blipFill>
        <p:spPr>
          <a:xfrm>
            <a:off x="6858000" y="492912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118" name="矩形 23"/>
          <p:cNvSpPr/>
          <p:nvPr/>
        </p:nvSpPr>
        <p:spPr>
          <a:xfrm>
            <a:off x="4178520" y="2149560"/>
            <a:ext cx="6883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没有一种食物包含所有的营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4"/>
          <p:cNvSpPr/>
          <p:nvPr/>
        </p:nvSpPr>
        <p:spPr>
          <a:xfrm>
            <a:off x="611280" y="4429080"/>
            <a:ext cx="79930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不是每种食物都包含多种营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42920" y="1481760"/>
            <a:ext cx="885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结论</a:t>
            </a: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我们的身体需要各种营养，这些营养储存在种类丰富的食物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我们从各种食物中获取营养，这些营养合理搭配，保证我们正常生活和成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57120" y="50292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物所含的营养成分非常丰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6500880" y="1785960"/>
            <a:ext cx="2428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蛋白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糖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脂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矿物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4643280" y="3159000"/>
            <a:ext cx="200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营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左大括号 4"/>
          <p:cNvSpPr/>
          <p:nvPr/>
        </p:nvSpPr>
        <p:spPr>
          <a:xfrm>
            <a:off x="6000840" y="2143080"/>
            <a:ext cx="428400" cy="350064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3500640"/>
              <a:gd name="textAreaBottom" fmla="*/ 3489840 h 350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"/>
                  <a:pt x="10800" y="220"/>
                </a:cubicBezTo>
                <a:lnTo>
                  <a:pt x="10800" y="10580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0"/>
                  <a:pt x="10800" y="11020"/>
                </a:cubicBezTo>
                <a:lnTo>
                  <a:pt x="10800" y="21380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cap="rnd" w="31680">
            <a:solidFill>
              <a:srgbClr val="b6dcd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357120" y="2214720"/>
            <a:ext cx="419904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:\Users\Administrator\AppData\Roaming\Tencent\Users\173692760\QQ\WinTemp\RichOle\DX_]]TT{W5N@G3N}VN~1L8W.jpg"/>
          <p:cNvPicPr/>
          <p:nvPr/>
        </p:nvPicPr>
        <p:blipFill>
          <a:blip r:embed="rId1"/>
          <a:stretch/>
        </p:blipFill>
        <p:spPr>
          <a:xfrm>
            <a:off x="285840" y="1357200"/>
            <a:ext cx="4638600" cy="3286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蛋白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00040" y="5000760"/>
            <a:ext cx="807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蛋白质：构成人体肌肉、内脏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头发、指甲和血液的主要成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5214960" y="214308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豆类、家禽类、肉类、水产类、蛋类、内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脂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357120" y="53578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脂肪：人体能量的主要来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214960" y="1857240"/>
            <a:ext cx="392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类、巧克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、鸭蛋、花生、核桃、果仁、芝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C:\Users\Administrator\AppData\Roaming\Tencent\Users\173692760\QQ\WinTemp\RichOle\S7~}E7F)WO%G}NC7_1RK1XP.jpg"/>
          <p:cNvPicPr/>
          <p:nvPr/>
        </p:nvPicPr>
        <p:blipFill>
          <a:blip r:embed="rId1"/>
          <a:stretch/>
        </p:blipFill>
        <p:spPr>
          <a:xfrm>
            <a:off x="357120" y="1500120"/>
            <a:ext cx="4605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糖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357120" y="53578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糖类：人体能量的主要来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5000760" y="221472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米、面条、苹果、香蕉、桔子、橙子、西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C:\Users\Administrator\AppData\Roaming\Tencent\Users\173692760\QQ\WinTemp\RichOle\W%@LX7IE(IE8MTO}BVVPJTG.jpg"/>
          <p:cNvPicPr/>
          <p:nvPr/>
        </p:nvPicPr>
        <p:blipFill>
          <a:blip r:embed="rId1"/>
          <a:stretch/>
        </p:blipFill>
        <p:spPr>
          <a:xfrm>
            <a:off x="214200" y="1285920"/>
            <a:ext cx="4500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维生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357120" y="52308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维生素：调节身体机能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2786040" y="407196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Administrator\AppData\Roaming\Tencent\Users\173692760\QQ\WinTemp\RichOle\E[]N([7W(882]122[PTAGW1.jpg"/>
          <p:cNvPicPr/>
          <p:nvPr/>
        </p:nvPicPr>
        <p:blipFill>
          <a:blip r:embed="rId1"/>
          <a:stretch/>
        </p:blipFill>
        <p:spPr>
          <a:xfrm>
            <a:off x="4700520" y="1214280"/>
            <a:ext cx="4229280" cy="261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Administrator\AppData\Roaming\Tencent\Users\173692760\QQ\WinTemp\RichOle\MYYV)W0BGST%OQCY3Y6WBNP.jpg"/>
          <p:cNvPicPr/>
          <p:nvPr/>
        </p:nvPicPr>
        <p:blipFill>
          <a:blip r:embed="rId2"/>
          <a:stretch/>
        </p:blipFill>
        <p:spPr>
          <a:xfrm>
            <a:off x="200160" y="1214280"/>
            <a:ext cx="42145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矿物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357120" y="515952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矿物质：调节身体机能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429160" y="2143080"/>
            <a:ext cx="35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、食盐、海带、木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C:\Users\Administrator\AppData\Roaming\Tencent\Users\173692760\QQ\WinTemp\RichOle\BJK7}SBHCYH6B6VRQWV{7[R.jpg"/>
          <p:cNvPicPr/>
          <p:nvPr/>
        </p:nvPicPr>
        <p:blipFill>
          <a:blip r:embed="rId1"/>
          <a:stretch/>
        </p:blipFill>
        <p:spPr>
          <a:xfrm>
            <a:off x="214200" y="1214280"/>
            <a:ext cx="478656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357120" y="537372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水：人对水的需要仅次于氧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5715000" y="150012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饮用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Administrator\AppData\Roaming\Tencent\Users\173692760\QQ\WinTemp\RichOle\2QXCI2)E`2(041CEX_NKVG0.jpg"/>
          <p:cNvPicPr/>
          <p:nvPr/>
        </p:nvPicPr>
        <p:blipFill>
          <a:blip r:embed="rId1"/>
          <a:stretch/>
        </p:blipFill>
        <p:spPr>
          <a:xfrm>
            <a:off x="214200" y="1214280"/>
            <a:ext cx="5214960" cy="3829320"/>
          </a:xfrm>
          <a:prstGeom prst="rect">
            <a:avLst/>
          </a:prstGeom>
          <a:ln w="0">
            <a:noFill/>
          </a:ln>
        </p:spPr>
      </p:pic>
      <p:sp>
        <p:nvSpPr>
          <p:cNvPr id="74" name="矩形 5"/>
          <p:cNvSpPr/>
          <p:nvPr/>
        </p:nvSpPr>
        <p:spPr>
          <a:xfrm>
            <a:off x="5857920" y="3286080"/>
            <a:ext cx="328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约占人体组成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6"/>
          <p:cNvSpPr/>
          <p:nvPr/>
        </p:nvSpPr>
        <p:spPr>
          <a:xfrm>
            <a:off x="142920" y="28584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线：各种营养的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42920" y="1643040"/>
            <a:ext cx="4143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蛋白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糖类、脂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维生素、矿物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714920" y="1643040"/>
            <a:ext cx="4429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体能量的主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体肌肉、内脏、血液的主要成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节身体节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2000160" y="2000160"/>
            <a:ext cx="2714760" cy="228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10"/>
          <p:cNvSpPr/>
          <p:nvPr/>
        </p:nvSpPr>
        <p:spPr>
          <a:xfrm flipV="1">
            <a:off x="2928960" y="2000160"/>
            <a:ext cx="2000160" cy="1928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3"/>
          <p:cNvSpPr/>
          <p:nvPr/>
        </p:nvSpPr>
        <p:spPr>
          <a:xfrm>
            <a:off x="3857760" y="5715000"/>
            <a:ext cx="92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</cp:lastModifiedBy>
  <dcterms:modified xsi:type="dcterms:W3CDTF">2013-05-10T07:57:35Z</dcterms:modified>
  <cp:revision>128</cp:revision>
  <dc:subject/>
  <dc:title>幻灯片 1</dc:title>
</cp:coreProperties>
</file>