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BC1-BCB4-400C-A770-B3E43683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9AB-D394-49C9-950F-D4F31E28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3C8-06F0-498F-BF53-8B7FDBF9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3A3-6F42-485D-AB6D-2D11FD94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5E51-5921-488A-9CFD-E904332A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BA8A-55BE-4A23-ADB0-AED2FDC3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7F6-404B-4A8E-BBF4-5C6164A0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E363-CA7D-43CB-8BC1-57413146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354D-E79D-4A95-9004-5FE17215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AFA7-F02D-4CC0-9F6F-AF13882D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F2EC-306F-486D-9569-548E15C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B03-9EDD-412F-84A2-A95B294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9EF2-6151-45DE-B540-6AACF33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50F7-83DB-47C7-B259-1FDBDEA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C73B-6E44-4BBA-B9BB-B3463CE4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B5E3-0D0A-4B26-9CD6-5ECC484C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E8BE-D168-4D01-88B6-B8AD2800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EAF9-3813-469E-B2FF-240971FF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F029-722C-40B9-9501-CB76149E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7596-5554-4141-9B16-052073FA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1EE9-7E8C-4CB5-BFED-5DAA47A7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576D-15F4-4269-AF2B-DB41134E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570-BD84-4D76-AA30-0378A86D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8E73-CB78-4750-B1F8-9B8BDAC6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AA24-A91E-4670-AE67-5920BAE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9EDD-80AD-473B-836A-0DD000C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3172-9E8C-4DDF-A96F-3CD925D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4EEE-C0F8-4B1B-9B3D-455867DD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F798-4367-454D-ACB6-9F14D2DD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9AF6-12A2-4FC8-A124-AC9553CF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518-3549-48D7-8BF6-4AE2C73A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54A-FBC4-4DCB-9624-4BE1B24C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58F-6CAD-443C-AD16-2D05AE27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B1D-61A4-4A36-A00A-94AE073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C55-BB6A-41EF-94E4-06BDA91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97A-5080-4BF5-BEED-A6A41322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2F3C-7882-43D2-A40C-81D36C25E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772-9199-4E2F-8F52-404AEB70F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B098-9E17-4B2D-9357-AE71991C43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营养要均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1071720"/>
            <a:ext cx="4143240" cy="4643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9"/>
          <p:cNvSpPr/>
          <p:nvPr/>
        </p:nvSpPr>
        <p:spPr>
          <a:xfrm>
            <a:off x="4429080" y="571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是高热量高脂肪，摄入脂肪过多，人就会发胖，因此只宜少量进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285840" y="1285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071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14200" y="1071720"/>
            <a:ext cx="8715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荤素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粗细粮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日吃适当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鲜水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吃好，午吃饱，晚吃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运动量比较大，需要多吃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食物，补充足够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手指间有一些脱皮，需要多吃含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生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0" y="777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膳食营养搭配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42920" y="5713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，这些营养必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搭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能保证我们正常生活和成长，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均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357120" y="21420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428760" y="5873760"/>
            <a:ext cx="4000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85840" y="1353960"/>
          <a:ext cx="8502480" cy="2860920"/>
        </p:xfrm>
        <a:graphic>
          <a:graphicData uri="http://schemas.openxmlformats.org/drawingml/2006/table">
            <a:tbl>
              <a:tblPr/>
              <a:tblGrid>
                <a:gridCol w="1111320"/>
                <a:gridCol w="4579920"/>
                <a:gridCol w="28112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该食谱的优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5"/>
          <p:cNvSpPr/>
          <p:nvPr/>
        </p:nvSpPr>
        <p:spPr>
          <a:xfrm>
            <a:off x="357120" y="4429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参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饭、面条、牛奶、面包、西红柿炒蛋、紫菜汤、牛肉、鸡肉、炒青菜、糖醋鱼、红烧肉、炒四季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是小小营养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400720" y="214200"/>
            <a:ext cx="31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天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46160" y="14292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有营养均衡，才能保证我们正常的生活和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类食物在均衡营养中的地位、比重是一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指脱皮、口腔溃疡时，需要多吃富含维生素的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60400" y="142812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50960" y="32140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85880" y="5083920"/>
            <a:ext cx="8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95280" y="333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哪些做法利于我们保持长期均衡营养？请在括号里打“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吃爱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荤素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选零食时也要考虑营养丰富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粮、细粮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量大时，适当多吃能提供能量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糖既好吃又提供能量，应该多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和水果天天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524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79640" y="371628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79640" y="1916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79640" y="3068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79640" y="573876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14200" y="357120"/>
            <a:ext cx="500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奶类和奶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豆类和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虾类、蛋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、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谷物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4643280" y="35100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我们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我们的生长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保持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"/>
          <p:cNvSpPr/>
          <p:nvPr/>
        </p:nvSpPr>
        <p:spPr>
          <a:xfrm>
            <a:off x="1785960" y="642960"/>
            <a:ext cx="2786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"/>
          <p:cNvSpPr/>
          <p:nvPr/>
        </p:nvSpPr>
        <p:spPr>
          <a:xfrm>
            <a:off x="3071880" y="1714680"/>
            <a:ext cx="1643040" cy="857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>
            <a:off x="3143160" y="2857680"/>
            <a:ext cx="1500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"/>
          <p:cNvSpPr/>
          <p:nvPr/>
        </p:nvSpPr>
        <p:spPr>
          <a:xfrm flipV="1">
            <a:off x="3143160" y="3142800"/>
            <a:ext cx="1500120" cy="785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"/>
          <p:cNvSpPr/>
          <p:nvPr/>
        </p:nvSpPr>
        <p:spPr>
          <a:xfrm>
            <a:off x="3143160" y="5072040"/>
            <a:ext cx="157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"/>
          <p:cNvSpPr/>
          <p:nvPr/>
        </p:nvSpPr>
        <p:spPr>
          <a:xfrm flipV="1">
            <a:off x="1785960" y="785520"/>
            <a:ext cx="2786040" cy="5357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2858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获取的营养越多越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istrator\AppData\Roaming\Tencent\Users\173692760\QQ\WinTemp\RichOle\~QP759BCLZ]YBWEU(EENQZR.jpg"/>
          <p:cNvPicPr/>
          <p:nvPr/>
        </p:nvPicPr>
        <p:blipFill>
          <a:blip r:embed="rId1"/>
          <a:stretch/>
        </p:blipFill>
        <p:spPr>
          <a:xfrm>
            <a:off x="0" y="2714760"/>
            <a:ext cx="41101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YFXNLLZKN5`Y~$@%7QCRE5Y.jpg"/>
          <p:cNvPicPr/>
          <p:nvPr/>
        </p:nvPicPr>
        <p:blipFill>
          <a:blip r:embed="rId2"/>
          <a:stretch/>
        </p:blipFill>
        <p:spPr>
          <a:xfrm>
            <a:off x="4179960" y="2714760"/>
            <a:ext cx="4964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4190760" cy="2819160"/>
            <a:chOff x="0" y="0"/>
            <a:chExt cx="4190760" cy="281916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4190760" cy="2819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谷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玉米"/>
            <p:cNvPicPr/>
            <p:nvPr/>
          </p:nvPicPr>
          <p:blipFill>
            <a:blip r:embed="rId1"/>
            <a:stretch/>
          </p:blipFill>
          <p:spPr>
            <a:xfrm>
              <a:off x="1571400" y="1715040"/>
              <a:ext cx="1047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煮粉"/>
            <p:cNvPicPr/>
            <p:nvPr/>
          </p:nvPicPr>
          <p:blipFill>
            <a:blip r:embed="rId2"/>
            <a:stretch/>
          </p:blipFill>
          <p:spPr>
            <a:xfrm>
              <a:off x="2922840" y="1571040"/>
              <a:ext cx="1126080" cy="10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面"/>
            <p:cNvPicPr/>
            <p:nvPr/>
          </p:nvPicPr>
          <p:blipFill>
            <a:blip r:embed="rId3"/>
            <a:stretch/>
          </p:blipFill>
          <p:spPr>
            <a:xfrm>
              <a:off x="214200" y="1500120"/>
              <a:ext cx="1142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饭"/>
            <p:cNvPicPr/>
            <p:nvPr/>
          </p:nvPicPr>
          <p:blipFill>
            <a:blip r:embed="rId4"/>
            <a:stretch/>
          </p:blipFill>
          <p:spPr>
            <a:xfrm>
              <a:off x="214200" y="214560"/>
              <a:ext cx="12225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面包"/>
            <p:cNvPicPr/>
            <p:nvPr/>
          </p:nvPicPr>
          <p:blipFill>
            <a:blip r:embed="rId5"/>
            <a:stretch/>
          </p:blipFill>
          <p:spPr>
            <a:xfrm>
              <a:off x="2713680" y="214560"/>
              <a:ext cx="1309680" cy="104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9"/>
          <p:cNvSpPr/>
          <p:nvPr/>
        </p:nvSpPr>
        <p:spPr>
          <a:xfrm>
            <a:off x="3286080" y="4786200"/>
            <a:ext cx="257184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鱼"/>
          <p:cNvPicPr/>
          <p:nvPr/>
        </p:nvPicPr>
        <p:blipFill>
          <a:blip r:embed="rId6"/>
          <a:stretch/>
        </p:blipFill>
        <p:spPr>
          <a:xfrm>
            <a:off x="4276800" y="4929120"/>
            <a:ext cx="143820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肉"/>
          <p:cNvPicPr/>
          <p:nvPr/>
        </p:nvPicPr>
        <p:blipFill>
          <a:blip r:embed="rId7"/>
          <a:stretch/>
        </p:blipFill>
        <p:spPr>
          <a:xfrm>
            <a:off x="4286160" y="5786280"/>
            <a:ext cx="1500120" cy="928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5072040" y="0"/>
            <a:ext cx="4071600" cy="2857320"/>
            <a:chOff x="5072040" y="0"/>
            <a:chExt cx="4071600" cy="2857320"/>
          </a:xfrm>
        </p:grpSpPr>
        <p:sp>
          <p:nvSpPr>
            <p:cNvPr id="140" name="Rectangle 13"/>
            <p:cNvSpPr/>
            <p:nvPr/>
          </p:nvSpPr>
          <p:spPr>
            <a:xfrm>
              <a:off x="5072040" y="0"/>
              <a:ext cx="4071600" cy="285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果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4" descr="橙"/>
            <p:cNvPicPr/>
            <p:nvPr/>
          </p:nvPicPr>
          <p:blipFill>
            <a:blip r:embed="rId8"/>
            <a:stretch/>
          </p:blipFill>
          <p:spPr>
            <a:xfrm>
              <a:off x="7714800" y="1785960"/>
              <a:ext cx="14288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5" descr="萝卜"/>
            <p:cNvPicPr/>
            <p:nvPr/>
          </p:nvPicPr>
          <p:blipFill>
            <a:blip r:embed="rId9"/>
            <a:stretch/>
          </p:blipFill>
          <p:spPr>
            <a:xfrm>
              <a:off x="7714800" y="0"/>
              <a:ext cx="142884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6" descr="白菜"/>
            <p:cNvPicPr/>
            <p:nvPr/>
          </p:nvPicPr>
          <p:blipFill>
            <a:blip r:embed="rId10"/>
            <a:stretch/>
          </p:blipFill>
          <p:spPr>
            <a:xfrm>
              <a:off x="5072040" y="0"/>
              <a:ext cx="14288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7" descr="苹果"/>
            <p:cNvPicPr/>
            <p:nvPr/>
          </p:nvPicPr>
          <p:blipFill>
            <a:blip r:embed="rId11"/>
            <a:stretch/>
          </p:blipFill>
          <p:spPr>
            <a:xfrm>
              <a:off x="5072040" y="1748520"/>
              <a:ext cx="1357200" cy="110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18"/>
          <p:cNvSpPr/>
          <p:nvPr/>
        </p:nvSpPr>
        <p:spPr>
          <a:xfrm>
            <a:off x="6000840" y="4786200"/>
            <a:ext cx="314316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图片1_副本"/>
          <p:cNvPicPr/>
          <p:nvPr/>
        </p:nvPicPr>
        <p:blipFill>
          <a:blip r:embed="rId12"/>
          <a:stretch/>
        </p:blipFill>
        <p:spPr>
          <a:xfrm>
            <a:off x="7467480" y="5181480"/>
            <a:ext cx="1447920" cy="139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0"/>
          <p:cNvSpPr/>
          <p:nvPr/>
        </p:nvSpPr>
        <p:spPr>
          <a:xfrm>
            <a:off x="0" y="306396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吃哪类食物？其它食物要不要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每种食物吃的数量是不是要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1"/>
          <p:cNvGrpSpPr/>
          <p:nvPr/>
        </p:nvGrpSpPr>
        <p:grpSpPr>
          <a:xfrm>
            <a:off x="0" y="4800600"/>
            <a:ext cx="2971440" cy="2057400"/>
            <a:chOff x="0" y="4800600"/>
            <a:chExt cx="2971440" cy="2057400"/>
          </a:xfrm>
        </p:grpSpPr>
        <p:sp>
          <p:nvSpPr>
            <p:cNvPr id="149" name="Rectangle 22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3" descr="图片1_副本"/>
            <p:cNvPicPr/>
            <p:nvPr/>
          </p:nvPicPr>
          <p:blipFill>
            <a:blip r:embed="rId13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5" descr="图片1_副本"/>
            <p:cNvPicPr/>
            <p:nvPr/>
          </p:nvPicPr>
          <p:blipFill>
            <a:blip r:embed="rId14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26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7" descr="图片1_副本"/>
            <p:cNvPicPr/>
            <p:nvPr/>
          </p:nvPicPr>
          <p:blipFill>
            <a:blip r:embed="rId15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8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9" descr="图片1_副本"/>
            <p:cNvPicPr/>
            <p:nvPr/>
          </p:nvPicPr>
          <p:blipFill>
            <a:blip r:embed="rId16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30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1" descr="图片1_副本"/>
            <p:cNvPicPr/>
            <p:nvPr/>
          </p:nvPicPr>
          <p:blipFill>
            <a:blip r:embed="rId17"/>
            <a:stretch/>
          </p:blipFill>
          <p:spPr>
            <a:xfrm>
              <a:off x="123480" y="5143680"/>
              <a:ext cx="144756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5286240" y="5715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5286240" y="42861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"/>
          <p:cNvSpPr/>
          <p:nvPr/>
        </p:nvSpPr>
        <p:spPr>
          <a:xfrm>
            <a:off x="5286240" y="27860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"/>
          <p:cNvSpPr/>
          <p:nvPr/>
        </p:nvSpPr>
        <p:spPr>
          <a:xfrm>
            <a:off x="5286240" y="1500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9"/>
          <p:cNvSpPr/>
          <p:nvPr/>
        </p:nvSpPr>
        <p:spPr>
          <a:xfrm>
            <a:off x="5286240" y="357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5715000" y="571680"/>
            <a:ext cx="335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你能从中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均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的秘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Users\Administrator\AppData\Roaming\Tencent\Users\173692760\QQ\WinTemp\RichOle\]9QPKG@C%H~EZYZZ1I6{8OL.jpg"/>
          <p:cNvPicPr/>
          <p:nvPr/>
        </p:nvPicPr>
        <p:blipFill>
          <a:blip r:embed="rId3"/>
          <a:stretch/>
        </p:blipFill>
        <p:spPr>
          <a:xfrm>
            <a:off x="4357800" y="2643120"/>
            <a:ext cx="4572000" cy="1214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500040" y="5786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Administrator\AppData\Roaming\Tencent\Users\173692760\QQ\WinTemp\RichOle\B9%CI6M5$M50~D32CVOZK~H.jpg"/>
          <p:cNvPicPr/>
          <p:nvPr/>
        </p:nvPicPr>
        <p:blipFill>
          <a:blip r:embed="rId4"/>
          <a:stretch/>
        </p:blipFill>
        <p:spPr>
          <a:xfrm>
            <a:off x="0" y="0"/>
            <a:ext cx="4143240" cy="4357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9"/>
          <p:cNvSpPr/>
          <p:nvPr/>
        </p:nvSpPr>
        <p:spPr>
          <a:xfrm>
            <a:off x="4429080" y="42861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含有碳水混合物，提供我们每天所需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4357800"/>
            <a:ext cx="4143240" cy="1357200"/>
          </a:xfrm>
          <a:prstGeom prst="rect">
            <a:avLst/>
          </a:prstGeom>
          <a:ln w="0">
            <a:noFill/>
          </a:ln>
        </p:spPr>
      </p:pic>
      <p:sp>
        <p:nvSpPr>
          <p:cNvPr id="177" name="矩形 9"/>
          <p:cNvSpPr/>
          <p:nvPr/>
        </p:nvSpPr>
        <p:spPr>
          <a:xfrm>
            <a:off x="4500720" y="4960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提供纤维，使我们健康成长，减少疾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C:\Users\Administrator\AppData\Roaming\Tencent\Users\173692760\QQ\WinTemp\RichOle\76T6@6412BB@1$`6B@`%`D7.jpg"/>
          <p:cNvPicPr/>
          <p:nvPr/>
        </p:nvPicPr>
        <p:blipFill>
          <a:blip r:embed="rId4"/>
          <a:stretch/>
        </p:blipFill>
        <p:spPr>
          <a:xfrm>
            <a:off x="4357800" y="142920"/>
            <a:ext cx="4643280" cy="157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Administrator\AppData\Roaming\Tencent\Users\173692760\QQ\WinTemp\RichOle\O(A5)_~TV)0PR@X[9`JDF_K.jpg"/>
          <p:cNvPicPr/>
          <p:nvPr/>
        </p:nvPicPr>
        <p:blipFill>
          <a:blip r:embed="rId5"/>
          <a:stretch/>
        </p:blipFill>
        <p:spPr>
          <a:xfrm>
            <a:off x="4357800" y="3786120"/>
            <a:ext cx="4643280" cy="10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4643280" cy="1785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6"/>
          <p:cNvSpPr/>
          <p:nvPr/>
        </p:nvSpPr>
        <p:spPr>
          <a:xfrm>
            <a:off x="14292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307188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2000160"/>
          </a:xfrm>
          <a:prstGeom prst="rect">
            <a:avLst/>
          </a:prstGeom>
          <a:ln w="0">
            <a:noFill/>
          </a:ln>
        </p:spPr>
      </p:pic>
      <p:sp>
        <p:nvSpPr>
          <p:cNvPr id="187" name="矩形 6"/>
          <p:cNvSpPr/>
          <p:nvPr/>
        </p:nvSpPr>
        <p:spPr>
          <a:xfrm>
            <a:off x="214200" y="31431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图片1_副本"/>
          <p:cNvPicPr/>
          <p:nvPr/>
        </p:nvPicPr>
        <p:blipFill>
          <a:blip r:embed="rId4"/>
          <a:stretch/>
        </p:blipFill>
        <p:spPr>
          <a:xfrm>
            <a:off x="5000760" y="1857240"/>
            <a:ext cx="4143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2071800"/>
            <a:ext cx="4143240" cy="3643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9"/>
          <p:cNvSpPr/>
          <p:nvPr/>
        </p:nvSpPr>
        <p:spPr>
          <a:xfrm>
            <a:off x="71280" y="307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107172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0" y="2357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图片1_副本"/>
          <p:cNvPicPr/>
          <p:nvPr/>
        </p:nvPicPr>
        <p:blipFill>
          <a:blip r:embed="rId4"/>
          <a:stretch/>
        </p:blipFill>
        <p:spPr>
          <a:xfrm>
            <a:off x="4643280" y="642960"/>
            <a:ext cx="4143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08T00:20:13Z</dcterms:modified>
  <cp:revision>142</cp:revision>
  <dc:subject/>
  <dc:title>幻灯片 1</dc:title>
</cp:coreProperties>
</file>