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E3F-4629-42B9-BAFB-E9118D15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177-769F-4603-AAB4-7E887381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FD8-6347-4948-952A-695673AF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D8E-131E-4C79-9F41-7E233F6C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8A9-2F74-4A3E-993C-29087335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D0A-59F8-4F15-92C8-D6B13D0C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B9F-C95C-4867-B830-D5FAEE0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1B6-19C0-4AA7-93A7-78FDF20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B2B-83C6-4480-87A6-3D9B285E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BCC-2899-4CBC-9AA4-7323CCD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F9C-8EA1-4938-AB36-CB12AEA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B83-A243-47DE-9FEE-D9C9F9F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5797-6880-412F-B63D-AE04A537C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包发霉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"/>
          <p:cNvPicPr/>
          <p:nvPr/>
        </p:nvPicPr>
        <p:blipFill>
          <a:blip r:embed="rId1"/>
          <a:stretch/>
        </p:blipFill>
        <p:spPr>
          <a:xfrm>
            <a:off x="0" y="1285920"/>
            <a:ext cx="4357800" cy="3319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57160" y="479268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3"/>
          <p:cNvPicPr/>
          <p:nvPr/>
        </p:nvPicPr>
        <p:blipFill>
          <a:blip r:embed="rId2"/>
          <a:stretch/>
        </p:blipFill>
        <p:spPr>
          <a:xfrm>
            <a:off x="4578480" y="128592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5734080" y="4792680"/>
            <a:ext cx="25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湿润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4"/>
          <p:cNvPicPr/>
          <p:nvPr/>
        </p:nvPicPr>
        <p:blipFill>
          <a:blip r:embed="rId1"/>
          <a:stretch/>
        </p:blipFill>
        <p:spPr>
          <a:xfrm>
            <a:off x="4714920" y="1065240"/>
            <a:ext cx="4429080" cy="3270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28592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温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0084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暖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2"/>
          <p:cNvPicPr/>
          <p:nvPr/>
        </p:nvPicPr>
        <p:blipFill>
          <a:blip r:embed="rId2"/>
          <a:stretch/>
        </p:blipFill>
        <p:spPr>
          <a:xfrm>
            <a:off x="0" y="1065240"/>
            <a:ext cx="4214880" cy="3292560"/>
          </a:xfrm>
          <a:prstGeom prst="rect">
            <a:avLst/>
          </a:prstGeom>
          <a:ln w="0">
            <a:noFill/>
          </a:ln>
        </p:spPr>
      </p:pic>
      <p:sp>
        <p:nvSpPr>
          <p:cNvPr id="99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暖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"/>
          <p:cNvSpPr/>
          <p:nvPr/>
        </p:nvSpPr>
        <p:spPr>
          <a:xfrm>
            <a:off x="0" y="214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包发霉是因为在它的上面生长了一种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，与其他生物一样，它的生长需要获取（          ）和适宜的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霉变过程中产生的（         ）含有对人体有害的物质，所以发霉变质的食物是绝对不能食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643120" y="20779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786200" y="26431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571680" y="32860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长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5786280" y="4506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214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发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干燥常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常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低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较高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714680" y="264312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2960" y="329256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分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214720" y="50720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1214280" y="57150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度高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50920" y="200736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在保存的过程中也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霉变过程中产生的霉菌含有对人体有害的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经发霉的食物，扔掉可惜，洗一洗就可以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干燥、常温的地方，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潮湿、常温的地方，是为了研究水分对霉菌生长速度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84160" y="30682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2960" y="19155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50240" y="83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22960" y="407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572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研究光会不会影响霉菌的生长，该怎样设计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3429000"/>
            <a:ext cx="84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两块烘干的面包中各滴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滴水，一块放入透明塑料袋中，一块放入黑色塑料袋中，包扎紧后放到阳台上。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7168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比实验，只改变一个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Administrator\AppData\Roaming\Tencent\Users\173692760\QQ\WinTemp\RichOle\1J2]O_(R8QKP$YQ_PY[9M0Z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48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istrator\AppData\Roaming\Tencent\Users\173692760\QQ\WinTemp\RichOle\J0BG8)2)4@O0{3%B43SUJMR.jpg"/>
          <p:cNvPicPr/>
          <p:nvPr/>
        </p:nvPicPr>
        <p:blipFill>
          <a:blip r:embed="rId2"/>
          <a:stretch/>
        </p:blipFill>
        <p:spPr>
          <a:xfrm>
            <a:off x="4516560" y="0"/>
            <a:ext cx="462744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istrator\AppData\Roaming\Tencent\Users\173692760\QQ\WinTemp\RichOle\KFANE[]M@`8T8F9XH`D[_34.jpg"/>
          <p:cNvPicPr/>
          <p:nvPr/>
        </p:nvPicPr>
        <p:blipFill>
          <a:blip r:embed="rId3"/>
          <a:stretch/>
        </p:blipFill>
        <p:spPr>
          <a:xfrm>
            <a:off x="0" y="36432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7" descr="1.jpg"/>
          <p:cNvPicPr/>
          <p:nvPr/>
        </p:nvPicPr>
        <p:blipFill>
          <a:blip r:embed="rId4"/>
          <a:stretch/>
        </p:blipFill>
        <p:spPr>
          <a:xfrm>
            <a:off x="4500720" y="3624120"/>
            <a:ext cx="464328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0" y="31431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霉的南瓜、甜菜根、土豆、玉米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istrator\AppData\Roaming\Tencent\Users\173692760\QQ\WinTemp\RichOle\YPCMEG1]JEE}N4P7%NAX(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0" y="614988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上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3786120" cy="369252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1071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肉眼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152960" y="107172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借助放大镜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Administrator\AppData\Roaming\Tencent\Users\173692760\QQ\WinTemp\RichOle\W~[_6B76]Q0@CG_CI}{E[NG.jpg"/>
          <p:cNvPicPr/>
          <p:nvPr/>
        </p:nvPicPr>
        <p:blipFill>
          <a:blip r:embed="rId2"/>
          <a:stretch/>
        </p:blipFill>
        <p:spPr>
          <a:xfrm>
            <a:off x="5286240" y="2071800"/>
            <a:ext cx="249084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Administrator\AppData\Roaming\Tencent\Users\173692760\QQ\WinTemp\RichOle\[{@)B7GC[MHZ9@@HZ8(V64S.jpg"/>
          <p:cNvPicPr/>
          <p:nvPr/>
        </p:nvPicPr>
        <p:blipFill>
          <a:blip r:embed="rId3"/>
          <a:stretch/>
        </p:blipFill>
        <p:spPr>
          <a:xfrm>
            <a:off x="4389480" y="2357280"/>
            <a:ext cx="4754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786280" y="1071720"/>
            <a:ext cx="271008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0" y="9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微镜下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50713124738727"/>
          <p:cNvPicPr/>
          <p:nvPr/>
        </p:nvPicPr>
        <p:blipFill>
          <a:blip r:embed="rId2"/>
          <a:stretch/>
        </p:blipFill>
        <p:spPr>
          <a:xfrm>
            <a:off x="142920" y="1714680"/>
            <a:ext cx="478620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143760" y="4000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孢子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3571560" y="4286160"/>
            <a:ext cx="25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215040" y="5214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071720" y="5572080"/>
            <a:ext cx="50004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：面包发霉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哪些因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Administrator\AppData\Roaming\Tencent\Users\173692760\QQ\WinTemp\RichOle\EW7IHPARWJWL_AV)491UH6E.jpg"/>
          <p:cNvPicPr/>
          <p:nvPr/>
        </p:nvPicPr>
        <p:blipFill>
          <a:blip r:embed="rId1"/>
          <a:stretch/>
        </p:blipFill>
        <p:spPr>
          <a:xfrm>
            <a:off x="3286080" y="3786120"/>
            <a:ext cx="440856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2709720" cy="264312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10"/>
          <p:cNvSpPr/>
          <p:nvPr/>
        </p:nvSpPr>
        <p:spPr>
          <a:xfrm>
            <a:off x="5715000" y="1785960"/>
            <a:ext cx="3214800" cy="1643040"/>
          </a:xfrm>
          <a:prstGeom prst="cloudCallout">
            <a:avLst>
              <a:gd name="adj1" fmla="val -21685"/>
              <a:gd name="adj2" fmla="val 742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云形标注 11"/>
          <p:cNvSpPr/>
          <p:nvPr/>
        </p:nvSpPr>
        <p:spPr>
          <a:xfrm flipH="1">
            <a:off x="428760" y="1357200"/>
            <a:ext cx="4000320" cy="1724040"/>
          </a:xfrm>
          <a:prstGeom prst="cloudCallout">
            <a:avLst>
              <a:gd name="adj1" fmla="val -42212"/>
              <a:gd name="adj2" fmla="val 987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71720" y="1571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觉得和温度有关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43760" y="2000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水分也有关系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233280" y="4281480"/>
            <a:ext cx="2455920" cy="236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2928960" y="428292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285840" y="928800"/>
            <a:ext cx="87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保持干燥，在第二块面包上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滴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分别装在两个塑料袋内，用线扎紧袋口放在桌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线形标注 2 7"/>
          <p:cNvSpPr/>
          <p:nvPr/>
        </p:nvSpPr>
        <p:spPr>
          <a:xfrm>
            <a:off x="6786720" y="357192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67583"/>
              <a:gd name="adj6" fmla="val -450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线形标注 2 8"/>
          <p:cNvSpPr/>
          <p:nvPr/>
        </p:nvSpPr>
        <p:spPr>
          <a:xfrm>
            <a:off x="6786720" y="4643280"/>
            <a:ext cx="1500120" cy="71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25388"/>
              <a:gd name="adj6" fmla="val -2653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14200" y="92880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都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滴水，分别装在两个塑料袋内，用线扎紧袋口放在桌上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放进冷藏室，将第二块面包放在温暖的室温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Administrator\AppData\Roaming\Tencent\Users\173692760\QQ\WinTemp\RichOle\)4L7_20GE9RM1[JQM[AD%N2.jpg"/>
          <p:cNvPicPr/>
          <p:nvPr/>
        </p:nvPicPr>
        <p:blipFill>
          <a:blip r:embed="rId1"/>
          <a:stretch/>
        </p:blipFill>
        <p:spPr>
          <a:xfrm>
            <a:off x="122400" y="4000680"/>
            <a:ext cx="5592600" cy="2714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线形标注 2 12"/>
          <p:cNvSpPr/>
          <p:nvPr/>
        </p:nvSpPr>
        <p:spPr>
          <a:xfrm>
            <a:off x="6786720" y="385776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5972"/>
              <a:gd name="adj6" fmla="val 101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寒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线形标注 2 13"/>
          <p:cNvSpPr/>
          <p:nvPr/>
        </p:nvSpPr>
        <p:spPr>
          <a:xfrm>
            <a:off x="6786720" y="485784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49004"/>
              <a:gd name="adj6" fmla="val -1050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面包上霉菌的生长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31800" y="1143000"/>
          <a:ext cx="7797960" cy="5425920"/>
        </p:xfrm>
        <a:graphic>
          <a:graphicData uri="http://schemas.openxmlformats.org/drawingml/2006/table">
            <a:tbl>
              <a:tblPr/>
              <a:tblGrid>
                <a:gridCol w="703440"/>
                <a:gridCol w="1519200"/>
                <a:gridCol w="930240"/>
                <a:gridCol w="928440"/>
                <a:gridCol w="928800"/>
                <a:gridCol w="928800"/>
                <a:gridCol w="928800"/>
                <a:gridCol w="93024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环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条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低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较高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1:54:19Z</dcterms:modified>
  <cp:revision>130</cp:revision>
  <dc:subject/>
  <dc:title>幻灯片 1</dc:title>
</cp:coreProperties>
</file>