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8C9-558E-446B-86F0-342C2FCF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482-2CF4-4046-885C-5E7F46CE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04B-0B28-48D1-8571-8865C46D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E08-A9F0-4006-8BD6-7BEF51BD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24B-47E6-4847-A764-60310E81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F2F-C11F-42B2-82CB-3EAAFBFF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C98-3CA3-465B-A304-06F0DEAF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26C-B1F0-4607-89EA-562FD1B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D4B-F004-40B2-A9B3-CE195D48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005-F3C6-4DCE-8E00-5943B52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401-617A-45FD-9B54-AED461E3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CB1-9264-4E4A-AC98-4853C3CD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DF7B-6EF8-49BD-9A74-57F9F2542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岩石的组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Administrator\AppData\Roaming\Tencent\Users\173692760\QQ\WinTemp\RichOle\K$YSNCM9J$WPVY7PEPK[4EW.jpg"/>
          <p:cNvPicPr/>
          <p:nvPr/>
        </p:nvPicPr>
        <p:blipFill>
          <a:blip r:embed="rId1"/>
          <a:stretch/>
        </p:blipFill>
        <p:spPr>
          <a:xfrm>
            <a:off x="247680" y="2000160"/>
            <a:ext cx="4610160" cy="341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Administrator\AppData\Roaming\Tencent\Users\173692760\QQ\WinTemp\RichOle\(L24$AZ9~Y[LIF~IB%4XQE0.jpg"/>
          <p:cNvPicPr/>
          <p:nvPr/>
        </p:nvPicPr>
        <p:blipFill>
          <a:blip r:embed="rId2"/>
          <a:stretch/>
        </p:blipFill>
        <p:spPr>
          <a:xfrm>
            <a:off x="5143680" y="2000160"/>
            <a:ext cx="36716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包括食盐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和工业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豆腐，使蛋白质凝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C:\Users\Administrator\AppData\Roaming\Tencent\Users\173692760\QQ\WinTemp\RichOle\UFRNZPRMWM4ECEYS_(6YA{O.jpg"/>
          <p:cNvPicPr/>
          <p:nvPr/>
        </p:nvPicPr>
        <p:blipFill>
          <a:blip r:embed="rId1"/>
          <a:stretch/>
        </p:blipFill>
        <p:spPr>
          <a:xfrm>
            <a:off x="5357880" y="1928880"/>
            <a:ext cx="3286080" cy="344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Administrator\AppData\Roaming\Tencent\Users\173692760\QQ\WinTemp\RichOle\J`0$3GVZHTFMU0`S~4@B`NW.jpg"/>
          <p:cNvPicPr/>
          <p:nvPr/>
        </p:nvPicPr>
        <p:blipFill>
          <a:blip r:embed="rId2"/>
          <a:stretch/>
        </p:blipFill>
        <p:spPr>
          <a:xfrm>
            <a:off x="428760" y="2000160"/>
            <a:ext cx="4400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软矿物，铅笔芯主要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Administrator\AppData\Roaming\Tencent\Users\173692760\QQ\WinTemp\RichOle\(UMS$AWJ9~A%{13WBJ0019S.jpg"/>
          <p:cNvPicPr/>
          <p:nvPr/>
        </p:nvPicPr>
        <p:blipFill>
          <a:blip r:embed="rId1"/>
          <a:stretch/>
        </p:blipFill>
        <p:spPr>
          <a:xfrm>
            <a:off x="147600" y="1928880"/>
            <a:ext cx="4853160" cy="350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Administrator\AppData\Roaming\Tencent\Users\173692760\QQ\WinTemp\RichOle\KIQIK(~6UEEDK}CU{Z9X1)O.jpg"/>
          <p:cNvPicPr/>
          <p:nvPr/>
        </p:nvPicPr>
        <p:blipFill>
          <a:blip r:embed="rId2"/>
          <a:stretch/>
        </p:blipFill>
        <p:spPr>
          <a:xfrm>
            <a:off x="5072040" y="1928880"/>
            <a:ext cx="39085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药，还可以作颜料、玻璃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C:\Users\Administrator\AppData\Roaming\Tencent\Users\173692760\QQ\WinTemp\RichOle\ILD3}Q0PSK)S(U{EH]HV5B0.jpg"/>
          <p:cNvPicPr/>
          <p:nvPr/>
        </p:nvPicPr>
        <p:blipFill>
          <a:blip r:embed="rId1"/>
          <a:stretch/>
        </p:blipFill>
        <p:spPr>
          <a:xfrm>
            <a:off x="1857240" y="1928880"/>
            <a:ext cx="5389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硫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制造染料、农药、火柴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Administrator\AppData\Roaming\Tencent\Users\173692760\QQ\WinTemp\RichOle\UA78TQFN$(F%BTA2OR2MAIK.jpg"/>
          <p:cNvPicPr/>
          <p:nvPr/>
        </p:nvPicPr>
        <p:blipFill>
          <a:blip r:embed="rId1"/>
          <a:stretch/>
        </p:blipFill>
        <p:spPr>
          <a:xfrm>
            <a:off x="142920" y="1986120"/>
            <a:ext cx="4357800" cy="351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Administrator\AppData\Roaming\Tencent\Users\173692760\QQ\WinTemp\RichOle\(YZ[1NDXONR_WMUY5G~NI5K.jpg"/>
          <p:cNvPicPr/>
          <p:nvPr/>
        </p:nvPicPr>
        <p:blipFill>
          <a:blip r:embed="rId2"/>
          <a:stretch/>
        </p:blipFill>
        <p:spPr>
          <a:xfrm>
            <a:off x="4613400" y="2000160"/>
            <a:ext cx="43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和收藏投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C:\Users\Administrator\AppData\Roaming\Tencent\Users\173692760\QQ\WinTemp\RichOle\%U6)ASY][7FMZ$5CQ}F5MKY.jpg"/>
          <p:cNvPicPr/>
          <p:nvPr/>
        </p:nvPicPr>
        <p:blipFill>
          <a:blip r:embed="rId1"/>
          <a:stretch/>
        </p:blipFill>
        <p:spPr>
          <a:xfrm>
            <a:off x="119160" y="1857240"/>
            <a:ext cx="4524120" cy="357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Administrator\AppData\Roaming\Tencent\Users\173692760\QQ\WinTemp\RichOle\L{88T`N](%@}74L)$QOSR{U.jpg"/>
          <p:cNvPicPr/>
          <p:nvPr/>
        </p:nvPicPr>
        <p:blipFill>
          <a:blip r:embed="rId2"/>
          <a:stretch/>
        </p:blipFill>
        <p:spPr>
          <a:xfrm>
            <a:off x="4754520" y="1857240"/>
            <a:ext cx="4246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和收藏投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Users\Administrator\AppData\Roaming\Tencent\Users\173692760\QQ\WinTemp\RichOle\[RV8_O`_WM~[_Q{@%HMA)$J.jpg"/>
          <p:cNvPicPr/>
          <p:nvPr/>
        </p:nvPicPr>
        <p:blipFill>
          <a:blip r:embed="rId1"/>
          <a:stretch/>
        </p:blipFill>
        <p:spPr>
          <a:xfrm>
            <a:off x="4857840" y="1785960"/>
            <a:ext cx="4071960" cy="38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Administrator\AppData\Roaming\Tencent\Users\173692760\QQ\WinTemp\RichOle\MX2BQ2HVWA)4HIHIEVU$J7G.jpg"/>
          <p:cNvPicPr/>
          <p:nvPr/>
        </p:nvPicPr>
        <p:blipFill>
          <a:blip r:embed="rId2"/>
          <a:stretch/>
        </p:blipFill>
        <p:spPr>
          <a:xfrm>
            <a:off x="142920" y="1785960"/>
            <a:ext cx="4554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0" y="100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界上已发现的矿物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0" y="585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刚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，最坚硬切割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C:\Users\Administrator\AppData\Roaming\Tencent\Users\173692760\QQ\WinTemp\RichOle\}9V11Y(KO]XZ]WWBJPNYQD4.jpg"/>
          <p:cNvPicPr/>
          <p:nvPr/>
        </p:nvPicPr>
        <p:blipFill>
          <a:blip r:embed="rId1"/>
          <a:stretch/>
        </p:blipFill>
        <p:spPr>
          <a:xfrm>
            <a:off x="5857920" y="3000240"/>
            <a:ext cx="259236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istrator\AppData\Roaming\Tencent\Users\173692760\QQ\WinTemp\RichOle\]~8KAM0ZIUH7J26VPFQV])B.jpg"/>
          <p:cNvPicPr/>
          <p:nvPr/>
        </p:nvPicPr>
        <p:blipFill>
          <a:blip r:embed="rId2"/>
          <a:stretch/>
        </p:blipFill>
        <p:spPr>
          <a:xfrm>
            <a:off x="571680" y="2000160"/>
            <a:ext cx="47289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矿物和主要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85840" y="514368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2-8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的单元资料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特征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了解更多矿物的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1857240" y="1143000"/>
            <a:ext cx="2571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石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金、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钻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5214960" y="1143000"/>
            <a:ext cx="3071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铅笔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豆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首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7"/>
          <p:cNvSpPr/>
          <p:nvPr/>
        </p:nvSpPr>
        <p:spPr>
          <a:xfrm>
            <a:off x="3000240" y="1500120"/>
            <a:ext cx="2286000" cy="6429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0"/>
          <p:cNvSpPr/>
          <p:nvPr/>
        </p:nvSpPr>
        <p:spPr>
          <a:xfrm>
            <a:off x="3071880" y="2143080"/>
            <a:ext cx="2286000" cy="6429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 flipV="1">
            <a:off x="3000240" y="1571400"/>
            <a:ext cx="2286000" cy="121428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2"/>
          <p:cNvSpPr/>
          <p:nvPr/>
        </p:nvSpPr>
        <p:spPr>
          <a:xfrm>
            <a:off x="3500280" y="3429000"/>
            <a:ext cx="1785960" cy="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3"/>
          <p:cNvSpPr/>
          <p:nvPr/>
        </p:nvSpPr>
        <p:spPr>
          <a:xfrm flipV="1">
            <a:off x="3000240" y="3428640"/>
            <a:ext cx="2286000" cy="5000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9"/>
          <p:cNvSpPr/>
          <p:nvPr/>
        </p:nvSpPr>
        <p:spPr>
          <a:xfrm flipV="1">
            <a:off x="2928960" y="3929040"/>
            <a:ext cx="2357280" cy="71424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22200" y="6678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是组成地壳岩石的重要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岗岩主要是由石英、长石、云母三种矿物组成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球上已知的矿物有近百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945000" y="119592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62560" y="4435920"/>
            <a:ext cx="6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45000" y="263592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可以由一种矿物所组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岩石由多种矿物组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Administrator\AppData\Roaming\Tencent\Users\173692760\QQ\WinTemp\RichOle\RBC`YX`W4W97ZY~9)R]OAXS.jpg"/>
          <p:cNvPicPr/>
          <p:nvPr/>
        </p:nvPicPr>
        <p:blipFill>
          <a:blip r:embed="rId1"/>
          <a:stretch/>
        </p:blipFill>
        <p:spPr>
          <a:xfrm>
            <a:off x="857160" y="1071720"/>
            <a:ext cx="2928960" cy="219204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4429080" y="1285920"/>
            <a:ext cx="392904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灰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方解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种矿物所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Users\Administrator\AppData\Roaming\Tencent\Users\173692760\QQ\WinTemp\RichOle\7][LC5I[D]X77`_0BL0SNLI.jpg"/>
          <p:cNvPicPr/>
          <p:nvPr/>
        </p:nvPicPr>
        <p:blipFill>
          <a:blip r:embed="rId2"/>
          <a:stretch/>
        </p:blipFill>
        <p:spPr>
          <a:xfrm>
            <a:off x="857160" y="4429080"/>
            <a:ext cx="2971800" cy="218124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4429080" y="4643280"/>
            <a:ext cx="39290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、长石、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多种矿物集合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50920" y="115884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择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观察，我们发现云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片状或鳞片状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柱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角柱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泛应用于制造水泥，制作模型、塑像，还用于医疗手术的矿物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滑石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膏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020000" y="4723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923160" y="20012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C:\Users\Administrator\AppData\Roaming\Tencent\Users\173692760\QQ\WinTemp\RichOle\)K@G@L]IT_$ZJF}L_(2H$(5.jpg"/>
          <p:cNvPicPr/>
          <p:nvPr/>
        </p:nvPicPr>
        <p:blipFill>
          <a:blip r:embed="rId1"/>
          <a:stretch/>
        </p:blipFill>
        <p:spPr>
          <a:xfrm>
            <a:off x="142920" y="1071720"/>
            <a:ext cx="3786120" cy="25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Administrator\AppData\Roaming\Tencent\Users\173692760\QQ\WinTemp\RichOle\`6T${4GC3E7PDW3@G9B8C[V.jpg"/>
          <p:cNvPicPr/>
          <p:nvPr/>
        </p:nvPicPr>
        <p:blipFill>
          <a:blip r:embed="rId2"/>
          <a:stretch/>
        </p:blipFill>
        <p:spPr>
          <a:xfrm>
            <a:off x="5059440" y="1071720"/>
            <a:ext cx="3786120" cy="25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Administrator\AppData\Roaming\Tencent\Users\173692760\QQ\WinTemp\RichOle\%Q7[H5DMDYXK4]4[2$E[WE4.jpg"/>
          <p:cNvPicPr/>
          <p:nvPr/>
        </p:nvPicPr>
        <p:blipFill>
          <a:blip r:embed="rId3"/>
          <a:stretch/>
        </p:blipFill>
        <p:spPr>
          <a:xfrm>
            <a:off x="142920" y="400068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dministrator\AppData\Roaming\Tencent\Users\173692760\QQ\WinTemp\RichOle\E0QALVTIIRC@5@%)V%6@QAC.jpg"/>
          <p:cNvPicPr/>
          <p:nvPr/>
        </p:nvPicPr>
        <p:blipFill>
          <a:blip r:embed="rId4"/>
          <a:stretch/>
        </p:blipFill>
        <p:spPr>
          <a:xfrm>
            <a:off x="5059440" y="3929040"/>
            <a:ext cx="3786120" cy="2714760"/>
          </a:xfrm>
          <a:prstGeom prst="rect">
            <a:avLst/>
          </a:prstGeom>
          <a:ln w="0">
            <a:noFill/>
          </a:ln>
        </p:spPr>
      </p:pic>
      <p:sp>
        <p:nvSpPr>
          <p:cNvPr id="53" name="矩形 10"/>
          <p:cNvSpPr/>
          <p:nvPr/>
        </p:nvSpPr>
        <p:spPr>
          <a:xfrm>
            <a:off x="399960" y="107172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7102440" y="592920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399960" y="593568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3"/>
          <p:cNvSpPr/>
          <p:nvPr/>
        </p:nvSpPr>
        <p:spPr>
          <a:xfrm>
            <a:off x="7102440" y="1071720"/>
            <a:ext cx="14986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4260600" y="1785960"/>
            <a:ext cx="515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142920" y="202896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60" name="矩形 15"/>
          <p:cNvSpPr/>
          <p:nvPr/>
        </p:nvSpPr>
        <p:spPr>
          <a:xfrm>
            <a:off x="0" y="1028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质地坚硬，颜色美观，是优质的建筑石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7"/>
          <p:cNvSpPr/>
          <p:nvPr/>
        </p:nvSpPr>
        <p:spPr>
          <a:xfrm>
            <a:off x="785880" y="57117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/>
          <p:cNvSpPr/>
          <p:nvPr/>
        </p:nvSpPr>
        <p:spPr>
          <a:xfrm>
            <a:off x="3571920" y="571176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6429240" y="571176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Administrator\AppData\Roaming\Tencent\Users\173692760\QQ\WinTemp\RichOle\IYYW)78FGOIUPQ_`[L3XJQI.jpg"/>
          <p:cNvPicPr/>
          <p:nvPr/>
        </p:nvPicPr>
        <p:blipFill>
          <a:blip r:embed="rId2"/>
          <a:stretch/>
        </p:blipFill>
        <p:spPr>
          <a:xfrm>
            <a:off x="4500720" y="2100240"/>
            <a:ext cx="4481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67" name="矩形 17"/>
          <p:cNvSpPr/>
          <p:nvPr/>
        </p:nvSpPr>
        <p:spPr>
          <a:xfrm>
            <a:off x="428760" y="5072040"/>
            <a:ext cx="86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半透明或不透明，一般是乳白色，质地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Users\Administrator\AppData\Roaming\Tencent\Users\173692760\QQ\WinTemp\RichOle\)0EELQ7LJ(2@%X%VEHE6PQM.jpg"/>
          <p:cNvPicPr/>
          <p:nvPr/>
        </p:nvPicPr>
        <p:blipFill>
          <a:blip r:embed="rId2"/>
          <a:stretch/>
        </p:blipFill>
        <p:spPr>
          <a:xfrm>
            <a:off x="5349960" y="1143000"/>
            <a:ext cx="3008160" cy="2357280"/>
          </a:xfrm>
          <a:prstGeom prst="rect">
            <a:avLst/>
          </a:prstGeom>
          <a:ln w="0">
            <a:noFill/>
          </a:ln>
        </p:spPr>
      </p:pic>
      <p:sp>
        <p:nvSpPr>
          <p:cNvPr id="69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72" name="矩形 17"/>
          <p:cNvSpPr/>
          <p:nvPr/>
        </p:nvSpPr>
        <p:spPr>
          <a:xfrm>
            <a:off x="428760" y="5072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：长石分两大类，其中正长石的颜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多为肉红色，质地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:\Users\Administrator\AppData\Roaming\Tencent\Users\173692760\QQ\WinTemp\RichOle\{2%I$IM$M1V{FU{DIPKEAUB.jpg"/>
          <p:cNvPicPr/>
          <p:nvPr/>
        </p:nvPicPr>
        <p:blipFill>
          <a:blip r:embed="rId2"/>
          <a:stretch/>
        </p:blipFill>
        <p:spPr>
          <a:xfrm>
            <a:off x="5000760" y="1214280"/>
            <a:ext cx="3448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云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71720"/>
            <a:ext cx="4214880" cy="3328920"/>
          </a:xfrm>
          <a:prstGeom prst="rect">
            <a:avLst/>
          </a:prstGeom>
          <a:ln w="0">
            <a:noFill/>
          </a:ln>
        </p:spPr>
      </p:pic>
      <p:sp>
        <p:nvSpPr>
          <p:cNvPr id="77" name="矩形 17"/>
          <p:cNvSpPr/>
          <p:nvPr/>
        </p:nvSpPr>
        <p:spPr>
          <a:xfrm>
            <a:off x="428760" y="5072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：云母家族种类很多，其中黑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黑至深褐色，较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215040" y="3639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:\Users\Administrator\AppData\Roaming\Tencent\Users\173692760\QQ\WinTemp\RichOle\H$9IQ8TW$S]ZE(4OJVP~C)Y.jpg"/>
          <p:cNvPicPr/>
          <p:nvPr/>
        </p:nvPicPr>
        <p:blipFill>
          <a:blip r:embed="rId2"/>
          <a:stretch/>
        </p:blipFill>
        <p:spPr>
          <a:xfrm>
            <a:off x="5500800" y="1214280"/>
            <a:ext cx="2643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花岗岩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C:\Users\Administrator\AppData\Roaming\Tencent\Users\173692760\QQ\WinTemp\RichOle\_O6Z@0({PCZOU~Z3W89KJBJ.jpg"/>
          <p:cNvPicPr/>
          <p:nvPr/>
        </p:nvPicPr>
        <p:blipFill>
          <a:blip r:embed="rId1"/>
          <a:stretch/>
        </p:blipFill>
        <p:spPr>
          <a:xfrm>
            <a:off x="214200" y="1000080"/>
            <a:ext cx="4214880" cy="332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173692760\QQ\WinTemp\RichOle\~J%9NF1$}1JY6~KJ3$UU]~J.jpg"/>
          <p:cNvPicPr/>
          <p:nvPr/>
        </p:nvPicPr>
        <p:blipFill>
          <a:blip r:embed="rId2"/>
          <a:stretch/>
        </p:blipFill>
        <p:spPr>
          <a:xfrm>
            <a:off x="214200" y="4429080"/>
            <a:ext cx="83584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3"/>
          <p:cNvSpPr/>
          <p:nvPr/>
        </p:nvSpPr>
        <p:spPr>
          <a:xfrm>
            <a:off x="7572240" y="1071720"/>
            <a:ext cx="157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云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3"/>
          <p:cNvSpPr/>
          <p:nvPr/>
        </p:nvSpPr>
        <p:spPr>
          <a:xfrm>
            <a:off x="4786200" y="1071720"/>
            <a:ext cx="235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透明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色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色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0"/>
          <p:cNvSpPr/>
          <p:nvPr/>
        </p:nvSpPr>
        <p:spPr>
          <a:xfrm>
            <a:off x="6714360" y="1357200"/>
            <a:ext cx="857160" cy="114624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2"/>
          <p:cNvSpPr/>
          <p:nvPr/>
        </p:nvSpPr>
        <p:spPr>
          <a:xfrm>
            <a:off x="6786000" y="2500200"/>
            <a:ext cx="857160" cy="114624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3"/>
          <p:cNvSpPr/>
          <p:nvPr/>
        </p:nvSpPr>
        <p:spPr>
          <a:xfrm flipV="1">
            <a:off x="6786720" y="1428480"/>
            <a:ext cx="785520" cy="214308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9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小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214200" y="1428840"/>
            <a:ext cx="871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矿物在自然界中很少单独存在，通常都是几种混杂在一起组成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有的岩石都是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种或几种矿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岗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英、长石和云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英、长石和云母都是自然界的矿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cp:keywords/>
  <dc:language>en-US</dc:language>
  <cp:lastModifiedBy>Administrator</cp:lastModifiedBy>
  <dcterms:modified xsi:type="dcterms:W3CDTF">2016-02-24T05:10:56Z</dcterms:modified>
  <cp:revision>1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