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382-47CD-4D90-8167-9B3836D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9B8-86D1-450C-A7A7-7CA536F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B72-6C42-4298-9D4B-D4B9C2BB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4C2-C050-43DC-8016-CC7DE137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878-09BD-48D5-AF84-821C0C6A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2BB-5305-4B1E-AE4B-5195971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6EE-79DC-4321-B40F-9C241C8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B2B-F61D-4259-A134-5DCFDE2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323-BCD2-4775-B2F0-952144E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743-E1AD-44A7-A49E-2FF2207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26F-D7BB-476E-8253-246AA11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D46-625D-4D59-AACE-5723B24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C3ED-0C64-47EB-8233-FBA970E4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C@9QV)W(}6M8]C%IWE{Y(Z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5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173692760\QQ\WinTemp\RichOle\VU0]MJJK7}1(B`OZ(MTF88W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173692760\QQ\WinTemp\RichOle\4SSLV`~O9S8(FK]C`(_P$S7.jpg"/>
          <p:cNvPicPr/>
          <p:nvPr/>
        </p:nvPicPr>
        <p:blipFill>
          <a:blip r:embed="rId3"/>
          <a:stretch/>
        </p:blipFill>
        <p:spPr>
          <a:xfrm>
            <a:off x="0" y="37861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Administrator\AppData\Roaming\Tencent\Users\173692760\QQ\WinTemp\RichOle\]}5Q(}_Y9GU3PRX6(KIJH5E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85920" y="3214800"/>
            <a:ext cx="6572160" cy="703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图片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920" y="44910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喜欢的岩石，洗干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自己的岩石，记录特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715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5SQ)ESS%CGYEDBZR%((I9IW.jpg"/>
          <p:cNvPicPr/>
          <p:nvPr/>
        </p:nvPicPr>
        <p:blipFill>
          <a:blip r:embed="rId1"/>
          <a:stretch/>
        </p:blipFill>
        <p:spPr>
          <a:xfrm>
            <a:off x="0" y="2143080"/>
            <a:ext cx="909972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7120" y="3652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7120" y="4367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7120" y="50101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7120" y="57214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14800" y="3652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、花纹、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14800" y="4367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糙还是光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14800" y="501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14800" y="57214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3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一块岩石，充分运用感官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Administrator\AppData\Roaming\Tencent\Users\173692760\QQ\WinTemp\RichOle\W8W`UMD~Z(1VRY3~O1VZFGN.jpg"/>
          <p:cNvPicPr/>
          <p:nvPr/>
        </p:nvPicPr>
        <p:blipFill>
          <a:blip r:embed="rId1"/>
          <a:stretch/>
        </p:blipFill>
        <p:spPr>
          <a:xfrm>
            <a:off x="3429000" y="2214720"/>
            <a:ext cx="2143080" cy="2393640"/>
          </a:xfrm>
          <a:prstGeom prst="rect">
            <a:avLst/>
          </a:prstGeom>
          <a:ln w="0">
            <a:noFill/>
          </a:ln>
        </p:spPr>
      </p:pic>
      <p:sp>
        <p:nvSpPr>
          <p:cNvPr id="63" name="椭圆 9"/>
          <p:cNvSpPr/>
          <p:nvPr/>
        </p:nvSpPr>
        <p:spPr>
          <a:xfrm>
            <a:off x="607212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6072120" y="250020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607212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1420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21420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314316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314316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2357280" y="1785960"/>
            <a:ext cx="1071720" cy="42876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2"/>
          <p:cNvSpPr/>
          <p:nvPr/>
        </p:nvSpPr>
        <p:spPr>
          <a:xfrm flipV="1">
            <a:off x="2428920" y="457164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6"/>
          <p:cNvSpPr/>
          <p:nvPr/>
        </p:nvSpPr>
        <p:spPr>
          <a:xfrm flipV="1">
            <a:off x="5500800" y="171432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>
            <a:off x="5572080" y="4572000"/>
            <a:ext cx="907920" cy="61920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>
            <a:off x="5572080" y="3357720"/>
            <a:ext cx="500040" cy="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4572000" y="1928880"/>
            <a:ext cx="0" cy="2858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8"/>
          <p:cNvSpPr/>
          <p:nvPr/>
        </p:nvSpPr>
        <p:spPr>
          <a:xfrm>
            <a:off x="4572000" y="4572000"/>
            <a:ext cx="0" cy="35712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5716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357192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5"/>
          <p:cNvSpPr/>
          <p:nvPr/>
        </p:nvSpPr>
        <p:spPr>
          <a:xfrm>
            <a:off x="65008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6"/>
          <p:cNvSpPr/>
          <p:nvPr/>
        </p:nvSpPr>
        <p:spPr>
          <a:xfrm>
            <a:off x="6500880" y="3071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7"/>
          <p:cNvSpPr/>
          <p:nvPr/>
        </p:nvSpPr>
        <p:spPr>
          <a:xfrm>
            <a:off x="6572160" y="550080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气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"/>
          <p:cNvSpPr/>
          <p:nvPr/>
        </p:nvSpPr>
        <p:spPr>
          <a:xfrm>
            <a:off x="3571920" y="54291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9"/>
          <p:cNvSpPr/>
          <p:nvPr/>
        </p:nvSpPr>
        <p:spPr>
          <a:xfrm>
            <a:off x="714240" y="535788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5214600" cy="4076640"/>
          </a:xfrm>
          <a:prstGeom prst="rect">
            <a:avLst/>
          </a:prstGeom>
          <a:ln w="0">
            <a:noFill/>
          </a:ln>
        </p:spPr>
      </p:pic>
      <p:sp>
        <p:nvSpPr>
          <p:cNvPr id="86" name="矩形 28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准备按什么标准给岩石分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715080" y="2071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4643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方法结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不同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一些岩石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标准下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可以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入不同的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AppData\Roaming\Tencent\Users\173692760\QQ\WinTemp\RichOle\I]C@5}$Q%6IL3GG8(U$G067.jpg"/>
          <p:cNvPicPr/>
          <p:nvPr/>
        </p:nvPicPr>
        <p:blipFill>
          <a:blip r:embed="rId1"/>
          <a:stretch/>
        </p:blipFill>
        <p:spPr>
          <a:xfrm>
            <a:off x="-31680" y="1285920"/>
            <a:ext cx="91756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岩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资料库《岩石的成因和分类》，了解不同类别的岩石在地球运动中的形成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dministrator\AppData\Roaming\Tencent\Users\173692760\QQ\WinTemp\RichOle\BY~LJR9`)M74ZAU2V@OQ{LN.jpg"/>
          <p:cNvPicPr/>
          <p:nvPr/>
        </p:nvPicPr>
        <p:blipFill>
          <a:blip r:embed="rId1"/>
          <a:stretch/>
        </p:blipFill>
        <p:spPr>
          <a:xfrm>
            <a:off x="142920" y="1155600"/>
            <a:ext cx="3448080" cy="23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Administrator\AppData\Roaming\Tencent\Users\173692760\QQ\WinTemp\RichOle\7QWZ98(3@V8LE6NRWYQ_SND.jpg"/>
          <p:cNvPicPr/>
          <p:nvPr/>
        </p:nvPicPr>
        <p:blipFill>
          <a:blip r:embed="rId2"/>
          <a:stretch/>
        </p:blipFill>
        <p:spPr>
          <a:xfrm>
            <a:off x="3714840" y="1143000"/>
            <a:ext cx="3286080" cy="238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Administrator\AppData\Roaming\Tencent\Users\173692760\QQ\WinTemp\RichOle\O4)9NY~Y@})V{ZKQGVGMWHP.jpg"/>
          <p:cNvPicPr/>
          <p:nvPr/>
        </p:nvPicPr>
        <p:blipFill>
          <a:blip r:embed="rId3"/>
          <a:stretch/>
        </p:blipFill>
        <p:spPr>
          <a:xfrm>
            <a:off x="7143840" y="1155600"/>
            <a:ext cx="1928880" cy="23576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378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以黏土为主要原料经过高温烧制而成的，不属于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是地球的重要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采集岩石，一定要在大人的带领下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照不同的分类标准，同一块岩石只能归入一个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有古代生物遗体或遗迹的岩石，叫做化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39440" y="328392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3200" y="164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53200" y="57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229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17Z</dcterms:modified>
  <cp:revision>124</cp:revision>
  <dc:subject/>
  <dc:title>幻灯片 1</dc:title>
</cp:coreProperties>
</file>