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D10-DA81-4B02-BCBC-D9741EFD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E9F-8E29-411B-B48D-02F783EF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625-F60F-42C4-8909-D4761B58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4FB-312D-4B5F-9430-22F93268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DB4-D6DA-4845-BBF0-5F598D25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6F1-6D55-46B0-9E25-B1111248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331-9F02-4713-94D5-38EAD79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9B7-53D1-47A2-A26B-7D014E2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DD3-F7FA-4FC3-8D1F-9795522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FC6-3EB5-45C4-86C3-EDB607D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4AD-8AD3-42CB-B93B-1E0D5CF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C4A-A302-44B8-8296-FD922AC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3B0-D26E-4DB6-BC6D-491E923D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观察、描述矿物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97320" y="857160"/>
            <a:ext cx="39466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214200" y="114300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:\Users\Administrator\AppData\Roaming\Tencent\Users\173692760\QQ\WinTemp\RichOle\UJ_ZO`_WJBD[LEYHBXDT3(Y.jpg"/>
          <p:cNvPicPr/>
          <p:nvPr/>
        </p:nvPicPr>
        <p:blipFill>
          <a:blip r:embed="rId2"/>
          <a:stretch/>
        </p:blipFill>
        <p:spPr>
          <a:xfrm>
            <a:off x="357120" y="1928880"/>
            <a:ext cx="707256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2786040" y="25002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     长石     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786040" y="314316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较软      硬       最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285840" y="435780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和石英都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能在其表面划出条痕，云母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母、长石都不能在其表面划出条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3"/>
          <p:cNvSpPr/>
          <p:nvPr/>
        </p:nvSpPr>
        <p:spPr>
          <a:xfrm>
            <a:off x="428760" y="300024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指甲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小刀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铜钥匙、小刀都不能刻划出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C:\Users\Administrator\AppData\Roaming\Tencent\Users\173692760\QQ\WinTemp\RichOle\D)LPJ%U7T74J_W$6NFFBY2B.jpg"/>
          <p:cNvPicPr/>
          <p:nvPr/>
        </p:nvPicPr>
        <p:blipFill>
          <a:blip r:embed="rId1"/>
          <a:stretch/>
        </p:blipFill>
        <p:spPr>
          <a:xfrm>
            <a:off x="1571760" y="857160"/>
            <a:ext cx="7072200" cy="18147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0" y="8571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85840" y="1500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应用于研磨、切割、抛光等重要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硬度最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的固体润滑剂，还用来制作铅笔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500800" y="1500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500800" y="42861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280" y="197856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想知道矿物的硬度，我们可以采用（         ）、（            ）和（          ）等工具去刻划矿物，判断其硬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铜钥匙、小刀都不能刻划出痕迹来，我们说这种矿物的硬度是（         ）。矿物中，硬度最大的是（             ），硬度最小的是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59520" y="135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04880" y="1357200"/>
            <a:ext cx="15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32000" y="13572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铜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18040" y="4133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416480" y="478152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金刚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85960" y="5500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9440" y="1158840"/>
            <a:ext cx="882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、云母三种矿物的硬度，从软到硬的顺序是（          ）、（           ）、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16440" y="121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500880" y="1216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701640" y="1927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颜色、条痕、硬度是识别矿物的重要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墨的条痕颜色为黄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和矿物外表的颜色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具有多种色彩，条痕却都是白色或近乎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7840" y="33094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72560" y="2233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889920" y="582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913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14200" y="18432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、颗粒、软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方面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怎样观察和描述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57120" y="4000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的观察和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4857840" y="2214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857840" y="29289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857840" y="364968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软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857840" y="50720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4857840" y="43639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透明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857840" y="5792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左大括号 10"/>
          <p:cNvSpPr/>
          <p:nvPr/>
        </p:nvSpPr>
        <p:spPr>
          <a:xfrm>
            <a:off x="4643280" y="2428920"/>
            <a:ext cx="214560" cy="37861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7600 h 3786120"/>
              <a:gd name="textAreaBottom" fmla="*/ 372852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5400" y="10800"/>
                  <a:pt x="0" y="10800"/>
                </a:cubicBezTo>
                <a:cubicBezTo>
                  <a:pt x="54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Administrator\AppData\Roaming\Tencent\Users\173692760\QQ\WinTemp\RichOle\W{C1%O()7)A@]F_I5MQ`HJJ.jpg"/>
          <p:cNvPicPr/>
          <p:nvPr/>
        </p:nvPicPr>
        <p:blipFill>
          <a:blip r:embed="rId1"/>
          <a:stretch/>
        </p:blipFill>
        <p:spPr>
          <a:xfrm>
            <a:off x="357120" y="2857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铁矿                         褐铁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istrator\AppData\Roaming\Tencent\Users\173692760\QQ\WinTemp\RichOle\8X][[B%]I[99)C22Q`7_1`Q.jpg"/>
          <p:cNvPicPr/>
          <p:nvPr/>
        </p:nvPicPr>
        <p:blipFill>
          <a:blip r:embed="rId2"/>
          <a:stretch/>
        </p:blipFill>
        <p:spPr>
          <a:xfrm>
            <a:off x="4357800" y="2857680"/>
            <a:ext cx="3929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85840" y="928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6429240" y="32148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铜矿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铜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_U10ITAR2FTZLYXVDJ%K783.jpg"/>
          <p:cNvPicPr/>
          <p:nvPr/>
        </p:nvPicPr>
        <p:blipFill>
          <a:blip r:embed="rId1"/>
          <a:stretch/>
        </p:blipFill>
        <p:spPr>
          <a:xfrm>
            <a:off x="571680" y="2857680"/>
            <a:ext cx="5267160" cy="376524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8"/>
          <p:cNvSpPr/>
          <p:nvPr/>
        </p:nvSpPr>
        <p:spPr>
          <a:xfrm>
            <a:off x="3571920" y="3571920"/>
            <a:ext cx="3000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715000" y="464328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285840" y="928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是最容易观察到的矿物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就是根据颜色来命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1143000" y="59292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]B$U66L[R)E21N}%3]_$`@1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67" name="矩形 8"/>
          <p:cNvSpPr/>
          <p:nvPr/>
        </p:nvSpPr>
        <p:spPr>
          <a:xfrm>
            <a:off x="4286160" y="3286080"/>
            <a:ext cx="4643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矿物有多种颜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RZO(X6H1$7J_O$}UJY0M4MU.jpg"/>
          <p:cNvPicPr/>
          <p:nvPr/>
        </p:nvPicPr>
        <p:blipFill>
          <a:blip r:embed="rId1"/>
          <a:stretch/>
        </p:blipFill>
        <p:spPr>
          <a:xfrm>
            <a:off x="2786040" y="2049480"/>
            <a:ext cx="3143160" cy="312264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1214280" y="5572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都是石英，具有多种色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Administrator\AppData\Roaming\Tencent\Users\173692760\QQ\WinTemp\RichOle\U4HY6}KFT0[D_)9ZW~SCR@V.jpg"/>
          <p:cNvPicPr/>
          <p:nvPr/>
        </p:nvPicPr>
        <p:blipFill>
          <a:blip r:embed="rId2"/>
          <a:stretch/>
        </p:blipFill>
        <p:spPr>
          <a:xfrm>
            <a:off x="0" y="2049480"/>
            <a:ext cx="2643120" cy="31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Administrator\AppData\Roaming\Tencent\Users\173692760\QQ\WinTemp\RichOle\%D((}WMJ%]6M56)XT@YVN66.jpg"/>
          <p:cNvPicPr/>
          <p:nvPr/>
        </p:nvPicPr>
        <p:blipFill>
          <a:blip r:embed="rId3"/>
          <a:stretch/>
        </p:blipFill>
        <p:spPr>
          <a:xfrm>
            <a:off x="6072120" y="2049480"/>
            <a:ext cx="3071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不同的矿物却有相同的色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47I~MT~W{1@RD(K27@W3@`9.jpg"/>
          <p:cNvPicPr/>
          <p:nvPr/>
        </p:nvPicPr>
        <p:blipFill>
          <a:blip r:embed="rId1"/>
          <a:stretch/>
        </p:blipFill>
        <p:spPr>
          <a:xfrm>
            <a:off x="0" y="2352600"/>
            <a:ext cx="2786040" cy="2791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0" y="557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矿、黄铁矿、黄铜矿都具有金黄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Administrator\AppData\Roaming\Tencent\Users\173692760\QQ\WinTemp\RichOle\KQY7AP2@LL{}RTLY[X)HBUD.jpg"/>
          <p:cNvPicPr/>
          <p:nvPr/>
        </p:nvPicPr>
        <p:blipFill>
          <a:blip r:embed="rId2"/>
          <a:stretch/>
        </p:blipFill>
        <p:spPr>
          <a:xfrm>
            <a:off x="3000240" y="2352600"/>
            <a:ext cx="307188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Administrator\AppData\Roaming\Tencent\Users\173692760\QQ\WinTemp\RichOle\)[WGE[AT5{2HAD@N0~NA%}8.jpg"/>
          <p:cNvPicPr/>
          <p:nvPr/>
        </p:nvPicPr>
        <p:blipFill>
          <a:blip r:embed="rId3"/>
          <a:stretch/>
        </p:blipFill>
        <p:spPr>
          <a:xfrm>
            <a:off x="6305400" y="2281320"/>
            <a:ext cx="2838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12859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表的颜色是识别矿物的一个标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的条痕颜色比外表颜色更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00680" y="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642960" y="3500280"/>
            <a:ext cx="7929720" cy="2837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条痕的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矿物放在白色的无釉瓷板上摩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瓷板上留下的痕迹就是矿物的条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矿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C:\Users\Administrator\AppData\Roaming\Tencent\Users\173692760\QQ\WinTemp\RichOle\M7HVK2J%ABN_J72D3HBBR3X.jpg"/>
          <p:cNvPicPr/>
          <p:nvPr/>
        </p:nvPicPr>
        <p:blipFill>
          <a:blip r:embed="rId1"/>
          <a:stretch/>
        </p:blipFill>
        <p:spPr>
          <a:xfrm>
            <a:off x="642960" y="1071720"/>
            <a:ext cx="7670880" cy="2857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5880" y="4429080"/>
          <a:ext cx="7500960" cy="1738440"/>
        </p:xfrm>
        <a:graphic>
          <a:graphicData uri="http://schemas.openxmlformats.org/drawingml/2006/table">
            <a:tbl>
              <a:tblPr/>
              <a:tblGrid>
                <a:gridCol w="1871640"/>
                <a:gridCol w="1485720"/>
                <a:gridCol w="1428840"/>
                <a:gridCol w="1428840"/>
                <a:gridCol w="1285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矿物名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痕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8" name="矩形 11"/>
          <p:cNvSpPr/>
          <p:nvPr/>
        </p:nvSpPr>
        <p:spPr>
          <a:xfrm>
            <a:off x="27860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7860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27860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樱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14324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14324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414324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5720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5720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5720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绿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6929280" y="4487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6929280" y="50594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6929280" y="56307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1:19Z</dcterms:modified>
  <cp:revision>1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