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DA3-E110-4D6E-8E61-E45D2D14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03C-E0A6-458B-AC2F-1476BD1F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E4E-C788-4B17-9629-33625639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C87-8A14-480F-9491-C5693EFD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60C-48BB-475D-AD7A-18F934E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097-E1F4-4624-8C5E-99C61C31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390-4FFD-42F4-9C98-E4E72675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2F6-72D4-4DDA-A78A-C86371A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637-B2D4-47A6-9274-5D7B4A71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B0B-BF43-41E5-9728-2FB7BF16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F08-2BFA-42DA-AF0E-AB1D8C6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D40-F740-4726-A7C6-63AB414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651F-DE09-4627-9DD6-8156F3134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二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142920" y="30002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4786200" y="785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786200" y="16430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4786200" y="25066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78620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786200" y="33638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786200" y="507852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号 8"/>
          <p:cNvSpPr/>
          <p:nvPr/>
        </p:nvSpPr>
        <p:spPr>
          <a:xfrm>
            <a:off x="4500720" y="1143000"/>
            <a:ext cx="285480" cy="4429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4429080"/>
              <a:gd name="textAreaBottom" fmla="*/ 435240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0"/>
                  <a:pt x="10800" y="1199"/>
                </a:cubicBezTo>
                <a:lnTo>
                  <a:pt x="10800" y="9601"/>
                </a:lnTo>
                <a:cubicBezTo>
                  <a:pt x="10800" y="10201"/>
                  <a:pt x="5400" y="10800"/>
                  <a:pt x="0" y="10800"/>
                </a:cubicBezTo>
                <a:cubicBezTo>
                  <a:pt x="5400" y="10800"/>
                  <a:pt x="10800" y="11400"/>
                  <a:pt x="10800" y="11999"/>
                </a:cubicBezTo>
                <a:lnTo>
                  <a:pt x="10800" y="20401"/>
                </a:lnTo>
                <a:cubicBezTo>
                  <a:pt x="10800" y="210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700092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7000920" y="4282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左大括号 11"/>
          <p:cNvSpPr/>
          <p:nvPr/>
        </p:nvSpPr>
        <p:spPr>
          <a:xfrm flipH="1">
            <a:off x="6643080" y="1000080"/>
            <a:ext cx="285480" cy="20001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左大括号 12"/>
          <p:cNvSpPr/>
          <p:nvPr/>
        </p:nvSpPr>
        <p:spPr>
          <a:xfrm flipH="1">
            <a:off x="6715080" y="3571920"/>
            <a:ext cx="285840" cy="20001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4"/>
          <p:cNvPicPr/>
          <p:nvPr/>
        </p:nvPicPr>
        <p:blipFill>
          <a:blip r:embed="rId1"/>
          <a:stretch/>
        </p:blipFill>
        <p:spPr>
          <a:xfrm>
            <a:off x="0" y="8571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Users\Administrator\AppData\Roaming\Tencent\Users\173692760\QQ\WinTemp\RichOle\2MGN]7UQEYS]E([1NWZE[%E.jpg"/>
          <p:cNvPicPr/>
          <p:nvPr/>
        </p:nvPicPr>
        <p:blipFill>
          <a:blip r:embed="rId2"/>
          <a:stretch/>
        </p:blipFill>
        <p:spPr>
          <a:xfrm>
            <a:off x="3616200" y="857160"/>
            <a:ext cx="552780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矩形 15"/>
          <p:cNvSpPr/>
          <p:nvPr/>
        </p:nvSpPr>
        <p:spPr>
          <a:xfrm>
            <a:off x="0" y="3643200"/>
            <a:ext cx="471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玻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塑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木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4572000" y="3643200"/>
            <a:ext cx="442908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矿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碎片的边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否能看见其他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衡量矿物的透明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1357200" y="22147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                半透明          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0" y="189000"/>
            <a:ext cx="8929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金属、玻璃、泥土、蜡烛、丝绸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反光情况，再按反光从强到弱顺序排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光强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Administrator\AppData\Roaming\Tencent\Users\173692760\QQ\WinTemp\RichOle\PBU8~T)%LT7)]QD3%$DC8[M.jpg"/>
          <p:cNvPicPr/>
          <p:nvPr/>
        </p:nvPicPr>
        <p:blipFill>
          <a:blip r:embed="rId1"/>
          <a:stretch/>
        </p:blipFill>
        <p:spPr>
          <a:xfrm>
            <a:off x="0" y="142884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Administrator\AppData\Roaming\Tencent\Users\173692760\QQ\WinTemp\RichOle\CIQYNE{MY{)9EPM8YQBJL01.jpg"/>
          <p:cNvPicPr/>
          <p:nvPr/>
        </p:nvPicPr>
        <p:blipFill>
          <a:blip r:embed="rId2"/>
          <a:stretch/>
        </p:blipFill>
        <p:spPr>
          <a:xfrm>
            <a:off x="2928960" y="1428840"/>
            <a:ext cx="307188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Administrator\AppData\Roaming\Tencent\Users\173692760\QQ\WinTemp\RichOle\$XKN8)3S50LD]VOFN6[W2M8.jpg"/>
          <p:cNvPicPr/>
          <p:nvPr/>
        </p:nvPicPr>
        <p:blipFill>
          <a:blip r:embed="rId3"/>
          <a:stretch/>
        </p:blipFill>
        <p:spPr>
          <a:xfrm>
            <a:off x="6143760" y="142884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dministrator\AppData\Roaming\Tencent\Users\173692760\QQ\WinTemp\RichOle\NQL](X(E(M3I{(})FLGEW_8.jpg"/>
          <p:cNvPicPr/>
          <p:nvPr/>
        </p:nvPicPr>
        <p:blipFill>
          <a:blip r:embed="rId4">
            <a:lum bright="-16000"/>
          </a:blip>
          <a:stretch/>
        </p:blipFill>
        <p:spPr>
          <a:xfrm>
            <a:off x="0" y="3500280"/>
            <a:ext cx="2817720" cy="20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Administrator\AppData\Roaming\Tencent\Users\173692760\QQ\WinTemp\RichOle\P_IEN88TIZ7FK11Y%L}M~VT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143760" y="3571920"/>
            <a:ext cx="3000240" cy="1928880"/>
          </a:xfrm>
          <a:prstGeom prst="rect">
            <a:avLst/>
          </a:prstGeom>
          <a:ln w="0">
            <a:noFill/>
          </a:ln>
        </p:spPr>
      </p:pic>
      <p:sp>
        <p:nvSpPr>
          <p:cNvPr id="67" name="矩形 12"/>
          <p:cNvSpPr/>
          <p:nvPr/>
        </p:nvSpPr>
        <p:spPr>
          <a:xfrm>
            <a:off x="0" y="28576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6143760" y="485460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3857760" y="271476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6143760" y="278604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0" y="485460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42920" y="100008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Users\Administrator\AppData\Roaming\Tencent\Users\173692760\QQ\WinTemp\RichOle\VX3}MAP(G5GAOO(P7GIRMVK.jpg"/>
          <p:cNvPicPr/>
          <p:nvPr/>
        </p:nvPicPr>
        <p:blipFill>
          <a:blip r:embed="rId1"/>
          <a:stretch/>
        </p:blipFill>
        <p:spPr>
          <a:xfrm>
            <a:off x="928800" y="3286080"/>
            <a:ext cx="3857400" cy="3259080"/>
          </a:xfrm>
          <a:prstGeom prst="rect">
            <a:avLst/>
          </a:prstGeom>
          <a:ln w="0">
            <a:noFill/>
          </a:ln>
        </p:spPr>
      </p:pic>
      <p:sp>
        <p:nvSpPr>
          <p:cNvPr id="75" name="矩形 8"/>
          <p:cNvSpPr/>
          <p:nvPr/>
        </p:nvSpPr>
        <p:spPr>
          <a:xfrm>
            <a:off x="214200" y="1928880"/>
            <a:ext cx="86439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前所知的金属都有金属光泽。但是有金属光泽的矿物不一定是金属，比如石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072040" y="3571920"/>
            <a:ext cx="40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属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玻璃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丝绢光泽（丝绸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脂肪光泽（蜡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2920" y="3774960"/>
          <a:ext cx="8805960" cy="2225880"/>
        </p:xfrm>
        <a:graphic>
          <a:graphicData uri="http://schemas.openxmlformats.org/drawingml/2006/table">
            <a:tbl>
              <a:tblPr/>
              <a:tblGrid>
                <a:gridCol w="1857240"/>
                <a:gridCol w="1519200"/>
                <a:gridCol w="1336680"/>
                <a:gridCol w="1306800"/>
                <a:gridCol w="1409400"/>
                <a:gridCol w="13766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9" name="矩形 8"/>
          <p:cNvSpPr/>
          <p:nvPr/>
        </p:nvSpPr>
        <p:spPr>
          <a:xfrm>
            <a:off x="2286000" y="434664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3643200" y="43466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4786200" y="43466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614376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2286000" y="49053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3571920" y="49179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5000760" y="4898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7"/>
          <p:cNvSpPr/>
          <p:nvPr/>
        </p:nvSpPr>
        <p:spPr>
          <a:xfrm>
            <a:off x="6286680" y="4913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脂肪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8"/>
          <p:cNvSpPr/>
          <p:nvPr/>
        </p:nvSpPr>
        <p:spPr>
          <a:xfrm>
            <a:off x="7715160" y="49179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9"/>
          <p:cNvSpPr/>
          <p:nvPr/>
        </p:nvSpPr>
        <p:spPr>
          <a:xfrm>
            <a:off x="571680" y="5132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0"/>
          <p:cNvSpPr/>
          <p:nvPr/>
        </p:nvSpPr>
        <p:spPr>
          <a:xfrm>
            <a:off x="752004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3786120" y="2143080"/>
            <a:ext cx="142884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Administrator\AppData\Roaming\Tencent\Users\173692760\QQ\WinTemp\RichOle\}9V11Y(KO]XZ]WWBJPNYQD4.jpg"/>
          <p:cNvPicPr/>
          <p:nvPr/>
        </p:nvPicPr>
        <p:blipFill>
          <a:blip r:embed="rId2"/>
          <a:stretch/>
        </p:blipFill>
        <p:spPr>
          <a:xfrm>
            <a:off x="285840" y="2143080"/>
            <a:ext cx="1571400" cy="119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Administrator\AppData\Roaming\Tencent\Users\173692760\QQ\WinTemp\RichOle\(L24$AZ9~Y[LIF~IB%4XQE0.jpg"/>
          <p:cNvPicPr/>
          <p:nvPr/>
        </p:nvPicPr>
        <p:blipFill>
          <a:blip r:embed="rId3"/>
          <a:stretch/>
        </p:blipFill>
        <p:spPr>
          <a:xfrm>
            <a:off x="2143080" y="2143080"/>
            <a:ext cx="1500120" cy="120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14200" y="1278000"/>
          <a:ext cx="8572680" cy="579240"/>
        </p:xfrm>
        <a:graphic>
          <a:graphicData uri="http://schemas.openxmlformats.org/drawingml/2006/table">
            <a:tbl>
              <a:tblPr/>
              <a:tblGrid>
                <a:gridCol w="1874880"/>
                <a:gridCol w="1649520"/>
                <a:gridCol w="1611360"/>
                <a:gridCol w="1738080"/>
                <a:gridCol w="16988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3" descr="C:\Users\Administrator\AppData\Roaming\Tencent\Users\173692760\QQ\WinTemp\RichOle\(YZ[1NDXONR_WMUY5G~NI5K.jpg"/>
          <p:cNvPicPr/>
          <p:nvPr/>
        </p:nvPicPr>
        <p:blipFill>
          <a:blip r:embed="rId4"/>
          <a:stretch/>
        </p:blipFill>
        <p:spPr>
          <a:xfrm>
            <a:off x="5429160" y="2143080"/>
            <a:ext cx="15224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Users\Administrator\AppData\Roaming\Tencent\Users\173692760\QQ\WinTemp\RichOle\X~$HW4X[AQ`T2%%F4E8JM)7.jpg"/>
          <p:cNvPicPr/>
          <p:nvPr/>
        </p:nvPicPr>
        <p:blipFill>
          <a:blip r:embed="rId5"/>
          <a:stretch/>
        </p:blipFill>
        <p:spPr>
          <a:xfrm>
            <a:off x="7143840" y="2143080"/>
            <a:ext cx="1601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14200" y="10717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着特殊规则的几何形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Administrator\AppData\Roaming\Tencent\Users\173692760\QQ\WinTemp\RichOle\`1G38~2XUW8GRS5J]R231AF.jpg"/>
          <p:cNvPicPr/>
          <p:nvPr/>
        </p:nvPicPr>
        <p:blipFill>
          <a:blip r:embed="rId1"/>
          <a:stretch/>
        </p:blipFill>
        <p:spPr>
          <a:xfrm>
            <a:off x="0" y="1892160"/>
            <a:ext cx="5357880" cy="189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Users\Administrator\AppData\Roaming\Tencent\Users\173692760\QQ\WinTemp\RichOle\A`2W[_2ZN_(Z(NS`RFL1_KI.jpg"/>
          <p:cNvPicPr/>
          <p:nvPr/>
        </p:nvPicPr>
        <p:blipFill>
          <a:blip r:embed="rId2"/>
          <a:stretch/>
        </p:blipFill>
        <p:spPr>
          <a:xfrm>
            <a:off x="5370480" y="1906560"/>
            <a:ext cx="3773520" cy="18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71280" y="4214880"/>
          <a:ext cx="8977320" cy="1158840"/>
        </p:xfrm>
        <a:graphic>
          <a:graphicData uri="http://schemas.openxmlformats.org/drawingml/2006/table">
            <a:tbl>
              <a:tblPr/>
              <a:tblGrid>
                <a:gridCol w="1927440"/>
                <a:gridCol w="1519200"/>
                <a:gridCol w="1336680"/>
                <a:gridCol w="1338120"/>
                <a:gridCol w="1336680"/>
                <a:gridCol w="15192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辉锑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解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几何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000160" y="4786200"/>
          <a:ext cx="7050240" cy="579600"/>
        </p:xfrm>
        <a:graphic>
          <a:graphicData uri="http://schemas.openxmlformats.org/drawingml/2006/table">
            <a:tbl>
              <a:tblPr/>
              <a:tblGrid>
                <a:gridCol w="1519200"/>
                <a:gridCol w="1336680"/>
                <a:gridCol w="1338480"/>
                <a:gridCol w="1336680"/>
                <a:gridCol w="1519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针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粒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板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柱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块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2" name="矩形 11"/>
          <p:cNvSpPr/>
          <p:nvPr/>
        </p:nvSpPr>
        <p:spPr>
          <a:xfrm>
            <a:off x="0" y="585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50920" y="931680"/>
            <a:ext cx="867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矿物的透明度、光泽和形状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可以通过观察矿物碎片的边缘是否能看见其他物体，来衡量矿物的透明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18640" y="52477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853200" y="3033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889920" y="1431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英、长石和云母的特征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4280" y="3879720"/>
          <a:ext cx="6594480" cy="2318040"/>
        </p:xfrm>
        <a:graphic>
          <a:graphicData uri="http://schemas.openxmlformats.org/drawingml/2006/table">
            <a:tbl>
              <a:tblPr/>
              <a:tblGrid>
                <a:gridCol w="1927440"/>
                <a:gridCol w="1219320"/>
                <a:gridCol w="1520640"/>
                <a:gridCol w="1927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硬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云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9" name="Picture 1" descr="C:\Users\Administrator\AppData\Roaming\Tencent\Users\173692760\QQ\WinTemp\RichOle\~J%9NF1$}1JY6~KJ3$UU]~J.jpg"/>
          <p:cNvPicPr/>
          <p:nvPr/>
        </p:nvPicPr>
        <p:blipFill>
          <a:blip r:embed="rId1"/>
          <a:stretch/>
        </p:blipFill>
        <p:spPr>
          <a:xfrm>
            <a:off x="428760" y="1143000"/>
            <a:ext cx="835812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0"/>
          <p:cNvSpPr/>
          <p:nvPr/>
        </p:nvSpPr>
        <p:spPr>
          <a:xfrm>
            <a:off x="440208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0"/>
          <p:cNvSpPr/>
          <p:nvPr/>
        </p:nvSpPr>
        <p:spPr>
          <a:xfrm>
            <a:off x="440208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40208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5892840" y="505476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肉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883120" y="5626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5892840" y="4483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11616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311616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311616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1:37Z</dcterms:modified>
  <cp:revision>140</cp:revision>
  <dc:subject/>
  <dc:title>幻灯片 1</dc:title>
</cp:coreProperties>
</file>