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7C24-6F59-4989-9423-AE88C987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5E8A-1536-475C-82EC-87775505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1FB-41C2-4DAF-A1E0-7B78DCEE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1DAC-5E7A-43CC-8D6A-EB746C7B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9F15-8C42-4996-B229-2CF7E9A9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69B6-C7DE-4EC1-94A5-09AFF865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F7E-1280-405C-9EF8-C6B7C952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01FE-290E-4906-9B5D-FC51B30C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D0AF-BC3C-4B94-88F9-38D5044F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994D-3777-4D40-ACE5-9DC6E1F5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1DE7-25D3-4599-800F-14E5FC1C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8AA-C1CA-42C2-ACAC-1C8C3A92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B814-1B3F-44D0-A0E6-BDB6E7C5A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岩石、矿物和我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0" y="100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被广泛地应用于电气、轻工、机械制造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筑工业、国防工业等领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C:\Users\Administrator\AppData\Roaming\Tencent\Users\173692760\QQ\WinTemp\RichOle\5~9W88IZ(IK)V}S(D71QI`X.jpg"/>
          <p:cNvPicPr/>
          <p:nvPr/>
        </p:nvPicPr>
        <p:blipFill>
          <a:blip r:embed="rId1"/>
          <a:stretch/>
        </p:blipFill>
        <p:spPr>
          <a:xfrm>
            <a:off x="428760" y="2214720"/>
            <a:ext cx="4286160" cy="4406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Administrator\AppData\Roaming\Tencent\Users\173692760\QQ\WinTemp\RichOle\7KQA@8QR5~PQZH7D[C(I2B7.jpg"/>
          <p:cNvPicPr/>
          <p:nvPr/>
        </p:nvPicPr>
        <p:blipFill>
          <a:blip r:embed="rId2"/>
          <a:stretch/>
        </p:blipFill>
        <p:spPr>
          <a:xfrm>
            <a:off x="5000760" y="4357800"/>
            <a:ext cx="1643040" cy="2082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Administrator\AppData\Roaming\Tencent\Users\173692760\QQ\WinTemp\RichOle\PBDHIG%TO(}LH][O_9A`N`2.jpg"/>
          <p:cNvPicPr/>
          <p:nvPr/>
        </p:nvPicPr>
        <p:blipFill>
          <a:blip r:embed="rId3"/>
          <a:stretch/>
        </p:blipFill>
        <p:spPr>
          <a:xfrm>
            <a:off x="5572080" y="2500200"/>
            <a:ext cx="1309680" cy="1214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Administrator\AppData\Roaming\Tencent\Users\173692760\QQ\WinTemp\RichOle\[_J~@H9JU%R~9FAK$5%T$}2.jpg"/>
          <p:cNvPicPr/>
          <p:nvPr/>
        </p:nvPicPr>
        <p:blipFill>
          <a:blip r:embed="rId4"/>
          <a:stretch/>
        </p:blipFill>
        <p:spPr>
          <a:xfrm>
            <a:off x="6908760" y="3643200"/>
            <a:ext cx="2235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0" y="100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被广泛地应用于电气、轻工、机械制造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筑工业、国防工业等领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C:\Users\Administrator\AppData\Roaming\Tencent\Users\173692760\QQ\WinTemp\RichOle\C15ASY2SMRK5$[8ZKC(IO45.jpg"/>
          <p:cNvPicPr/>
          <p:nvPr/>
        </p:nvPicPr>
        <p:blipFill>
          <a:blip r:embed="rId1"/>
          <a:stretch/>
        </p:blipFill>
        <p:spPr>
          <a:xfrm>
            <a:off x="1214280" y="2143080"/>
            <a:ext cx="66009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石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重要的工业材料，医学、雕塑也有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:\Users\Administrator\AppData\Roaming\Tencent\Users\173692760\QQ\WinTemp\RichOle\9T81M@{Y5[A49SRGIP36R64.jpg"/>
          <p:cNvPicPr/>
          <p:nvPr/>
        </p:nvPicPr>
        <p:blipFill>
          <a:blip r:embed="rId1"/>
          <a:stretch/>
        </p:blipFill>
        <p:spPr>
          <a:xfrm>
            <a:off x="285840" y="2143080"/>
            <a:ext cx="2571840" cy="40449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7" descr="11.jpg"/>
          <p:cNvPicPr/>
          <p:nvPr/>
        </p:nvPicPr>
        <p:blipFill>
          <a:blip r:embed="rId2"/>
          <a:stretch/>
        </p:blipFill>
        <p:spPr>
          <a:xfrm>
            <a:off x="6286680" y="2786040"/>
            <a:ext cx="2643120" cy="2379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C:\Users\Administrator\AppData\Roaming\Tencent\Users\173692760\QQ\WinTemp\RichOle\2QI1W~48{AM2UJJVRWF2WDB.jpg"/>
          <p:cNvPicPr/>
          <p:nvPr/>
        </p:nvPicPr>
        <p:blipFill>
          <a:blip r:embed="rId3"/>
          <a:stretch/>
        </p:blipFill>
        <p:spPr>
          <a:xfrm>
            <a:off x="3000240" y="2143080"/>
            <a:ext cx="321480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0" y="107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和矿物是人们生产和生活的宝贵资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14200" y="2004840"/>
          <a:ext cx="8713800" cy="4424400"/>
        </p:xfrm>
        <a:graphic>
          <a:graphicData uri="http://schemas.openxmlformats.org/drawingml/2006/table">
            <a:tbl>
              <a:tblPr/>
              <a:tblGrid>
                <a:gridCol w="2233800"/>
                <a:gridCol w="64800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类标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岩石或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冶炼金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建筑材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活用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医       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装       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28"/>
          <p:cNvSpPr/>
          <p:nvPr/>
        </p:nvSpPr>
        <p:spPr>
          <a:xfrm>
            <a:off x="2519280" y="28288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赤铁矿  方铅矿  黄铜矿  金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2519280" y="35496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大理石  花岗岩  板岩  石灰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2519280" y="42688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食盐  石英  铜  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2519280" y="50608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石膏  朱砂  硼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8"/>
          <p:cNvSpPr/>
          <p:nvPr/>
        </p:nvSpPr>
        <p:spPr>
          <a:xfrm>
            <a:off x="2519280" y="57816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水晶  金刚石  铂金  黄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01300000231408122018731675800"/>
          <p:cNvPicPr/>
          <p:nvPr/>
        </p:nvPicPr>
        <p:blipFill>
          <a:blip r:embed="rId1"/>
          <a:stretch/>
        </p:blipFill>
        <p:spPr>
          <a:xfrm>
            <a:off x="214200" y="857160"/>
            <a:ext cx="4214880" cy="2879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开采及冶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2010124103910308"/>
          <p:cNvPicPr/>
          <p:nvPr/>
        </p:nvPicPr>
        <p:blipFill>
          <a:blip r:embed="rId2"/>
          <a:stretch/>
        </p:blipFill>
        <p:spPr>
          <a:xfrm>
            <a:off x="214200" y="3857760"/>
            <a:ext cx="4214880" cy="287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2007071610112088322"/>
          <p:cNvPicPr/>
          <p:nvPr/>
        </p:nvPicPr>
        <p:blipFill>
          <a:blip r:embed="rId3"/>
          <a:stretch/>
        </p:blipFill>
        <p:spPr>
          <a:xfrm>
            <a:off x="4643280" y="857160"/>
            <a:ext cx="4357800" cy="287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1"/>
          <p:cNvPicPr/>
          <p:nvPr/>
        </p:nvPicPr>
        <p:blipFill>
          <a:blip r:embed="rId4"/>
          <a:stretch/>
        </p:blipFill>
        <p:spPr>
          <a:xfrm>
            <a:off x="4643280" y="3857760"/>
            <a:ext cx="4357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开采及冶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C:\Users\Administrator\AppData\Roaming\Tencent\Users\173692760\QQ\WinTemp\RichOle\S_41%{V0ONPI~U7L1HHPP~U.jpg"/>
          <p:cNvPicPr/>
          <p:nvPr/>
        </p:nvPicPr>
        <p:blipFill>
          <a:blip r:embed="rId1"/>
          <a:stretch/>
        </p:blipFill>
        <p:spPr>
          <a:xfrm>
            <a:off x="214200" y="857160"/>
            <a:ext cx="4286520" cy="29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Administrator\AppData\Roaming\Tencent\Users\173692760\QQ\WinTemp\RichOle\D`NG@VO@YG~47Q{XKU$AY9H.jpg"/>
          <p:cNvPicPr/>
          <p:nvPr/>
        </p:nvPicPr>
        <p:blipFill>
          <a:blip r:embed="rId2"/>
          <a:stretch/>
        </p:blipFill>
        <p:spPr>
          <a:xfrm>
            <a:off x="4714920" y="857160"/>
            <a:ext cx="4286160" cy="2928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Users\Administrator\AppData\Roaming\Tencent\Users\173692760\QQ\WinTemp\RichOle\JS3)M`17UM[GZ86@{@}337J.jpg"/>
          <p:cNvPicPr/>
          <p:nvPr/>
        </p:nvPicPr>
        <p:blipFill>
          <a:blip r:embed="rId3"/>
          <a:stretch/>
        </p:blipFill>
        <p:spPr>
          <a:xfrm>
            <a:off x="214200" y="3970440"/>
            <a:ext cx="4286520" cy="2887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:\Users\Administrator\AppData\Roaming\Tencent\Users\173692760\QQ\WinTemp\RichOle\FV3B$SH%M33]U9STF$FBJNR.jpg"/>
          <p:cNvPicPr/>
          <p:nvPr/>
        </p:nvPicPr>
        <p:blipFill>
          <a:blip r:embed="rId4"/>
          <a:stretch/>
        </p:blipFill>
        <p:spPr>
          <a:xfrm>
            <a:off x="4714920" y="3929040"/>
            <a:ext cx="4286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保护岩石和矿产资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214200" y="100008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国已发现矿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是世界上矿种较齐全的少数国家之一， 其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稀有金属矿、钨矿、锡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种矿产的探明储量居世界前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0070030132305_max"/>
          <p:cNvPicPr/>
          <p:nvPr/>
        </p:nvPicPr>
        <p:blipFill>
          <a:blip r:embed="rId1"/>
          <a:srcRect l="15559" t="0" r="14929" b="0"/>
          <a:stretch/>
        </p:blipFill>
        <p:spPr>
          <a:xfrm rot="936600">
            <a:off x="992160" y="3742920"/>
            <a:ext cx="1589040" cy="2286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2" name="Text Box 7"/>
          <p:cNvSpPr/>
          <p:nvPr/>
        </p:nvSpPr>
        <p:spPr>
          <a:xfrm>
            <a:off x="3214800" y="3643200"/>
            <a:ext cx="535788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产资源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规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产资源属于国家，任何组织和个人不得私自开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285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综艺_GBK"/>
              </a:rPr>
              <a:t>一些非法采矿及加工的危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2_576_1287110142078"/>
          <p:cNvPicPr/>
          <p:nvPr/>
        </p:nvPicPr>
        <p:blipFill>
          <a:blip r:embed="rId1"/>
          <a:stretch/>
        </p:blipFill>
        <p:spPr>
          <a:xfrm>
            <a:off x="0" y="1190520"/>
            <a:ext cx="3059280" cy="1830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4"/>
          <p:cNvPicPr/>
          <p:nvPr/>
        </p:nvPicPr>
        <p:blipFill>
          <a:blip r:embed="rId2"/>
          <a:srcRect l="0" t="0" r="0" b="18545"/>
          <a:stretch/>
        </p:blipFill>
        <p:spPr>
          <a:xfrm>
            <a:off x="0" y="3638520"/>
            <a:ext cx="3059280" cy="192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2007111112455100_2"/>
          <p:cNvPicPr/>
          <p:nvPr/>
        </p:nvPicPr>
        <p:blipFill>
          <a:blip r:embed="rId3"/>
          <a:srcRect l="0" t="0" r="9506" b="0"/>
          <a:stretch/>
        </p:blipFill>
        <p:spPr>
          <a:xfrm>
            <a:off x="6443640" y="1190520"/>
            <a:ext cx="2736720" cy="3894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7586497561518943"/>
          <p:cNvPicPr/>
          <p:nvPr/>
        </p:nvPicPr>
        <p:blipFill>
          <a:blip r:embed="rId4"/>
          <a:stretch/>
        </p:blipFill>
        <p:spPr>
          <a:xfrm>
            <a:off x="3241800" y="1190520"/>
            <a:ext cx="3058920" cy="1814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W020100222860180744898"/>
          <p:cNvPicPr/>
          <p:nvPr/>
        </p:nvPicPr>
        <p:blipFill>
          <a:blip r:embed="rId5"/>
          <a:stretch/>
        </p:blipFill>
        <p:spPr>
          <a:xfrm>
            <a:off x="3241800" y="3638520"/>
            <a:ext cx="3058920" cy="19512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34920" y="2997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非法采矿造成的地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203640" y="2997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采矿造成的环境恶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4920" y="56358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非法采矿小矿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987640" y="56358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非法的土法加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6516720" y="5229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非法加工过程中直接向江河排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3" descr="1-110f914324j15"/>
          <p:cNvPicPr/>
          <p:nvPr/>
        </p:nvPicPr>
        <p:blipFill>
          <a:blip r:embed="rId1"/>
          <a:srcRect l="0" t="8206" r="0" b="12194"/>
          <a:stretch/>
        </p:blipFill>
        <p:spPr>
          <a:xfrm>
            <a:off x="785880" y="857160"/>
            <a:ext cx="7632720" cy="5802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保护岩石和矿产资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928800" y="2786040"/>
            <a:ext cx="721512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综艺_GBK"/>
                <a:ea typeface="方正综艺_GBK"/>
              </a:rPr>
              <a:t>我们的家乡都有哪些矿产资源，人们是怎样进行开采、利用和保护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217440" y="93780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铁是从铁矿石中提炼出来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用的铅笔芯是石墨做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可以盖房子、铺路等，作用很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823320" y="386028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22960" y="2707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822960" y="1628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527040" y="2643120"/>
            <a:ext cx="5330880" cy="357192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6143760" y="3071880"/>
            <a:ext cx="2428920" cy="283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践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网查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互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214200" y="128592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采用哪些方法了解岩石和矿物的用途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50920" y="91008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和矿物被开采后就不能再生了，因此要保护和合理利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产资源属于国家，任何组织和个人不得私自开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国已探明的稀有金属矿产储量居世界前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823320" y="436500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822960" y="2707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822960" y="1051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"/>
          <p:cNvSpPr/>
          <p:nvPr/>
        </p:nvSpPr>
        <p:spPr>
          <a:xfrm>
            <a:off x="0" y="928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产和生活中广泛用到岩石和矿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2932200" cy="22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357120" y="4286160"/>
          <a:ext cx="8429760" cy="2386080"/>
        </p:xfrm>
        <a:graphic>
          <a:graphicData uri="http://schemas.openxmlformats.org/drawingml/2006/table">
            <a:tbl>
              <a:tblPr/>
              <a:tblGrid>
                <a:gridCol w="3214800"/>
                <a:gridCol w="5214960"/>
              </a:tblGrid>
              <a:tr h="64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岩石或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  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571920" y="1998720"/>
            <a:ext cx="2357280" cy="193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6141960" y="2000160"/>
            <a:ext cx="2644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质地坚硬，色泽美丽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建筑、雕刻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Administrator\AppData\Roaming\Tencent\Users\173692760\QQ\WinTemp\RichOle\Q1@8NNRES`CTVKP2LBJA_UL.jpg"/>
          <p:cNvPicPr/>
          <p:nvPr/>
        </p:nvPicPr>
        <p:blipFill>
          <a:blip r:embed="rId1"/>
          <a:stretch/>
        </p:blipFill>
        <p:spPr>
          <a:xfrm>
            <a:off x="857160" y="1785960"/>
            <a:ext cx="7358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质地坚硬，色泽美丽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建筑、雕刻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C:\Users\Administrator\AppData\Roaming\Tencent\Users\173692760\QQ\WinTemp\RichOle\7}RZF@27(}HHCT8EA[KMP%D.jpg"/>
          <p:cNvPicPr/>
          <p:nvPr/>
        </p:nvPicPr>
        <p:blipFill>
          <a:blip r:embed="rId1"/>
          <a:stretch/>
        </p:blipFill>
        <p:spPr>
          <a:xfrm>
            <a:off x="1000080" y="1785960"/>
            <a:ext cx="7257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质地坚硬，色泽美丽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建筑、雕刻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C:\Users\Administrator\AppData\Roaming\Tencent\Users\173692760\QQ\WinTemp\RichOle\0K}IIJ``91__Q3I2Z6RA599.jpg"/>
          <p:cNvPicPr/>
          <p:nvPr/>
        </p:nvPicPr>
        <p:blipFill>
          <a:blip r:embed="rId1"/>
          <a:stretch/>
        </p:blipFill>
        <p:spPr>
          <a:xfrm>
            <a:off x="142920" y="2000160"/>
            <a:ext cx="5429160" cy="4286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Administrator\AppData\Roaming\Tencent\Users\173692760\QQ\WinTemp\RichOle\6E8KP]PYT7AYG}9J~W)FN~7.jpg"/>
          <p:cNvPicPr/>
          <p:nvPr/>
        </p:nvPicPr>
        <p:blipFill>
          <a:blip r:embed="rId2"/>
          <a:stretch/>
        </p:blipFill>
        <p:spPr>
          <a:xfrm>
            <a:off x="5715000" y="2000160"/>
            <a:ext cx="32194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C:\Users\Administrator\AppData\Roaming\Tencent\Users\173692760\QQ\WinTemp\RichOle\N04KUP(L8FBY(HTLSN[GIMW.jpg"/>
          <p:cNvPicPr/>
          <p:nvPr/>
        </p:nvPicPr>
        <p:blipFill>
          <a:blip r:embed="rId1"/>
          <a:stretch/>
        </p:blipFill>
        <p:spPr>
          <a:xfrm>
            <a:off x="285840" y="1928880"/>
            <a:ext cx="5143320" cy="4159080"/>
          </a:xfrm>
          <a:prstGeom prst="rect">
            <a:avLst/>
          </a:prstGeom>
          <a:ln w="0">
            <a:noFill/>
          </a:ln>
        </p:spPr>
      </p:pic>
      <p:sp>
        <p:nvSpPr>
          <p:cNvPr id="65" name="矩形 3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、银、钻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精美的首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Users\Administrator\AppData\Roaming\Tencent\Users\173692760\QQ\WinTemp\RichOle\R(`ZSPI]ERI$$_MB~6{I{H4.jpg"/>
          <p:cNvPicPr/>
          <p:nvPr/>
        </p:nvPicPr>
        <p:blipFill>
          <a:blip r:embed="rId2"/>
          <a:stretch/>
        </p:blipFill>
        <p:spPr>
          <a:xfrm>
            <a:off x="5767560" y="4071960"/>
            <a:ext cx="2947680" cy="202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Administrator\AppData\Roaming\Tencent\Users\173692760\QQ\WinTemp\RichOle\M5DR]]QFFDF7TXEGM1M0_1R.jpg"/>
          <p:cNvPicPr/>
          <p:nvPr/>
        </p:nvPicPr>
        <p:blipFill>
          <a:blip r:embed="rId3"/>
          <a:stretch/>
        </p:blipFill>
        <p:spPr>
          <a:xfrm>
            <a:off x="5786280" y="1905120"/>
            <a:ext cx="292896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Users\Administrator\AppData\Roaming\Tencent\Users\173692760\QQ\WinTemp\RichOle\X{{`IFHSL9SS@]1B]0(T4YC.jpg"/>
          <p:cNvPicPr/>
          <p:nvPr/>
        </p:nvPicPr>
        <p:blipFill>
          <a:blip r:embed="rId1"/>
          <a:stretch/>
        </p:blipFill>
        <p:spPr>
          <a:xfrm>
            <a:off x="285840" y="1928880"/>
            <a:ext cx="4572000" cy="4048200"/>
          </a:xfrm>
          <a:prstGeom prst="rect">
            <a:avLst/>
          </a:prstGeom>
          <a:ln w="0">
            <a:noFill/>
          </a:ln>
        </p:spPr>
      </p:pic>
      <p:sp>
        <p:nvSpPr>
          <p:cNvPr id="70" name="矩形 3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、银、钻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精美的首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Users\Administrator\AppData\Roaming\Tencent\Users\173692760\QQ\WinTemp\RichOle\FCLVHL5`AUG(}_YW_GI`~CD.jpg"/>
          <p:cNvPicPr/>
          <p:nvPr/>
        </p:nvPicPr>
        <p:blipFill>
          <a:blip r:embed="rId2"/>
          <a:stretch/>
        </p:blipFill>
        <p:spPr>
          <a:xfrm>
            <a:off x="5000760" y="1928880"/>
            <a:ext cx="4071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0" y="100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被广泛地应用于电气、轻工、机械制造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筑工业、国防工业等领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:\Users\Administrator\AppData\Roaming\Tencent\Users\173692760\QQ\WinTemp\RichOle\_~MRPJ((X](E[U$0X9JBNMK.jpg"/>
          <p:cNvPicPr/>
          <p:nvPr/>
        </p:nvPicPr>
        <p:blipFill>
          <a:blip r:embed="rId1"/>
          <a:stretch/>
        </p:blipFill>
        <p:spPr>
          <a:xfrm>
            <a:off x="357120" y="2286000"/>
            <a:ext cx="3916440" cy="4214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Administrator\AppData\Roaming\Tencent\Users\173692760\QQ\WinTemp\RichOle\${ABXFGECINYXCX4_6@CY6H.jpg"/>
          <p:cNvPicPr/>
          <p:nvPr/>
        </p:nvPicPr>
        <p:blipFill>
          <a:blip r:embed="rId2"/>
          <a:stretch/>
        </p:blipFill>
        <p:spPr>
          <a:xfrm>
            <a:off x="4786200" y="2286000"/>
            <a:ext cx="37864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cp:keywords/>
  <dc:language>en-US</dc:language>
  <cp:lastModifiedBy>Administrator</cp:lastModifiedBy>
  <dcterms:modified xsi:type="dcterms:W3CDTF">2016-02-24T05:12:10Z</dcterms:modified>
  <cp:revision>1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