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860-0D72-4934-B800-56FB6ECE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B89-1824-4ADE-8B8D-6BDCF6D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653-F0FC-4104-9F63-00A0227D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B93-5540-4929-8289-2F5C294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3DC-8C60-4EA2-A35A-27125932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325-6F2D-4218-B078-EBE77643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160-A8C2-438A-A0B4-44074BD2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F6B-39B2-4266-8936-EB63B32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290-122A-43B9-8D25-C542450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C31-A555-4442-B62E-986CCB4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42F-CC9D-4785-8F49-AA0E728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ECD-298D-4F0E-920E-47158C3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0388-951D-454F-B06B-4F2F9343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C@9QV)W(}6M8]C%IWE{Y(ZC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5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istrator\AppData\Roaming\Tencent\Users\173692760\QQ\WinTemp\RichOle\VU0]MJJK7}1(B`OZ(MTF88W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Administrator\AppData\Roaming\Tencent\Users\173692760\QQ\WinTemp\RichOle\4SSLV`~O9S8(FK]C`(_P$S7.jpg"/>
          <p:cNvPicPr/>
          <p:nvPr/>
        </p:nvPicPr>
        <p:blipFill>
          <a:blip r:embed="rId3"/>
          <a:stretch/>
        </p:blipFill>
        <p:spPr>
          <a:xfrm>
            <a:off x="0" y="378612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Administrator\AppData\Roaming\Tencent\Users\173692760\QQ\WinTemp\RichOle\]}5Q(}_Y9GU3PRX6(KIJH5E.jpg"/>
          <p:cNvPicPr/>
          <p:nvPr/>
        </p:nvPicPr>
        <p:blipFill>
          <a:blip r:embed="rId4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285920" y="3214800"/>
            <a:ext cx="6572160" cy="703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图片的共同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2920" y="44910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喜欢的岩石，洗干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自己的岩石，记录特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4680" y="1357200"/>
            <a:ext cx="5715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5SQ)ESS%CGYEDBZR%((I9IW.jpg"/>
          <p:cNvPicPr/>
          <p:nvPr/>
        </p:nvPicPr>
        <p:blipFill>
          <a:blip r:embed="rId1"/>
          <a:stretch/>
        </p:blipFill>
        <p:spPr>
          <a:xfrm>
            <a:off x="0" y="2143080"/>
            <a:ext cx="909972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57120" y="3652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7120" y="4367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7120" y="50101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7120" y="57214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14800" y="3652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、花纹、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214800" y="4367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糙还是光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14800" y="5010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14800" y="57214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1434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一块岩石，充分运用感官观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Administrator\AppData\Roaming\Tencent\Users\173692760\QQ\WinTemp\RichOle\W8W`UMD~Z(1VRY3~O1VZFGN.jpg"/>
          <p:cNvPicPr/>
          <p:nvPr/>
        </p:nvPicPr>
        <p:blipFill>
          <a:blip r:embed="rId1"/>
          <a:stretch/>
        </p:blipFill>
        <p:spPr>
          <a:xfrm>
            <a:off x="3429000" y="2214720"/>
            <a:ext cx="2143080" cy="2393640"/>
          </a:xfrm>
          <a:prstGeom prst="rect">
            <a:avLst/>
          </a:prstGeom>
          <a:ln w="0">
            <a:noFill/>
          </a:ln>
        </p:spPr>
      </p:pic>
      <p:sp>
        <p:nvSpPr>
          <p:cNvPr id="63" name="椭圆 9"/>
          <p:cNvSpPr/>
          <p:nvPr/>
        </p:nvSpPr>
        <p:spPr>
          <a:xfrm>
            <a:off x="607212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6072120" y="250020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607212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1420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21420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314316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314316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9"/>
          <p:cNvSpPr/>
          <p:nvPr/>
        </p:nvSpPr>
        <p:spPr>
          <a:xfrm>
            <a:off x="2357280" y="1785960"/>
            <a:ext cx="1071720" cy="42876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22"/>
          <p:cNvSpPr/>
          <p:nvPr/>
        </p:nvSpPr>
        <p:spPr>
          <a:xfrm flipV="1">
            <a:off x="2428920" y="457164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6"/>
          <p:cNvSpPr/>
          <p:nvPr/>
        </p:nvSpPr>
        <p:spPr>
          <a:xfrm flipV="1">
            <a:off x="5500800" y="171432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>
            <a:off x="5572080" y="4572000"/>
            <a:ext cx="907920" cy="61920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5"/>
          <p:cNvSpPr/>
          <p:nvPr/>
        </p:nvSpPr>
        <p:spPr>
          <a:xfrm>
            <a:off x="5572080" y="3357720"/>
            <a:ext cx="500040" cy="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4572000" y="1928880"/>
            <a:ext cx="0" cy="2858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8"/>
          <p:cNvSpPr/>
          <p:nvPr/>
        </p:nvSpPr>
        <p:spPr>
          <a:xfrm>
            <a:off x="4572000" y="4572000"/>
            <a:ext cx="0" cy="35712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3"/>
          <p:cNvSpPr/>
          <p:nvPr/>
        </p:nvSpPr>
        <p:spPr>
          <a:xfrm>
            <a:off x="5716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357192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5"/>
          <p:cNvSpPr/>
          <p:nvPr/>
        </p:nvSpPr>
        <p:spPr>
          <a:xfrm>
            <a:off x="65008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6"/>
          <p:cNvSpPr/>
          <p:nvPr/>
        </p:nvSpPr>
        <p:spPr>
          <a:xfrm>
            <a:off x="6500880" y="30718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7"/>
          <p:cNvSpPr/>
          <p:nvPr/>
        </p:nvSpPr>
        <p:spPr>
          <a:xfrm>
            <a:off x="6572160" y="550080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气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8"/>
          <p:cNvSpPr/>
          <p:nvPr/>
        </p:nvSpPr>
        <p:spPr>
          <a:xfrm>
            <a:off x="3571920" y="54291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9"/>
          <p:cNvSpPr/>
          <p:nvPr/>
        </p:nvSpPr>
        <p:spPr>
          <a:xfrm>
            <a:off x="714240" y="535788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5214600" cy="4076640"/>
          </a:xfrm>
          <a:prstGeom prst="rect">
            <a:avLst/>
          </a:prstGeom>
          <a:ln w="0">
            <a:noFill/>
          </a:ln>
        </p:spPr>
      </p:pic>
      <p:sp>
        <p:nvSpPr>
          <p:cNvPr id="86" name="矩形 28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准备按什么标准给岩石分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6715080" y="2071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4643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方法结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不同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一些岩石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标准下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可以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入不同的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Administrator\AppData\Roaming\Tencent\Users\173692760\QQ\WinTemp\RichOle\I]C@5}$Q%6IL3GG8(U$G067.jpg"/>
          <p:cNvPicPr/>
          <p:nvPr/>
        </p:nvPicPr>
        <p:blipFill>
          <a:blip r:embed="rId1"/>
          <a:stretch/>
        </p:blipFill>
        <p:spPr>
          <a:xfrm>
            <a:off x="-31680" y="1285920"/>
            <a:ext cx="91756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岩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资料库《岩石的成因和分类》，了解不同类别的岩石在地球运动中的形成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dministrator\AppData\Roaming\Tencent\Users\173692760\QQ\WinTemp\RichOle\BY~LJR9`)M74ZAU2V@OQ{LN.jpg"/>
          <p:cNvPicPr/>
          <p:nvPr/>
        </p:nvPicPr>
        <p:blipFill>
          <a:blip r:embed="rId1"/>
          <a:stretch/>
        </p:blipFill>
        <p:spPr>
          <a:xfrm>
            <a:off x="142920" y="1155600"/>
            <a:ext cx="3448080" cy="234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Administrator\AppData\Roaming\Tencent\Users\173692760\QQ\WinTemp\RichOle\7QWZ98(3@V8LE6NRWYQ_SND.jpg"/>
          <p:cNvPicPr/>
          <p:nvPr/>
        </p:nvPicPr>
        <p:blipFill>
          <a:blip r:embed="rId2"/>
          <a:stretch/>
        </p:blipFill>
        <p:spPr>
          <a:xfrm>
            <a:off x="3714840" y="1143000"/>
            <a:ext cx="3286080" cy="238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Administrator\AppData\Roaming\Tencent\Users\173692760\QQ\WinTemp\RichOle\O4)9NY~Y@})V{ZKQGVGMWHP.jpg"/>
          <p:cNvPicPr/>
          <p:nvPr/>
        </p:nvPicPr>
        <p:blipFill>
          <a:blip r:embed="rId3"/>
          <a:stretch/>
        </p:blipFill>
        <p:spPr>
          <a:xfrm>
            <a:off x="7143840" y="1155600"/>
            <a:ext cx="1928880" cy="23576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0" y="378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以黏土为主要原料经过高温烧制而成的，不属于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是地球的重要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野外采集岩石，一定要在大人的带领下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照不同的分类标准，同一块岩石只能归入一个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留有古代生物遗体或遗迹的岩石，叫做化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39440" y="328392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53200" y="164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53200" y="57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229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17Z</dcterms:modified>
  <cp:revision>124</cp:revision>
  <dc:subject/>
  <dc:title>幻灯片 1</dc:title>
</cp:coreProperties>
</file>