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F3D-2B90-45E5-B0ED-FF3A91F2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B47-6B45-4D22-A6F3-59D70C15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212-C24B-4F3D-BC7C-BDBA2C98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5BB-57B8-4C9C-893C-611DCDB5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26E-7BDE-4B96-BDB9-D95A07B4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BDD-47C1-4DFE-B123-F0EF511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D52-CC59-4152-8992-C426C86D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DD8-8582-453C-9D99-8D1A024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091-EA83-4ABC-9B7E-60646C7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851-20E6-4FEE-A0C9-439D06F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869-AF1B-44D1-8489-C3346AB5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603-D2FC-444A-A1DE-4941446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C7F-BC6C-4A03-8344-CED1B027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的组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AppData\Roaming\Tencent\Users\173692760\QQ\WinTemp\RichOle\K$YSNCM9J$WPVY7PEPK[4EW.jpg"/>
          <p:cNvPicPr/>
          <p:nvPr/>
        </p:nvPicPr>
        <p:blipFill>
          <a:blip r:embed="rId1"/>
          <a:stretch/>
        </p:blipFill>
        <p:spPr>
          <a:xfrm>
            <a:off x="247680" y="2000160"/>
            <a:ext cx="461016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Administrator\AppData\Roaming\Tencent\Users\173692760\QQ\WinTemp\RichOle\(L24$AZ9~Y[LIF~IB%4XQE0.jpg"/>
          <p:cNvPicPr/>
          <p:nvPr/>
        </p:nvPicPr>
        <p:blipFill>
          <a:blip r:embed="rId2"/>
          <a:stretch/>
        </p:blipFill>
        <p:spPr>
          <a:xfrm>
            <a:off x="5143680" y="2000160"/>
            <a:ext cx="36716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包括食盐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和工业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，使蛋白质凝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Users\Administrator\AppData\Roaming\Tencent\Users\173692760\QQ\WinTemp\RichOle\UFRNZPRMWM4ECEYS_(6YA{O.jpg"/>
          <p:cNvPicPr/>
          <p:nvPr/>
        </p:nvPicPr>
        <p:blipFill>
          <a:blip r:embed="rId1"/>
          <a:stretch/>
        </p:blipFill>
        <p:spPr>
          <a:xfrm>
            <a:off x="5357880" y="1928880"/>
            <a:ext cx="3286080" cy="344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dministrator\AppData\Roaming\Tencent\Users\173692760\QQ\WinTemp\RichOle\J`0$3GVZHTFMU0`S~4@B`NW.jpg"/>
          <p:cNvPicPr/>
          <p:nvPr/>
        </p:nvPicPr>
        <p:blipFill>
          <a:blip r:embed="rId2"/>
          <a:stretch/>
        </p:blipFill>
        <p:spPr>
          <a:xfrm>
            <a:off x="428760" y="2000160"/>
            <a:ext cx="440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软矿物，铅笔芯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(UMS$AWJ9~A%{13WBJ0019S.jpg"/>
          <p:cNvPicPr/>
          <p:nvPr/>
        </p:nvPicPr>
        <p:blipFill>
          <a:blip r:embed="rId1"/>
          <a:stretch/>
        </p:blipFill>
        <p:spPr>
          <a:xfrm>
            <a:off x="147600" y="1928880"/>
            <a:ext cx="485316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istrator\AppData\Roaming\Tencent\Users\173692760\QQ\WinTemp\RichOle\KIQIK(~6UEEDK}CU{Z9X1)O.jpg"/>
          <p:cNvPicPr/>
          <p:nvPr/>
        </p:nvPicPr>
        <p:blipFill>
          <a:blip r:embed="rId2"/>
          <a:stretch/>
        </p:blipFill>
        <p:spPr>
          <a:xfrm>
            <a:off x="5072040" y="1928880"/>
            <a:ext cx="390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，还可以作颜料、玻璃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C:\Users\Administrator\AppData\Roaming\Tencent\Users\173692760\QQ\WinTemp\RichOle\ILD3}Q0PSK)S(U{EH]HV5B0.jpg"/>
          <p:cNvPicPr/>
          <p:nvPr/>
        </p:nvPicPr>
        <p:blipFill>
          <a:blip r:embed="rId1"/>
          <a:stretch/>
        </p:blipFill>
        <p:spPr>
          <a:xfrm>
            <a:off x="1857240" y="1928880"/>
            <a:ext cx="5389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硫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造染料、农药、火柴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Administrator\AppData\Roaming\Tencent\Users\173692760\QQ\WinTemp\RichOle\UA78TQFN$(F%BTA2OR2MAIK.jpg"/>
          <p:cNvPicPr/>
          <p:nvPr/>
        </p:nvPicPr>
        <p:blipFill>
          <a:blip r:embed="rId1"/>
          <a:stretch/>
        </p:blipFill>
        <p:spPr>
          <a:xfrm>
            <a:off x="142920" y="1986120"/>
            <a:ext cx="4357800" cy="35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Administrator\AppData\Roaming\Tencent\Users\173692760\QQ\WinTemp\RichOle\(YZ[1NDXONR_WMUY5G~NI5K.jpg"/>
          <p:cNvPicPr/>
          <p:nvPr/>
        </p:nvPicPr>
        <p:blipFill>
          <a:blip r:embed="rId2"/>
          <a:stretch/>
        </p:blipFill>
        <p:spPr>
          <a:xfrm>
            <a:off x="4613400" y="2000160"/>
            <a:ext cx="43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119160" y="1857240"/>
            <a:ext cx="452412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AppData\Roaming\Tencent\Users\173692760\QQ\WinTemp\RichOle\L{88T`N](%@}74L)$QOSR{U.jpg"/>
          <p:cNvPicPr/>
          <p:nvPr/>
        </p:nvPicPr>
        <p:blipFill>
          <a:blip r:embed="rId2"/>
          <a:stretch/>
        </p:blipFill>
        <p:spPr>
          <a:xfrm>
            <a:off x="4754520" y="1857240"/>
            <a:ext cx="424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Administrator\AppData\Roaming\Tencent\Users\173692760\QQ\WinTemp\RichOle\[RV8_O`_WM~[_Q{@%HMA)$J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71960" cy="38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\AppData\Roaming\Tencent\Users\173692760\QQ\WinTemp\RichOle\MX2BQ2HVWA)4HIHIEVU$J7G.jpg"/>
          <p:cNvPicPr/>
          <p:nvPr/>
        </p:nvPicPr>
        <p:blipFill>
          <a:blip r:embed="rId2"/>
          <a:stretch/>
        </p:blipFill>
        <p:spPr>
          <a:xfrm>
            <a:off x="142920" y="1785960"/>
            <a:ext cx="455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刚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，最坚硬切割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C:\Users\Administrator\AppData\Roaming\Tencent\Users\173692760\QQ\WinTemp\RichOle\}9V11Y(KO]XZ]WWBJPNYQD4.jpg"/>
          <p:cNvPicPr/>
          <p:nvPr/>
        </p:nvPicPr>
        <p:blipFill>
          <a:blip r:embed="rId1"/>
          <a:stretch/>
        </p:blipFill>
        <p:spPr>
          <a:xfrm>
            <a:off x="5857920" y="3000240"/>
            <a:ext cx="259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]~8KAM0ZIUH7J26VPFQV])B.jpg"/>
          <p:cNvPicPr/>
          <p:nvPr/>
        </p:nvPicPr>
        <p:blipFill>
          <a:blip r:embed="rId2"/>
          <a:stretch/>
        </p:blipFill>
        <p:spPr>
          <a:xfrm>
            <a:off x="571680" y="2000160"/>
            <a:ext cx="47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和主要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85840" y="51436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更多矿物的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57240" y="1143000"/>
            <a:ext cx="2571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、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钻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214960" y="114300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铅笔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3000240" y="150012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0"/>
          <p:cNvSpPr/>
          <p:nvPr/>
        </p:nvSpPr>
        <p:spPr>
          <a:xfrm>
            <a:off x="3071880" y="214308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V="1">
            <a:off x="3000240" y="1571400"/>
            <a:ext cx="2286000" cy="12142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"/>
          <p:cNvSpPr/>
          <p:nvPr/>
        </p:nvSpPr>
        <p:spPr>
          <a:xfrm>
            <a:off x="3500280" y="3429000"/>
            <a:ext cx="1785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 flipV="1">
            <a:off x="3000240" y="3428640"/>
            <a:ext cx="2286000" cy="5000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9"/>
          <p:cNvSpPr/>
          <p:nvPr/>
        </p:nvSpPr>
        <p:spPr>
          <a:xfrm flipV="1">
            <a:off x="2928960" y="3929040"/>
            <a:ext cx="2357280" cy="7142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2200" y="66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是组成地壳岩石的重要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主要是由石英、长石、云母三种矿物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上已知的矿物有近百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45000" y="119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62560" y="443592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45000" y="263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可以由一种矿物所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岩石由多种矿物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AppData\Roaming\Tencent\Users\173692760\QQ\WinTemp\RichOle\RBC`YX`W4W97ZY~9)R]OAXS.jpg"/>
          <p:cNvPicPr/>
          <p:nvPr/>
        </p:nvPicPr>
        <p:blipFill>
          <a:blip r:embed="rId1"/>
          <a:stretch/>
        </p:blipFill>
        <p:spPr>
          <a:xfrm>
            <a:off x="857160" y="1071720"/>
            <a:ext cx="2928960" cy="219204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429080" y="1285920"/>
            <a:ext cx="39290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灰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方解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矿物所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857160" y="4429080"/>
            <a:ext cx="297180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4429080" y="4643280"/>
            <a:ext cx="39290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、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多种矿物集合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50920" y="11588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我们发现云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状或鳞片状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角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泛应用于制造水泥，制作模型、塑像，还用于医疗手术的矿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膏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02000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923160" y="20012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C:\Users\Administrator\AppData\Roaming\Tencent\Users\173692760\QQ\WinTemp\RichOle\)K@G@L]IT_$ZJF}L_(2H$(5.jpg"/>
          <p:cNvPicPr/>
          <p:nvPr/>
        </p:nvPicPr>
        <p:blipFill>
          <a:blip r:embed="rId1"/>
          <a:stretch/>
        </p:blipFill>
        <p:spPr>
          <a:xfrm>
            <a:off x="14292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istrator\AppData\Roaming\Tencent\Users\173692760\QQ\WinTemp\RichOle\`6T${4GC3E7PDW3@G9B8C[V.jpg"/>
          <p:cNvPicPr/>
          <p:nvPr/>
        </p:nvPicPr>
        <p:blipFill>
          <a:blip r:embed="rId2"/>
          <a:stretch/>
        </p:blipFill>
        <p:spPr>
          <a:xfrm>
            <a:off x="505944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dministrator\AppData\Roaming\Tencent\Users\173692760\QQ\WinTemp\RichOle\%Q7[H5DMDYXK4]4[2$E[WE4.jpg"/>
          <p:cNvPicPr/>
          <p:nvPr/>
        </p:nvPicPr>
        <p:blipFill>
          <a:blip r:embed="rId3"/>
          <a:stretch/>
        </p:blipFill>
        <p:spPr>
          <a:xfrm>
            <a:off x="142920" y="40006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E0QALVTIIRC@5@%)V%6@QAC.jpg"/>
          <p:cNvPicPr/>
          <p:nvPr/>
        </p:nvPicPr>
        <p:blipFill>
          <a:blip r:embed="rId4"/>
          <a:stretch/>
        </p:blipFill>
        <p:spPr>
          <a:xfrm>
            <a:off x="5059440" y="392904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9996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7102440" y="592920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99960" y="593568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710244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260600" y="1785960"/>
            <a:ext cx="51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142920" y="202896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0" y="1028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坚硬，颜色美观，是优质的建筑石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785880" y="57117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3571920" y="57117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6429240" y="57117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IYYW)78FGOIUPQ_`[L3XJQI.jpg"/>
          <p:cNvPicPr/>
          <p:nvPr/>
        </p:nvPicPr>
        <p:blipFill>
          <a:blip r:embed="rId2"/>
          <a:stretch/>
        </p:blipFill>
        <p:spPr>
          <a:xfrm>
            <a:off x="4500720" y="2100240"/>
            <a:ext cx="4481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7"/>
          <p:cNvSpPr/>
          <p:nvPr/>
        </p:nvSpPr>
        <p:spPr>
          <a:xfrm>
            <a:off x="428760" y="5072040"/>
            <a:ext cx="86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或不透明，一般是乳白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Administrator\AppData\Roaming\Tencent\Users\173692760\QQ\WinTemp\RichOle\)0EELQ7LJ(2@%X%VEHE6PQM.jpg"/>
          <p:cNvPicPr/>
          <p:nvPr/>
        </p:nvPicPr>
        <p:blipFill>
          <a:blip r:embed="rId2"/>
          <a:stretch/>
        </p:blipFill>
        <p:spPr>
          <a:xfrm>
            <a:off x="5349960" y="1143000"/>
            <a:ext cx="300816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：长石分两大类，其中正长石的颜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为肉红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Administrator\AppData\Roaming\Tencent\Users\173692760\QQ\WinTemp\RichOle\{2%I$IM$M1V{FU{DIPKEAUB.jpg"/>
          <p:cNvPicPr/>
          <p:nvPr/>
        </p:nvPicPr>
        <p:blipFill>
          <a:blip r:embed="rId2"/>
          <a:stretch/>
        </p:blipFill>
        <p:spPr>
          <a:xfrm>
            <a:off x="5000760" y="1214280"/>
            <a:ext cx="344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：云母家族种类很多，其中黑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至深褐色，较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AppData\Roaming\Tencent\Users\173692760\QQ\WinTemp\RichOle\H$9IQ8TW$S]ZE(4OJVP~C)Y.jpg"/>
          <p:cNvPicPr/>
          <p:nvPr/>
        </p:nvPicPr>
        <p:blipFill>
          <a:blip r:embed="rId2"/>
          <a:stretch/>
        </p:blipFill>
        <p:spPr>
          <a:xfrm>
            <a:off x="5500800" y="12142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33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~J%9NF1$}1JY6~KJ3$UU]~J.jpg"/>
          <p:cNvPicPr/>
          <p:nvPr/>
        </p:nvPicPr>
        <p:blipFill>
          <a:blip r:embed="rId2"/>
          <a:stretch/>
        </p:blipFill>
        <p:spPr>
          <a:xfrm>
            <a:off x="214200" y="4429080"/>
            <a:ext cx="83584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3"/>
          <p:cNvSpPr/>
          <p:nvPr/>
        </p:nvSpPr>
        <p:spPr>
          <a:xfrm>
            <a:off x="7572240" y="1071720"/>
            <a:ext cx="157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786200" y="1071720"/>
            <a:ext cx="23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6714360" y="1357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2"/>
          <p:cNvSpPr/>
          <p:nvPr/>
        </p:nvSpPr>
        <p:spPr>
          <a:xfrm>
            <a:off x="6786000" y="2500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"/>
          <p:cNvSpPr/>
          <p:nvPr/>
        </p:nvSpPr>
        <p:spPr>
          <a:xfrm flipV="1">
            <a:off x="6786720" y="1428480"/>
            <a:ext cx="785520" cy="21430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小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214200" y="1428840"/>
            <a:ext cx="871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在自然界中很少单独存在，通常都是几种混杂在一起组成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的岩石都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种或几种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和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和云母都是自然界的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0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