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F790-B773-4697-9502-40685EDA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D615-66F0-4A9E-A40D-091EB448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B434-9614-4173-9955-86021DED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BAB3-EFEC-4425-B650-D7A2B6C7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72F-05D7-4DC2-8A8D-353D1B9E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553-C6C5-4633-8F98-C3738762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A795-B14B-4636-B7C1-961E0414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8F6-61B0-49F8-9610-E130C49A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671B-816E-4928-880B-6ECF360E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816-777A-496B-AB47-64BFB20F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AF3-638F-475F-A422-1670C698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F92-5FFC-42E7-B06F-52D18F58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0BBE-3BA7-43B4-8AD9-E77E57374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观察、描述矿物（二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142920" y="30002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的观察和描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4786200" y="7858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4786200" y="164304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条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4786200" y="25066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786200" y="42148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4786200" y="336384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透明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4786200" y="507852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左大括号 8"/>
          <p:cNvSpPr/>
          <p:nvPr/>
        </p:nvSpPr>
        <p:spPr>
          <a:xfrm>
            <a:off x="4500720" y="1143000"/>
            <a:ext cx="285480" cy="4429080"/>
          </a:xfrm>
          <a:custGeom>
            <a:avLst/>
            <a:gdLst>
              <a:gd name="textAreaLeft" fmla="*/ 182520 w 285480"/>
              <a:gd name="textAreaRight" fmla="*/ 285840 w 285480"/>
              <a:gd name="textAreaTop" fmla="*/ 76680 h 4429080"/>
              <a:gd name="textAreaBottom" fmla="*/ 4352400 h 44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0"/>
                  <a:pt x="10800" y="1199"/>
                </a:cubicBezTo>
                <a:lnTo>
                  <a:pt x="10800" y="9601"/>
                </a:lnTo>
                <a:cubicBezTo>
                  <a:pt x="10800" y="10201"/>
                  <a:pt x="5400" y="10800"/>
                  <a:pt x="0" y="10800"/>
                </a:cubicBezTo>
                <a:cubicBezTo>
                  <a:pt x="5400" y="10800"/>
                  <a:pt x="10800" y="11400"/>
                  <a:pt x="10800" y="11999"/>
                </a:cubicBezTo>
                <a:lnTo>
                  <a:pt x="10800" y="20401"/>
                </a:lnTo>
                <a:cubicBezTo>
                  <a:pt x="10800" y="21001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7000920" y="1714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0"/>
          <p:cNvSpPr/>
          <p:nvPr/>
        </p:nvSpPr>
        <p:spPr>
          <a:xfrm>
            <a:off x="7000920" y="4282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左大括号 11"/>
          <p:cNvSpPr/>
          <p:nvPr/>
        </p:nvSpPr>
        <p:spPr>
          <a:xfrm flipH="1">
            <a:off x="6643080" y="1000080"/>
            <a:ext cx="285480" cy="2000160"/>
          </a:xfrm>
          <a:custGeom>
            <a:avLst/>
            <a:gdLst>
              <a:gd name="textAreaLeft" fmla="*/ 182520 w 285480"/>
              <a:gd name="textAreaRight" fmla="*/ 285840 w 285480"/>
              <a:gd name="textAreaTop" fmla="*/ 76680 h 2000160"/>
              <a:gd name="textAreaBottom" fmla="*/ 192348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28"/>
                  <a:pt x="10800" y="2656"/>
                </a:cubicBezTo>
                <a:lnTo>
                  <a:pt x="10800" y="8144"/>
                </a:lnTo>
                <a:cubicBezTo>
                  <a:pt x="10800" y="9472"/>
                  <a:pt x="5400" y="10800"/>
                  <a:pt x="0" y="10800"/>
                </a:cubicBezTo>
                <a:cubicBezTo>
                  <a:pt x="5400" y="10800"/>
                  <a:pt x="10800" y="12128"/>
                  <a:pt x="10800" y="13456"/>
                </a:cubicBezTo>
                <a:lnTo>
                  <a:pt x="10800" y="18944"/>
                </a:lnTo>
                <a:cubicBezTo>
                  <a:pt x="10800" y="20272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左大括号 12"/>
          <p:cNvSpPr/>
          <p:nvPr/>
        </p:nvSpPr>
        <p:spPr>
          <a:xfrm flipH="1">
            <a:off x="6715080" y="3571920"/>
            <a:ext cx="285840" cy="20001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6680 h 2000160"/>
              <a:gd name="textAreaBottom" fmla="*/ 192348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28"/>
                  <a:pt x="10800" y="2656"/>
                </a:cubicBezTo>
                <a:lnTo>
                  <a:pt x="10800" y="8144"/>
                </a:lnTo>
                <a:cubicBezTo>
                  <a:pt x="10800" y="9472"/>
                  <a:pt x="5400" y="10800"/>
                  <a:pt x="0" y="10800"/>
                </a:cubicBezTo>
                <a:cubicBezTo>
                  <a:pt x="5400" y="10800"/>
                  <a:pt x="10800" y="12128"/>
                  <a:pt x="10800" y="13456"/>
                </a:cubicBezTo>
                <a:lnTo>
                  <a:pt x="10800" y="18944"/>
                </a:lnTo>
                <a:cubicBezTo>
                  <a:pt x="10800" y="20272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透明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4"/>
          <p:cNvPicPr/>
          <p:nvPr/>
        </p:nvPicPr>
        <p:blipFill>
          <a:blip r:embed="rId1"/>
          <a:stretch/>
        </p:blipFill>
        <p:spPr>
          <a:xfrm>
            <a:off x="0" y="857160"/>
            <a:ext cx="3571920" cy="2428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C:\Users\Administrator\AppData\Roaming\Tencent\Users\173692760\QQ\WinTemp\RichOle\2MGN]7UQEYS]E([1NWZE[%E.jpg"/>
          <p:cNvPicPr/>
          <p:nvPr/>
        </p:nvPicPr>
        <p:blipFill>
          <a:blip r:embed="rId2"/>
          <a:stretch/>
        </p:blipFill>
        <p:spPr>
          <a:xfrm>
            <a:off x="3616200" y="857160"/>
            <a:ext cx="5527800" cy="2428920"/>
          </a:xfrm>
          <a:prstGeom prst="rect">
            <a:avLst/>
          </a:prstGeom>
          <a:ln w="0">
            <a:noFill/>
          </a:ln>
        </p:spPr>
      </p:pic>
      <p:sp>
        <p:nvSpPr>
          <p:cNvPr id="58" name="矩形 15"/>
          <p:cNvSpPr/>
          <p:nvPr/>
        </p:nvSpPr>
        <p:spPr>
          <a:xfrm>
            <a:off x="0" y="3643200"/>
            <a:ext cx="471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类似玻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类似塑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半透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类似木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6"/>
          <p:cNvSpPr/>
          <p:nvPr/>
        </p:nvSpPr>
        <p:spPr>
          <a:xfrm>
            <a:off x="4572000" y="3643200"/>
            <a:ext cx="4429080" cy="283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矿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碎片的边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否能看见其他物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来衡量矿物的透明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7"/>
          <p:cNvSpPr/>
          <p:nvPr/>
        </p:nvSpPr>
        <p:spPr>
          <a:xfrm>
            <a:off x="1357200" y="22147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透明                半透明          不透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3"/>
          <p:cNvSpPr/>
          <p:nvPr/>
        </p:nvSpPr>
        <p:spPr>
          <a:xfrm>
            <a:off x="0" y="189000"/>
            <a:ext cx="892980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金属、玻璃、泥土、蜡烛、丝绸表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反光情况，再按反光从强到弱顺序排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反光强弱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金属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玻璃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丝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蜡烛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泥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Users\Administrator\AppData\Roaming\Tencent\Users\173692760\QQ\WinTemp\RichOle\PBU8~T)%LT7)]QD3%$DC8[M.jpg"/>
          <p:cNvPicPr/>
          <p:nvPr/>
        </p:nvPicPr>
        <p:blipFill>
          <a:blip r:embed="rId1"/>
          <a:stretch/>
        </p:blipFill>
        <p:spPr>
          <a:xfrm>
            <a:off x="0" y="1428840"/>
            <a:ext cx="2867040" cy="2000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Administrator\AppData\Roaming\Tencent\Users\173692760\QQ\WinTemp\RichOle\CIQYNE{MY{)9EPM8YQBJL01.jpg"/>
          <p:cNvPicPr/>
          <p:nvPr/>
        </p:nvPicPr>
        <p:blipFill>
          <a:blip r:embed="rId2"/>
          <a:stretch/>
        </p:blipFill>
        <p:spPr>
          <a:xfrm>
            <a:off x="2928960" y="1428840"/>
            <a:ext cx="3071880" cy="20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Administrator\AppData\Roaming\Tencent\Users\173692760\QQ\WinTemp\RichOle\$XKN8)3S50LD]VOFN6[W2M8.jpg"/>
          <p:cNvPicPr/>
          <p:nvPr/>
        </p:nvPicPr>
        <p:blipFill>
          <a:blip r:embed="rId3"/>
          <a:stretch/>
        </p:blipFill>
        <p:spPr>
          <a:xfrm>
            <a:off x="6143760" y="1428840"/>
            <a:ext cx="3000240" cy="2000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Administrator\AppData\Roaming\Tencent\Users\173692760\QQ\WinTemp\RichOle\NQL](X(E(M3I{(})FLGEW_8.jpg"/>
          <p:cNvPicPr/>
          <p:nvPr/>
        </p:nvPicPr>
        <p:blipFill>
          <a:blip r:embed="rId4">
            <a:lum bright="-16000"/>
          </a:blip>
          <a:stretch/>
        </p:blipFill>
        <p:spPr>
          <a:xfrm>
            <a:off x="0" y="3500280"/>
            <a:ext cx="2817720" cy="200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Users\Administrator\AppData\Roaming\Tencent\Users\173692760\QQ\WinTemp\RichOle\P_IEN88TIZ7FK11Y%L}M~VT.jpg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143760" y="3571920"/>
            <a:ext cx="3000240" cy="1928880"/>
          </a:xfrm>
          <a:prstGeom prst="rect">
            <a:avLst/>
          </a:prstGeom>
          <a:ln w="0">
            <a:noFill/>
          </a:ln>
        </p:spPr>
      </p:pic>
      <p:sp>
        <p:nvSpPr>
          <p:cNvPr id="67" name="矩形 12"/>
          <p:cNvSpPr/>
          <p:nvPr/>
        </p:nvSpPr>
        <p:spPr>
          <a:xfrm>
            <a:off x="0" y="2857680"/>
            <a:ext cx="14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金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6143760" y="4854600"/>
            <a:ext cx="14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玻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5"/>
          <p:cNvSpPr/>
          <p:nvPr/>
        </p:nvSpPr>
        <p:spPr>
          <a:xfrm>
            <a:off x="3857760" y="2714760"/>
            <a:ext cx="14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泥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6"/>
          <p:cNvSpPr/>
          <p:nvPr/>
        </p:nvSpPr>
        <p:spPr>
          <a:xfrm>
            <a:off x="6143760" y="2786040"/>
            <a:ext cx="14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蜡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7"/>
          <p:cNvSpPr/>
          <p:nvPr/>
        </p:nvSpPr>
        <p:spPr>
          <a:xfrm>
            <a:off x="0" y="4854600"/>
            <a:ext cx="14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丝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142920" y="100008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表面的反光形成了光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Users\Administrator\AppData\Roaming\Tencent\Users\173692760\QQ\WinTemp\RichOle\VX3}MAP(G5GAOO(P7GIRMVK.jpg"/>
          <p:cNvPicPr/>
          <p:nvPr/>
        </p:nvPicPr>
        <p:blipFill>
          <a:blip r:embed="rId1"/>
          <a:stretch/>
        </p:blipFill>
        <p:spPr>
          <a:xfrm>
            <a:off x="928800" y="3286080"/>
            <a:ext cx="3857400" cy="3259080"/>
          </a:xfrm>
          <a:prstGeom prst="rect">
            <a:avLst/>
          </a:prstGeom>
          <a:ln w="0">
            <a:noFill/>
          </a:ln>
        </p:spPr>
      </p:pic>
      <p:sp>
        <p:nvSpPr>
          <p:cNvPr id="75" name="矩形 8"/>
          <p:cNvSpPr/>
          <p:nvPr/>
        </p:nvSpPr>
        <p:spPr>
          <a:xfrm>
            <a:off x="214200" y="1928880"/>
            <a:ext cx="86439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目前所知的金属都有金属光泽。但是有金属光泽的矿物不一定是金属，比如石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0"/>
          <p:cNvSpPr/>
          <p:nvPr/>
        </p:nvSpPr>
        <p:spPr>
          <a:xfrm>
            <a:off x="5072040" y="3571920"/>
            <a:ext cx="40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属光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玻璃光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丝绢光泽（丝绸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脂肪光泽（蜡烛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透明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2920" y="3774960"/>
          <a:ext cx="8805960" cy="2225880"/>
        </p:xfrm>
        <a:graphic>
          <a:graphicData uri="http://schemas.openxmlformats.org/drawingml/2006/table">
            <a:tbl>
              <a:tblPr/>
              <a:tblGrid>
                <a:gridCol w="1857240"/>
                <a:gridCol w="1519200"/>
                <a:gridCol w="1336680"/>
                <a:gridCol w="1306800"/>
                <a:gridCol w="1409400"/>
                <a:gridCol w="137664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刚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硫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透明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7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79" name="矩形 8"/>
          <p:cNvSpPr/>
          <p:nvPr/>
        </p:nvSpPr>
        <p:spPr>
          <a:xfrm>
            <a:off x="2286000" y="434664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0"/>
          <p:cNvSpPr/>
          <p:nvPr/>
        </p:nvSpPr>
        <p:spPr>
          <a:xfrm>
            <a:off x="3643200" y="434664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1"/>
          <p:cNvSpPr/>
          <p:nvPr/>
        </p:nvSpPr>
        <p:spPr>
          <a:xfrm>
            <a:off x="4786200" y="43466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6143760" y="434664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半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2286000" y="490536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3571920" y="491796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玻璃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6"/>
          <p:cNvSpPr/>
          <p:nvPr/>
        </p:nvSpPr>
        <p:spPr>
          <a:xfrm>
            <a:off x="5000760" y="48988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7"/>
          <p:cNvSpPr/>
          <p:nvPr/>
        </p:nvSpPr>
        <p:spPr>
          <a:xfrm>
            <a:off x="6286680" y="49132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脂肪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8"/>
          <p:cNvSpPr/>
          <p:nvPr/>
        </p:nvSpPr>
        <p:spPr>
          <a:xfrm>
            <a:off x="7715160" y="491796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9"/>
          <p:cNvSpPr/>
          <p:nvPr/>
        </p:nvSpPr>
        <p:spPr>
          <a:xfrm>
            <a:off x="571680" y="5132520"/>
            <a:ext cx="12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0"/>
          <p:cNvSpPr/>
          <p:nvPr/>
        </p:nvSpPr>
        <p:spPr>
          <a:xfrm>
            <a:off x="7520040" y="434664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C:\Users\Administrator\AppData\Roaming\Tencent\Users\173692760\QQ\WinTemp\RichOle\%U6)ASY][7FMZ$5CQ}F5MKY.jpg"/>
          <p:cNvPicPr/>
          <p:nvPr/>
        </p:nvPicPr>
        <p:blipFill>
          <a:blip r:embed="rId1"/>
          <a:stretch/>
        </p:blipFill>
        <p:spPr>
          <a:xfrm>
            <a:off x="3786120" y="2143080"/>
            <a:ext cx="1428840" cy="121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C:\Users\Administrator\AppData\Roaming\Tencent\Users\173692760\QQ\WinTemp\RichOle\}9V11Y(KO]XZ]WWBJPNYQD4.jpg"/>
          <p:cNvPicPr/>
          <p:nvPr/>
        </p:nvPicPr>
        <p:blipFill>
          <a:blip r:embed="rId2"/>
          <a:stretch/>
        </p:blipFill>
        <p:spPr>
          <a:xfrm>
            <a:off x="285840" y="2143080"/>
            <a:ext cx="1571400" cy="1198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Administrator\AppData\Roaming\Tencent\Users\173692760\QQ\WinTemp\RichOle\(L24$AZ9~Y[LIF~IB%4XQE0.jpg"/>
          <p:cNvPicPr/>
          <p:nvPr/>
        </p:nvPicPr>
        <p:blipFill>
          <a:blip r:embed="rId3"/>
          <a:stretch/>
        </p:blipFill>
        <p:spPr>
          <a:xfrm>
            <a:off x="2143080" y="2143080"/>
            <a:ext cx="1500120" cy="120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214200" y="1278000"/>
          <a:ext cx="8572680" cy="579240"/>
        </p:xfrm>
        <a:graphic>
          <a:graphicData uri="http://schemas.openxmlformats.org/drawingml/2006/table">
            <a:tbl>
              <a:tblPr/>
              <a:tblGrid>
                <a:gridCol w="1874880"/>
                <a:gridCol w="1649520"/>
                <a:gridCol w="1611360"/>
                <a:gridCol w="1738080"/>
                <a:gridCol w="169884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刚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硫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3" descr="C:\Users\Administrator\AppData\Roaming\Tencent\Users\173692760\QQ\WinTemp\RichOle\(YZ[1NDXONR_WMUY5G~NI5K.jpg"/>
          <p:cNvPicPr/>
          <p:nvPr/>
        </p:nvPicPr>
        <p:blipFill>
          <a:blip r:embed="rId4"/>
          <a:stretch/>
        </p:blipFill>
        <p:spPr>
          <a:xfrm>
            <a:off x="5429160" y="2143080"/>
            <a:ext cx="1522440" cy="1214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C:\Users\Administrator\AppData\Roaming\Tencent\Users\173692760\QQ\WinTemp\RichOle\X~$HW4X[AQ`T2%%F4E8JM)7.jpg"/>
          <p:cNvPicPr/>
          <p:nvPr/>
        </p:nvPicPr>
        <p:blipFill>
          <a:blip r:embed="rId5"/>
          <a:stretch/>
        </p:blipFill>
        <p:spPr>
          <a:xfrm>
            <a:off x="7143840" y="2143080"/>
            <a:ext cx="1601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214200" y="107172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有着特殊规则的几何形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:\Users\Administrator\AppData\Roaming\Tencent\Users\173692760\QQ\WinTemp\RichOle\`1G38~2XUW8GRS5J]R231AF.jpg"/>
          <p:cNvPicPr/>
          <p:nvPr/>
        </p:nvPicPr>
        <p:blipFill>
          <a:blip r:embed="rId1"/>
          <a:stretch/>
        </p:blipFill>
        <p:spPr>
          <a:xfrm>
            <a:off x="0" y="1892160"/>
            <a:ext cx="5357880" cy="1893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C:\Users\Administrator\AppData\Roaming\Tencent\Users\173692760\QQ\WinTemp\RichOle\A`2W[_2ZN_(Z(NS`RFL1_KI.jpg"/>
          <p:cNvPicPr/>
          <p:nvPr/>
        </p:nvPicPr>
        <p:blipFill>
          <a:blip r:embed="rId2"/>
          <a:stretch/>
        </p:blipFill>
        <p:spPr>
          <a:xfrm>
            <a:off x="5370480" y="1906560"/>
            <a:ext cx="3773520" cy="18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71280" y="4214880"/>
          <a:ext cx="8977320" cy="1158840"/>
        </p:xfrm>
        <a:graphic>
          <a:graphicData uri="http://schemas.openxmlformats.org/drawingml/2006/table">
            <a:tbl>
              <a:tblPr/>
              <a:tblGrid>
                <a:gridCol w="1927440"/>
                <a:gridCol w="1519200"/>
                <a:gridCol w="1336680"/>
                <a:gridCol w="1338120"/>
                <a:gridCol w="1336680"/>
                <a:gridCol w="151920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辉锑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盐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英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方解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几何形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000160" y="4786200"/>
          <a:ext cx="7050240" cy="579600"/>
        </p:xfrm>
        <a:graphic>
          <a:graphicData uri="http://schemas.openxmlformats.org/drawingml/2006/table">
            <a:tbl>
              <a:tblPr/>
              <a:tblGrid>
                <a:gridCol w="1519200"/>
                <a:gridCol w="1336680"/>
                <a:gridCol w="1338480"/>
                <a:gridCol w="1336680"/>
                <a:gridCol w="15192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针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粒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板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柱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块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2" name="矩形 11"/>
          <p:cNvSpPr/>
          <p:nvPr/>
        </p:nvSpPr>
        <p:spPr>
          <a:xfrm>
            <a:off x="0" y="585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2-8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面的单元资料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特征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50920" y="931680"/>
            <a:ext cx="8678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矿物的透明度、光泽和形状是不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可以通过观察矿物碎片的边缘是否能看见其他物体，来衡量矿物的透明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表面的反光形成了光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818640" y="524772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853200" y="3033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889920" y="1431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石英、长石和云母的特征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14280" y="3879720"/>
          <a:ext cx="6594480" cy="2318040"/>
        </p:xfrm>
        <a:graphic>
          <a:graphicData uri="http://schemas.openxmlformats.org/drawingml/2006/table">
            <a:tbl>
              <a:tblPr/>
              <a:tblGrid>
                <a:gridCol w="1927440"/>
                <a:gridCol w="1219320"/>
                <a:gridCol w="1520640"/>
                <a:gridCol w="19270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硬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透明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外表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长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黑云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09" name="Picture 1" descr="C:\Users\Administrator\AppData\Roaming\Tencent\Users\173692760\QQ\WinTemp\RichOle\~J%9NF1$}1JY6~KJ3$UU]~J.jpg"/>
          <p:cNvPicPr/>
          <p:nvPr/>
        </p:nvPicPr>
        <p:blipFill>
          <a:blip r:embed="rId1"/>
          <a:stretch/>
        </p:blipFill>
        <p:spPr>
          <a:xfrm>
            <a:off x="428760" y="1143000"/>
            <a:ext cx="8358120" cy="2232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0"/>
          <p:cNvSpPr/>
          <p:nvPr/>
        </p:nvSpPr>
        <p:spPr>
          <a:xfrm>
            <a:off x="4402080" y="50547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半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0"/>
          <p:cNvSpPr/>
          <p:nvPr/>
        </p:nvSpPr>
        <p:spPr>
          <a:xfrm>
            <a:off x="4402080" y="56260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"/>
          <p:cNvSpPr/>
          <p:nvPr/>
        </p:nvSpPr>
        <p:spPr>
          <a:xfrm>
            <a:off x="4402080" y="44830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半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7"/>
          <p:cNvSpPr/>
          <p:nvPr/>
        </p:nvSpPr>
        <p:spPr>
          <a:xfrm>
            <a:off x="5892840" y="505476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肉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5883120" y="562608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7"/>
          <p:cNvSpPr/>
          <p:nvPr/>
        </p:nvSpPr>
        <p:spPr>
          <a:xfrm>
            <a:off x="5892840" y="448308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乳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3116160" y="50547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3116160" y="56260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0"/>
          <p:cNvSpPr/>
          <p:nvPr/>
        </p:nvSpPr>
        <p:spPr>
          <a:xfrm>
            <a:off x="3116160" y="44830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11:37Z</dcterms:modified>
  <cp:revision>140</cp:revision>
  <dc:subject/>
  <dc:title>幻灯片 1</dc:title>
</cp:coreProperties>
</file>