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DFB-99E0-496E-854E-BE947C29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308-1161-4596-B07A-B5D81BF1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38B-5614-4DFB-9926-7E02935A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7CF-E91C-41FE-BDC1-276E7530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51D-8EBB-4561-8D47-74735C56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2C0-F398-473B-BFAA-31F93F85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EBA-F047-4060-A1DE-08E7690D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478-7D60-4B22-846D-1B849742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C73-B666-4760-9E47-9767C0DA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3E6-7326-4CA3-ABA1-336F95B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E9F-2709-43F8-A99D-F050ED0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9B6-C495-492F-BD25-26864D8A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9B5-CCC4-4005-B67D-440B9B6E7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、矿物和我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Users\Administrator\AppData\Roaming\Tencent\Users\173692760\QQ\WinTemp\RichOle\5~9W88IZ(IK)V}S(D71QI`X.jpg"/>
          <p:cNvPicPr/>
          <p:nvPr/>
        </p:nvPicPr>
        <p:blipFill>
          <a:blip r:embed="rId1"/>
          <a:stretch/>
        </p:blipFill>
        <p:spPr>
          <a:xfrm>
            <a:off x="428760" y="2214720"/>
            <a:ext cx="4286160" cy="440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dministrator\AppData\Roaming\Tencent\Users\173692760\QQ\WinTemp\RichOle\7KQA@8QR5~PQZH7D[C(I2B7.jpg"/>
          <p:cNvPicPr/>
          <p:nvPr/>
        </p:nvPicPr>
        <p:blipFill>
          <a:blip r:embed="rId2"/>
          <a:stretch/>
        </p:blipFill>
        <p:spPr>
          <a:xfrm>
            <a:off x="5000760" y="4357800"/>
            <a:ext cx="1643040" cy="20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Administrator\AppData\Roaming\Tencent\Users\173692760\QQ\WinTemp\RichOle\PBDHIG%TO(}LH][O_9A`N`2.jpg"/>
          <p:cNvPicPr/>
          <p:nvPr/>
        </p:nvPicPr>
        <p:blipFill>
          <a:blip r:embed="rId3"/>
          <a:stretch/>
        </p:blipFill>
        <p:spPr>
          <a:xfrm>
            <a:off x="5572080" y="2500200"/>
            <a:ext cx="130968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Administrator\AppData\Roaming\Tencent\Users\173692760\QQ\WinTemp\RichOle\[_J~@H9JU%R~9FAK$5%T$}2.jpg"/>
          <p:cNvPicPr/>
          <p:nvPr/>
        </p:nvPicPr>
        <p:blipFill>
          <a:blip r:embed="rId4"/>
          <a:stretch/>
        </p:blipFill>
        <p:spPr>
          <a:xfrm>
            <a:off x="6908760" y="3643200"/>
            <a:ext cx="2235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C15ASY2SMRK5$[8ZKC(IO45.jpg"/>
          <p:cNvPicPr/>
          <p:nvPr/>
        </p:nvPicPr>
        <p:blipFill>
          <a:blip r:embed="rId1"/>
          <a:stretch/>
        </p:blipFill>
        <p:spPr>
          <a:xfrm>
            <a:off x="1214280" y="2143080"/>
            <a:ext cx="66009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重要的工业材料，医学、雕塑也有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Administrator\AppData\Roaming\Tencent\Users\173692760\QQ\WinTemp\RichOle\9T81M@{Y5[A49SRGIP36R64.jpg"/>
          <p:cNvPicPr/>
          <p:nvPr/>
        </p:nvPicPr>
        <p:blipFill>
          <a:blip r:embed="rId1"/>
          <a:stretch/>
        </p:blipFill>
        <p:spPr>
          <a:xfrm>
            <a:off x="285840" y="2143080"/>
            <a:ext cx="2571840" cy="40449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" descr="11.jpg"/>
          <p:cNvPicPr/>
          <p:nvPr/>
        </p:nvPicPr>
        <p:blipFill>
          <a:blip r:embed="rId2"/>
          <a:stretch/>
        </p:blipFill>
        <p:spPr>
          <a:xfrm>
            <a:off x="6286680" y="2786040"/>
            <a:ext cx="2643120" cy="237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Administrator\AppData\Roaming\Tencent\Users\173692760\QQ\WinTemp\RichOle\2QI1W~48{AM2UJJVRWF2WDB.jpg"/>
          <p:cNvPicPr/>
          <p:nvPr/>
        </p:nvPicPr>
        <p:blipFill>
          <a:blip r:embed="rId3"/>
          <a:stretch/>
        </p:blipFill>
        <p:spPr>
          <a:xfrm>
            <a:off x="3000240" y="2143080"/>
            <a:ext cx="32148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是人们生产和生活的宝贵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2004840"/>
          <a:ext cx="8713800" cy="4424400"/>
        </p:xfrm>
        <a:graphic>
          <a:graphicData uri="http://schemas.openxmlformats.org/drawingml/2006/table">
            <a:tbl>
              <a:tblPr/>
              <a:tblGrid>
                <a:gridCol w="2233800"/>
                <a:gridCol w="64800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类标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冶炼金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筑材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用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       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装       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28"/>
          <p:cNvSpPr/>
          <p:nvPr/>
        </p:nvSpPr>
        <p:spPr>
          <a:xfrm>
            <a:off x="2519280" y="282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赤铁矿  方铅矿  黄铜矿  金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2519280" y="3549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理石  花岗岩  板岩  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2519280" y="426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食盐  石英  铜  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2519280" y="5060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石膏  朱砂  硼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2519280" y="5781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水晶  金刚石  铂金  黄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01300000231408122018731675800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287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010124103910308"/>
          <p:cNvPicPr/>
          <p:nvPr/>
        </p:nvPicPr>
        <p:blipFill>
          <a:blip r:embed="rId2"/>
          <a:stretch/>
        </p:blipFill>
        <p:spPr>
          <a:xfrm>
            <a:off x="214200" y="3857760"/>
            <a:ext cx="421488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007071610112088322"/>
          <p:cNvPicPr/>
          <p:nvPr/>
        </p:nvPicPr>
        <p:blipFill>
          <a:blip r:embed="rId3"/>
          <a:stretch/>
        </p:blipFill>
        <p:spPr>
          <a:xfrm>
            <a:off x="4643280" y="857160"/>
            <a:ext cx="435780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1"/>
          <p:cNvPicPr/>
          <p:nvPr/>
        </p:nvPicPr>
        <p:blipFill>
          <a:blip r:embed="rId4"/>
          <a:stretch/>
        </p:blipFill>
        <p:spPr>
          <a:xfrm>
            <a:off x="4643280" y="3857760"/>
            <a:ext cx="435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S_41%{V0ONPI~U7L1HHPP~U.jpg"/>
          <p:cNvPicPr/>
          <p:nvPr/>
        </p:nvPicPr>
        <p:blipFill>
          <a:blip r:embed="rId1"/>
          <a:stretch/>
        </p:blipFill>
        <p:spPr>
          <a:xfrm>
            <a:off x="214200" y="857160"/>
            <a:ext cx="42865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dministrator\AppData\Roaming\Tencent\Users\173692760\QQ\WinTemp\RichOle\D`NG@VO@YG~47Q{XKU$AY9H.jpg"/>
          <p:cNvPicPr/>
          <p:nvPr/>
        </p:nvPicPr>
        <p:blipFill>
          <a:blip r:embed="rId2"/>
          <a:stretch/>
        </p:blipFill>
        <p:spPr>
          <a:xfrm>
            <a:off x="4714920" y="85716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Administrator\AppData\Roaming\Tencent\Users\173692760\QQ\WinTemp\RichOle\JS3)M`17UM[GZ86@{@}337J.jpg"/>
          <p:cNvPicPr/>
          <p:nvPr/>
        </p:nvPicPr>
        <p:blipFill>
          <a:blip r:embed="rId3"/>
          <a:stretch/>
        </p:blipFill>
        <p:spPr>
          <a:xfrm>
            <a:off x="214200" y="3970440"/>
            <a:ext cx="4286520" cy="2887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Administrator\AppData\Roaming\Tencent\Users\173692760\QQ\WinTemp\RichOle\FV3B$SH%M33]U9STF$FBJNR.jpg"/>
          <p:cNvPicPr/>
          <p:nvPr/>
        </p:nvPicPr>
        <p:blipFill>
          <a:blip r:embed="rId4"/>
          <a:stretch/>
        </p:blipFill>
        <p:spPr>
          <a:xfrm>
            <a:off x="4714920" y="392904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214200" y="10000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发现矿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是世界上矿种较齐全的少数国家之一， 其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有金属矿、钨矿、锡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种矿产的探明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70030132305_max"/>
          <p:cNvPicPr/>
          <p:nvPr/>
        </p:nvPicPr>
        <p:blipFill>
          <a:blip r:embed="rId1"/>
          <a:srcRect l="15559" t="0" r="14929" b="0"/>
          <a:stretch/>
        </p:blipFill>
        <p:spPr>
          <a:xfrm rot="936600">
            <a:off x="992160" y="3742920"/>
            <a:ext cx="158904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Text Box 7"/>
          <p:cNvSpPr/>
          <p:nvPr/>
        </p:nvSpPr>
        <p:spPr>
          <a:xfrm>
            <a:off x="3214800" y="3643200"/>
            <a:ext cx="535788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综艺_GBK"/>
              </a:rPr>
              <a:t>一些非法采矿及加工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2_576_1287110142078"/>
          <p:cNvPicPr/>
          <p:nvPr/>
        </p:nvPicPr>
        <p:blipFill>
          <a:blip r:embed="rId1"/>
          <a:stretch/>
        </p:blipFill>
        <p:spPr>
          <a:xfrm>
            <a:off x="0" y="1190520"/>
            <a:ext cx="3059280" cy="183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4"/>
          <p:cNvPicPr/>
          <p:nvPr/>
        </p:nvPicPr>
        <p:blipFill>
          <a:blip r:embed="rId2"/>
          <a:srcRect l="0" t="0" r="0" b="18545"/>
          <a:stretch/>
        </p:blipFill>
        <p:spPr>
          <a:xfrm>
            <a:off x="0" y="3638520"/>
            <a:ext cx="3059280" cy="19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07111112455100_2"/>
          <p:cNvPicPr/>
          <p:nvPr/>
        </p:nvPicPr>
        <p:blipFill>
          <a:blip r:embed="rId3"/>
          <a:srcRect l="0" t="0" r="9506" b="0"/>
          <a:stretch/>
        </p:blipFill>
        <p:spPr>
          <a:xfrm>
            <a:off x="6443640" y="1190520"/>
            <a:ext cx="2736720" cy="389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7586497561518943"/>
          <p:cNvPicPr/>
          <p:nvPr/>
        </p:nvPicPr>
        <p:blipFill>
          <a:blip r:embed="rId4"/>
          <a:stretch/>
        </p:blipFill>
        <p:spPr>
          <a:xfrm>
            <a:off x="3241800" y="1190520"/>
            <a:ext cx="3058920" cy="181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W020100222860180744898"/>
          <p:cNvPicPr/>
          <p:nvPr/>
        </p:nvPicPr>
        <p:blipFill>
          <a:blip r:embed="rId5"/>
          <a:stretch/>
        </p:blipFill>
        <p:spPr>
          <a:xfrm>
            <a:off x="3241800" y="3638520"/>
            <a:ext cx="3058920" cy="1951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4920" y="29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造成的地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3640" y="29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采矿造成的环境恶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492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小矿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98764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的土法加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51672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加工过程中直接向江河排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1-110f914324j15"/>
          <p:cNvPicPr/>
          <p:nvPr/>
        </p:nvPicPr>
        <p:blipFill>
          <a:blip r:embed="rId1"/>
          <a:srcRect l="0" t="8206" r="0" b="12194"/>
          <a:stretch/>
        </p:blipFill>
        <p:spPr>
          <a:xfrm>
            <a:off x="785880" y="857160"/>
            <a:ext cx="7632720" cy="580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928800" y="2786040"/>
            <a:ext cx="72151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综艺_GBK"/>
                <a:ea typeface="方正综艺_GBK"/>
              </a:rPr>
              <a:t>我们的家乡都有哪些矿产资源，人们是怎样进行开采、利用和保护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17440" y="93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是从铁矿石中提炼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用的铅笔芯是石墨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可以盖房子、铺路等，作用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23320" y="38602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22960" y="1628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527040" y="2643120"/>
            <a:ext cx="533088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6143760" y="3071880"/>
            <a:ext cx="24289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践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网查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互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14200" y="12859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采用哪些方法了解岩石和矿物的用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被开采后就不能再生了，因此要保护和合理利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探明的稀有金属矿产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23320" y="436500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296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9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产和生活中广泛用到岩石和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29322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57120" y="4286160"/>
          <a:ext cx="8429760" cy="2386080"/>
        </p:xfrm>
        <a:graphic>
          <a:graphicData uri="http://schemas.openxmlformats.org/drawingml/2006/table">
            <a:tbl>
              <a:tblPr/>
              <a:tblGrid>
                <a:gridCol w="3214800"/>
                <a:gridCol w="521496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71920" y="1998720"/>
            <a:ext cx="2357280" cy="193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141960" y="2000160"/>
            <a:ext cx="2644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AppData\Roaming\Tencent\Users\173692760\QQ\WinTemp\RichOle\Q1@8NNRES`CTVKP2LBJA_UL.jpg"/>
          <p:cNvPicPr/>
          <p:nvPr/>
        </p:nvPicPr>
        <p:blipFill>
          <a:blip r:embed="rId1"/>
          <a:stretch/>
        </p:blipFill>
        <p:spPr>
          <a:xfrm>
            <a:off x="857160" y="1785960"/>
            <a:ext cx="7358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Administrator\AppData\Roaming\Tencent\Users\173692760\QQ\WinTemp\RichOle\7}RZF@27(}HHCT8EA[KMP%D.jpg"/>
          <p:cNvPicPr/>
          <p:nvPr/>
        </p:nvPicPr>
        <p:blipFill>
          <a:blip r:embed="rId1"/>
          <a:stretch/>
        </p:blipFill>
        <p:spPr>
          <a:xfrm>
            <a:off x="1000080" y="1785960"/>
            <a:ext cx="72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C:\Users\Administrator\AppData\Roaming\Tencent\Users\173692760\QQ\WinTemp\RichOle\0K}IIJ``91__Q3I2Z6RA599.jpg"/>
          <p:cNvPicPr/>
          <p:nvPr/>
        </p:nvPicPr>
        <p:blipFill>
          <a:blip r:embed="rId1"/>
          <a:stretch/>
        </p:blipFill>
        <p:spPr>
          <a:xfrm>
            <a:off x="142920" y="2000160"/>
            <a:ext cx="5429160" cy="4286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AppData\Roaming\Tencent\Users\173692760\QQ\WinTemp\RichOle\6E8KP]PYT7AYG}9J~W)FN~7.jpg"/>
          <p:cNvPicPr/>
          <p:nvPr/>
        </p:nvPicPr>
        <p:blipFill>
          <a:blip r:embed="rId2"/>
          <a:stretch/>
        </p:blipFill>
        <p:spPr>
          <a:xfrm>
            <a:off x="5715000" y="2000160"/>
            <a:ext cx="3219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N04KUP(L8FBY(HTLSN[GIMW.jpg"/>
          <p:cNvPicPr/>
          <p:nvPr/>
        </p:nvPicPr>
        <p:blipFill>
          <a:blip r:embed="rId1"/>
          <a:stretch/>
        </p:blipFill>
        <p:spPr>
          <a:xfrm>
            <a:off x="285840" y="1928880"/>
            <a:ext cx="5143320" cy="4159080"/>
          </a:xfrm>
          <a:prstGeom prst="rect">
            <a:avLst/>
          </a:prstGeom>
          <a:ln w="0">
            <a:noFill/>
          </a:ln>
        </p:spPr>
      </p:pic>
      <p:sp>
        <p:nvSpPr>
          <p:cNvPr id="65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Administrator\AppData\Roaming\Tencent\Users\173692760\QQ\WinTemp\RichOle\R(`ZSPI]ERI$$_MB~6{I{H4.jpg"/>
          <p:cNvPicPr/>
          <p:nvPr/>
        </p:nvPicPr>
        <p:blipFill>
          <a:blip r:embed="rId2"/>
          <a:stretch/>
        </p:blipFill>
        <p:spPr>
          <a:xfrm>
            <a:off x="5767560" y="4071960"/>
            <a:ext cx="2947680" cy="20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Administrator\AppData\Roaming\Tencent\Users\173692760\QQ\WinTemp\RichOle\M5DR]]QFFDF7TXEGM1M0_1R.jpg"/>
          <p:cNvPicPr/>
          <p:nvPr/>
        </p:nvPicPr>
        <p:blipFill>
          <a:blip r:embed="rId3"/>
          <a:stretch/>
        </p:blipFill>
        <p:spPr>
          <a:xfrm>
            <a:off x="5786280" y="1905120"/>
            <a:ext cx="2928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Administrator\AppData\Roaming\Tencent\Users\173692760\QQ\WinTemp\RichOle\X{{`IFHSL9SS@]1B]0(T4YC.jpg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Administrator\AppData\Roaming\Tencent\Users\173692760\QQ\WinTemp\RichOle\FCLVHL5`AUG(}_YW_GI`~CD.jpg"/>
          <p:cNvPicPr/>
          <p:nvPr/>
        </p:nvPicPr>
        <p:blipFill>
          <a:blip r:embed="rId2"/>
          <a:stretch/>
        </p:blipFill>
        <p:spPr>
          <a:xfrm>
            <a:off x="5000760" y="19288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Administrator\AppData\Roaming\Tencent\Users\173692760\QQ\WinTemp\RichOle\_~MRPJ((X](E[U$0X9JBNMK.jpg"/>
          <p:cNvPicPr/>
          <p:nvPr/>
        </p:nvPicPr>
        <p:blipFill>
          <a:blip r:embed="rId1"/>
          <a:stretch/>
        </p:blipFill>
        <p:spPr>
          <a:xfrm>
            <a:off x="357120" y="2286000"/>
            <a:ext cx="3916440" cy="42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Administrator\AppData\Roaming\Tencent\Users\173692760\QQ\WinTemp\RichOle\${ABXFGECINYXCX4_6@CY6H.jpg"/>
          <p:cNvPicPr/>
          <p:nvPr/>
        </p:nvPicPr>
        <p:blipFill>
          <a:blip r:embed="rId2"/>
          <a:stretch/>
        </p:blipFill>
        <p:spPr>
          <a:xfrm>
            <a:off x="4786200" y="2286000"/>
            <a:ext cx="3786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2:10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