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795-71CD-45F7-A2DC-C69473EE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A0A-C8F3-486D-AE43-F9B0EE4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23E-8812-4BD1-8D1C-4661D047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0D1-832D-468F-ADDA-835C5E2A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528-1D76-4DFF-A9FC-335B7DC5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B07-C9FC-43C0-AB79-46B0912A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3BA-EE2F-4CF5-9431-139B096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EEF-5F36-464A-A9C9-B3F3116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212-B338-4C0E-91A6-ED78D678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FD1-1123-4CB6-8F0B-0F2C8B5A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AE2-4B5D-49FF-8B42-83ACA45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576-F7A2-44D7-ADC2-45150A0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297-5411-4479-BB02-4C908AEC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几种常见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571680" y="460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盐酸有腐蚀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千万不要弄到皮肤上和眼睛里。滴过稀盐酸的岩石要用清水冲洗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280880" y="3571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音是混浊还是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357880" y="3571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不会冒气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AppData\Roaming\Tencent\Users\173692760\QQ\WinTemp\RichOle\W8E2`45{G`_@F_C}N0C7TE5.jpg"/>
          <p:cNvPicPr/>
          <p:nvPr/>
        </p:nvPicPr>
        <p:blipFill>
          <a:blip r:embed="rId1"/>
          <a:stretch/>
        </p:blipFill>
        <p:spPr>
          <a:xfrm>
            <a:off x="690480" y="428760"/>
            <a:ext cx="366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Administrator\AppData\Roaming\Tencent\Users\173692760\QQ\WinTemp\RichOle\NE18KGN`W694L51S8X2%(7A.jpg"/>
          <p:cNvPicPr/>
          <p:nvPr/>
        </p:nvPicPr>
        <p:blipFill>
          <a:blip r:embed="rId2"/>
          <a:stretch/>
        </p:blipFill>
        <p:spPr>
          <a:xfrm>
            <a:off x="4857840" y="428760"/>
            <a:ext cx="3571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(Z4ZY]]0QHOV]IPYA4%$XVQ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2596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428760" y="1428840"/>
            <a:ext cx="3868560" cy="3143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500040" y="52149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(Z4ZY]]0QHOV]IPYA4%$XVQ"/>
          <p:cNvPicPr/>
          <p:nvPr/>
        </p:nvPicPr>
        <p:blipFill>
          <a:blip r:embed="rId1"/>
          <a:stretch/>
        </p:blipFill>
        <p:spPr>
          <a:xfrm>
            <a:off x="5000760" y="1500120"/>
            <a:ext cx="3716280" cy="3227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Administrator\AppData\Roaming\Tencent\Users\173692760\QQ\WinTemp\RichOle\OUX]7YF[9}MU3CVAT2S4C[O.jpg"/>
          <p:cNvPicPr/>
          <p:nvPr/>
        </p:nvPicPr>
        <p:blipFill>
          <a:blip r:embed="rId2"/>
          <a:stretch/>
        </p:blipFill>
        <p:spPr>
          <a:xfrm>
            <a:off x="304920" y="1500120"/>
            <a:ext cx="412416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500040" y="50720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142920" y="928800"/>
            <a:ext cx="8929800" cy="302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岗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花斑状，由黑、白、肉红等颜色或无色透明的颗粒组成，颗粒较粗，粗糙，很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砾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看起来像混凝土，由碎石子或卵石组成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砂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红、土黄、灰等多种颜色，看起来像许多粗细差不多的沙子黏合在一起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页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灰、黑、红、棕、黄等多种颜色，颗粒细，较软，比较光滑，薄层状，常有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板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灰色、绿色等，容易分离成层，颗粒细，结构紧密，比较光滑，硬，敲击有清脆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0" y="13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岩石的特征（科学书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722160" y="2178000"/>
            <a:ext cx="1152360" cy="1079640"/>
            <a:chOff x="722160" y="2178000"/>
            <a:chExt cx="1152360" cy="1079640"/>
          </a:xfrm>
        </p:grpSpPr>
        <p:sp>
          <p:nvSpPr>
            <p:cNvPr id="113" name="Oval 4"/>
            <p:cNvSpPr/>
            <p:nvPr/>
          </p:nvSpPr>
          <p:spPr>
            <a:xfrm>
              <a:off x="722160" y="2178000"/>
              <a:ext cx="1152360" cy="107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938160" y="23227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颗粒粗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7"/>
          <p:cNvGrpSpPr/>
          <p:nvPr/>
        </p:nvGrpSpPr>
        <p:grpSpPr>
          <a:xfrm>
            <a:off x="1801800" y="1819440"/>
            <a:ext cx="2232000" cy="504720"/>
            <a:chOff x="1801800" y="1819440"/>
            <a:chExt cx="2232000" cy="504720"/>
          </a:xfrm>
        </p:grpSpPr>
        <p:sp>
          <p:nvSpPr>
            <p:cNvPr id="116" name="Line 7"/>
            <p:cNvSpPr/>
            <p:nvPr/>
          </p:nvSpPr>
          <p:spPr>
            <a:xfrm flipV="1">
              <a:off x="1801800" y="2035440"/>
              <a:ext cx="576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5"/>
            <p:cNvGrpSpPr/>
            <p:nvPr/>
          </p:nvGrpSpPr>
          <p:grpSpPr>
            <a:xfrm>
              <a:off x="2448000" y="1819440"/>
              <a:ext cx="1585800" cy="444600"/>
              <a:chOff x="2448000" y="1819440"/>
              <a:chExt cx="1585800" cy="44460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2449440" y="1819440"/>
                <a:ext cx="14392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2448000" y="1865160"/>
                <a:ext cx="15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石或卵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9"/>
          <p:cNvGrpSpPr/>
          <p:nvPr/>
        </p:nvGrpSpPr>
        <p:grpSpPr>
          <a:xfrm>
            <a:off x="1730520" y="3186000"/>
            <a:ext cx="2160360" cy="543240"/>
            <a:chOff x="1730520" y="3186000"/>
            <a:chExt cx="2160360" cy="543240"/>
          </a:xfrm>
        </p:grpSpPr>
        <p:sp>
          <p:nvSpPr>
            <p:cNvPr id="121" name="Line 9"/>
            <p:cNvSpPr/>
            <p:nvPr/>
          </p:nvSpPr>
          <p:spPr>
            <a:xfrm>
              <a:off x="1730520" y="3186000"/>
              <a:ext cx="57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3"/>
            <p:cNvGrpSpPr/>
            <p:nvPr/>
          </p:nvGrpSpPr>
          <p:grpSpPr>
            <a:xfrm>
              <a:off x="2522520" y="3330360"/>
              <a:ext cx="1368360" cy="398880"/>
              <a:chOff x="2522520" y="3330360"/>
              <a:chExt cx="1368360" cy="398880"/>
            </a:xfrm>
          </p:grpSpPr>
          <p:sp>
            <p:nvSpPr>
              <p:cNvPr id="123" name="Rectangle 12"/>
              <p:cNvSpPr/>
              <p:nvPr/>
            </p:nvSpPr>
            <p:spPr>
              <a:xfrm>
                <a:off x="2522520" y="3366720"/>
                <a:ext cx="1368360" cy="36036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2595240" y="33303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微细颗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8"/>
          <p:cNvGrpSpPr/>
          <p:nvPr/>
        </p:nvGrpSpPr>
        <p:grpSpPr>
          <a:xfrm>
            <a:off x="1874880" y="2611440"/>
            <a:ext cx="2158920" cy="431640"/>
            <a:chOff x="1874880" y="2611440"/>
            <a:chExt cx="2158920" cy="431640"/>
          </a:xfrm>
        </p:grpSpPr>
        <p:sp>
          <p:nvSpPr>
            <p:cNvPr id="126" name="Line 8"/>
            <p:cNvSpPr/>
            <p:nvPr/>
          </p:nvSpPr>
          <p:spPr>
            <a:xfrm>
              <a:off x="1874880" y="275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4"/>
            <p:cNvGrpSpPr/>
            <p:nvPr/>
          </p:nvGrpSpPr>
          <p:grpSpPr>
            <a:xfrm>
              <a:off x="2233800" y="2611440"/>
              <a:ext cx="1800000" cy="431640"/>
              <a:chOff x="2233800" y="2611440"/>
              <a:chExt cx="1800000" cy="43164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2304720" y="2611440"/>
                <a:ext cx="158400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2233800" y="26114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粗或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58"/>
          <p:cNvGrpSpPr/>
          <p:nvPr/>
        </p:nvGrpSpPr>
        <p:grpSpPr>
          <a:xfrm>
            <a:off x="2736720" y="811080"/>
            <a:ext cx="936720" cy="934920"/>
            <a:chOff x="2736720" y="811080"/>
            <a:chExt cx="936720" cy="934920"/>
          </a:xfrm>
        </p:grpSpPr>
        <p:sp>
          <p:nvSpPr>
            <p:cNvPr id="131" name="Oval 100"/>
            <p:cNvSpPr/>
            <p:nvPr/>
          </p:nvSpPr>
          <p:spPr>
            <a:xfrm>
              <a:off x="2736720" y="811080"/>
              <a:ext cx="93672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"/>
            <p:cNvSpPr/>
            <p:nvPr/>
          </p:nvSpPr>
          <p:spPr>
            <a:xfrm flipV="1">
              <a:off x="3168360" y="1458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1"/>
          <p:cNvSpPr/>
          <p:nvPr/>
        </p:nvSpPr>
        <p:spPr>
          <a:xfrm>
            <a:off x="280980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砾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1"/>
          <p:cNvGrpSpPr/>
          <p:nvPr/>
        </p:nvGrpSpPr>
        <p:grpSpPr>
          <a:xfrm>
            <a:off x="3963960" y="2611440"/>
            <a:ext cx="1077840" cy="431640"/>
            <a:chOff x="3963960" y="2611440"/>
            <a:chExt cx="1077840" cy="431640"/>
          </a:xfrm>
        </p:grpSpPr>
        <p:grpSp>
          <p:nvGrpSpPr>
            <p:cNvPr id="135" name="Group 33"/>
            <p:cNvGrpSpPr/>
            <p:nvPr/>
          </p:nvGrpSpPr>
          <p:grpSpPr>
            <a:xfrm>
              <a:off x="4321080" y="2611440"/>
              <a:ext cx="720720" cy="431640"/>
              <a:chOff x="4321080" y="2611440"/>
              <a:chExt cx="720720" cy="431640"/>
            </a:xfrm>
          </p:grpSpPr>
          <p:sp>
            <p:nvSpPr>
              <p:cNvPr id="136" name="Rectangle 30"/>
              <p:cNvSpPr/>
              <p:nvPr/>
            </p:nvSpPr>
            <p:spPr>
              <a:xfrm>
                <a:off x="4392360" y="261144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32"/>
              <p:cNvSpPr/>
              <p:nvPr/>
            </p:nvSpPr>
            <p:spPr>
              <a:xfrm>
                <a:off x="4321080" y="2611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紧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19"/>
            <p:cNvSpPr/>
            <p:nvPr/>
          </p:nvSpPr>
          <p:spPr>
            <a:xfrm>
              <a:off x="3963960" y="28270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9"/>
          <p:cNvGrpSpPr/>
          <p:nvPr/>
        </p:nvGrpSpPr>
        <p:grpSpPr>
          <a:xfrm>
            <a:off x="5041800" y="811080"/>
            <a:ext cx="1441440" cy="1008000"/>
            <a:chOff x="5041800" y="811080"/>
            <a:chExt cx="1441440" cy="1008000"/>
          </a:xfrm>
        </p:grpSpPr>
        <p:sp>
          <p:nvSpPr>
            <p:cNvPr id="140" name="Oval 104"/>
            <p:cNvSpPr/>
            <p:nvPr/>
          </p:nvSpPr>
          <p:spPr>
            <a:xfrm>
              <a:off x="5546880" y="811080"/>
              <a:ext cx="93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 flipV="1">
              <a:off x="5041800" y="138708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05"/>
          <p:cNvSpPr/>
          <p:nvPr/>
        </p:nvSpPr>
        <p:spPr>
          <a:xfrm>
            <a:off x="561816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砂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0"/>
          <p:cNvGrpSpPr/>
          <p:nvPr/>
        </p:nvGrpSpPr>
        <p:grpSpPr>
          <a:xfrm>
            <a:off x="3962520" y="1746360"/>
            <a:ext cx="1152360" cy="935640"/>
            <a:chOff x="3962520" y="1746360"/>
            <a:chExt cx="1152360" cy="935640"/>
          </a:xfrm>
        </p:grpSpPr>
        <p:grpSp>
          <p:nvGrpSpPr>
            <p:cNvPr id="144" name="Group 34"/>
            <p:cNvGrpSpPr/>
            <p:nvPr/>
          </p:nvGrpSpPr>
          <p:grpSpPr>
            <a:xfrm>
              <a:off x="4322880" y="1746360"/>
              <a:ext cx="792000" cy="431640"/>
              <a:chOff x="4322880" y="1746360"/>
              <a:chExt cx="792000" cy="431640"/>
            </a:xfrm>
          </p:grpSpPr>
          <p:sp>
            <p:nvSpPr>
              <p:cNvPr id="145" name="Rectangle 29"/>
              <p:cNvSpPr/>
              <p:nvPr/>
            </p:nvSpPr>
            <p:spPr>
              <a:xfrm>
                <a:off x="4394160" y="1746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4322880" y="1746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松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22"/>
            <p:cNvSpPr/>
            <p:nvPr/>
          </p:nvSpPr>
          <p:spPr>
            <a:xfrm flipV="1">
              <a:off x="3962520" y="2250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2"/>
          <p:cNvGrpSpPr/>
          <p:nvPr/>
        </p:nvGrpSpPr>
        <p:grpSpPr>
          <a:xfrm>
            <a:off x="4970520" y="2035080"/>
            <a:ext cx="1944720" cy="865080"/>
            <a:chOff x="4970520" y="2035080"/>
            <a:chExt cx="1944720" cy="865080"/>
          </a:xfrm>
        </p:grpSpPr>
        <p:grpSp>
          <p:nvGrpSpPr>
            <p:cNvPr id="149" name="Group 42"/>
            <p:cNvGrpSpPr/>
            <p:nvPr/>
          </p:nvGrpSpPr>
          <p:grpSpPr>
            <a:xfrm>
              <a:off x="5403960" y="2035080"/>
              <a:ext cx="1511280" cy="865080"/>
              <a:chOff x="5403960" y="2035080"/>
              <a:chExt cx="1511280" cy="865080"/>
            </a:xfrm>
          </p:grpSpPr>
          <p:sp>
            <p:nvSpPr>
              <p:cNvPr id="150" name="AutoShape 37"/>
              <p:cNvSpPr/>
              <p:nvPr/>
            </p:nvSpPr>
            <p:spPr>
              <a:xfrm>
                <a:off x="5403960" y="2035080"/>
                <a:ext cx="1511280" cy="86508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9"/>
              <p:cNvSpPr/>
              <p:nvPr/>
            </p:nvSpPr>
            <p:spPr>
              <a:xfrm>
                <a:off x="5546880" y="2107800"/>
                <a:ext cx="1225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有不同的颜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3"/>
            <p:cNvSpPr/>
            <p:nvPr/>
          </p:nvSpPr>
          <p:spPr>
            <a:xfrm flipV="1">
              <a:off x="4970520" y="26128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4970520" y="2898720"/>
            <a:ext cx="2160000" cy="1150920"/>
            <a:chOff x="4970520" y="2898720"/>
            <a:chExt cx="2160000" cy="1150920"/>
          </a:xfrm>
        </p:grpSpPr>
        <p:grpSp>
          <p:nvGrpSpPr>
            <p:cNvPr id="154" name="Group 41"/>
            <p:cNvGrpSpPr/>
            <p:nvPr/>
          </p:nvGrpSpPr>
          <p:grpSpPr>
            <a:xfrm>
              <a:off x="5474880" y="3186000"/>
              <a:ext cx="1655640" cy="863640"/>
              <a:chOff x="5474880" y="3186000"/>
              <a:chExt cx="1655640" cy="863640"/>
            </a:xfrm>
          </p:grpSpPr>
          <p:sp>
            <p:nvSpPr>
              <p:cNvPr id="155" name="AutoShape 38"/>
              <p:cNvSpPr/>
              <p:nvPr/>
            </p:nvSpPr>
            <p:spPr>
              <a:xfrm>
                <a:off x="5474880" y="3186000"/>
                <a:ext cx="1512720" cy="86364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0"/>
              <p:cNvSpPr/>
              <p:nvPr/>
            </p:nvSpPr>
            <p:spPr>
              <a:xfrm>
                <a:off x="5474880" y="3257280"/>
                <a:ext cx="165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晶莹，有的有纹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124"/>
            <p:cNvSpPr/>
            <p:nvPr/>
          </p:nvSpPr>
          <p:spPr>
            <a:xfrm>
              <a:off x="4970520" y="2898720"/>
              <a:ext cx="360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1"/>
          <p:cNvGrpSpPr/>
          <p:nvPr/>
        </p:nvGrpSpPr>
        <p:grpSpPr>
          <a:xfrm>
            <a:off x="6985080" y="2178000"/>
            <a:ext cx="1657440" cy="576000"/>
            <a:chOff x="6985080" y="2178000"/>
            <a:chExt cx="1657440" cy="576000"/>
          </a:xfrm>
        </p:grpSpPr>
        <p:grpSp>
          <p:nvGrpSpPr>
            <p:cNvPr id="159" name="Group 160"/>
            <p:cNvGrpSpPr/>
            <p:nvPr/>
          </p:nvGrpSpPr>
          <p:grpSpPr>
            <a:xfrm>
              <a:off x="6985080" y="2178000"/>
              <a:ext cx="1584360" cy="576000"/>
              <a:chOff x="6985080" y="2178000"/>
              <a:chExt cx="1584360" cy="576000"/>
            </a:xfrm>
          </p:grpSpPr>
          <p:sp>
            <p:nvSpPr>
              <p:cNvPr id="160" name="Oval 78"/>
              <p:cNvSpPr/>
              <p:nvPr/>
            </p:nvSpPr>
            <p:spPr>
              <a:xfrm>
                <a:off x="7633080" y="217800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6985080" y="24667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79"/>
            <p:cNvSpPr/>
            <p:nvPr/>
          </p:nvSpPr>
          <p:spPr>
            <a:xfrm>
              <a:off x="7634520" y="2249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岗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2"/>
          <p:cNvGrpSpPr/>
          <p:nvPr/>
        </p:nvGrpSpPr>
        <p:grpSpPr>
          <a:xfrm>
            <a:off x="7056360" y="3330720"/>
            <a:ext cx="1586160" cy="576000"/>
            <a:chOff x="7056360" y="3330720"/>
            <a:chExt cx="1586160" cy="576000"/>
          </a:xfrm>
        </p:grpSpPr>
        <p:grpSp>
          <p:nvGrpSpPr>
            <p:cNvPr id="164" name="Group 161"/>
            <p:cNvGrpSpPr/>
            <p:nvPr/>
          </p:nvGrpSpPr>
          <p:grpSpPr>
            <a:xfrm>
              <a:off x="7056360" y="3330720"/>
              <a:ext cx="1512720" cy="576000"/>
              <a:chOff x="7056360" y="3330720"/>
              <a:chExt cx="1512720" cy="576000"/>
            </a:xfrm>
          </p:grpSpPr>
          <p:sp>
            <p:nvSpPr>
              <p:cNvPr id="165" name="Oval 82"/>
              <p:cNvSpPr/>
              <p:nvPr/>
            </p:nvSpPr>
            <p:spPr>
              <a:xfrm>
                <a:off x="7632720" y="333072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6"/>
              <p:cNvSpPr/>
              <p:nvPr/>
            </p:nvSpPr>
            <p:spPr>
              <a:xfrm>
                <a:off x="7056360" y="36194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83"/>
            <p:cNvSpPr/>
            <p:nvPr/>
          </p:nvSpPr>
          <p:spPr>
            <a:xfrm>
              <a:off x="7634520" y="3401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理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3"/>
          <p:cNvGrpSpPr/>
          <p:nvPr/>
        </p:nvGrpSpPr>
        <p:grpSpPr>
          <a:xfrm>
            <a:off x="7128000" y="4338720"/>
            <a:ext cx="1586880" cy="576360"/>
            <a:chOff x="7128000" y="4338720"/>
            <a:chExt cx="1586880" cy="576360"/>
          </a:xfrm>
        </p:grpSpPr>
        <p:grpSp>
          <p:nvGrpSpPr>
            <p:cNvPr id="169" name="Group 162"/>
            <p:cNvGrpSpPr/>
            <p:nvPr/>
          </p:nvGrpSpPr>
          <p:grpSpPr>
            <a:xfrm>
              <a:off x="7128000" y="4338720"/>
              <a:ext cx="1442160" cy="576360"/>
              <a:chOff x="7128000" y="4338720"/>
              <a:chExt cx="1442160" cy="576360"/>
            </a:xfrm>
          </p:grpSpPr>
          <p:sp>
            <p:nvSpPr>
              <p:cNvPr id="170" name="Oval 113"/>
              <p:cNvSpPr/>
              <p:nvPr/>
            </p:nvSpPr>
            <p:spPr>
              <a:xfrm>
                <a:off x="7634160" y="4338720"/>
                <a:ext cx="93600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7128000" y="462780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14"/>
            <p:cNvSpPr/>
            <p:nvPr/>
          </p:nvSpPr>
          <p:spPr>
            <a:xfrm>
              <a:off x="7706880" y="4410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板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4"/>
          <p:cNvGrpSpPr/>
          <p:nvPr/>
        </p:nvGrpSpPr>
        <p:grpSpPr>
          <a:xfrm>
            <a:off x="7129440" y="5203800"/>
            <a:ext cx="1584360" cy="576360"/>
            <a:chOff x="7129440" y="5203800"/>
            <a:chExt cx="1584360" cy="576360"/>
          </a:xfrm>
        </p:grpSpPr>
        <p:grpSp>
          <p:nvGrpSpPr>
            <p:cNvPr id="174" name="Group 163"/>
            <p:cNvGrpSpPr/>
            <p:nvPr/>
          </p:nvGrpSpPr>
          <p:grpSpPr>
            <a:xfrm>
              <a:off x="7129440" y="5203800"/>
              <a:ext cx="1439640" cy="576360"/>
              <a:chOff x="7129440" y="5203800"/>
              <a:chExt cx="1439640" cy="576360"/>
            </a:xfrm>
          </p:grpSpPr>
          <p:sp>
            <p:nvSpPr>
              <p:cNvPr id="175" name="Oval 110"/>
              <p:cNvSpPr/>
              <p:nvPr/>
            </p:nvSpPr>
            <p:spPr>
              <a:xfrm>
                <a:off x="7632720" y="5203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28"/>
              <p:cNvSpPr/>
              <p:nvPr/>
            </p:nvSpPr>
            <p:spPr>
              <a:xfrm>
                <a:off x="7129440" y="54914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11"/>
            <p:cNvSpPr/>
            <p:nvPr/>
          </p:nvSpPr>
          <p:spPr>
            <a:xfrm>
              <a:off x="7705800" y="5275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页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8"/>
          <p:cNvGrpSpPr/>
          <p:nvPr/>
        </p:nvGrpSpPr>
        <p:grpSpPr>
          <a:xfrm>
            <a:off x="2595600" y="3762360"/>
            <a:ext cx="790200" cy="1944720"/>
            <a:chOff x="2595600" y="3762360"/>
            <a:chExt cx="790200" cy="1944720"/>
          </a:xfrm>
        </p:grpSpPr>
        <p:grpSp>
          <p:nvGrpSpPr>
            <p:cNvPr id="179" name="Group 58"/>
            <p:cNvGrpSpPr/>
            <p:nvPr/>
          </p:nvGrpSpPr>
          <p:grpSpPr>
            <a:xfrm>
              <a:off x="2595600" y="4050000"/>
              <a:ext cx="790200" cy="1657080"/>
              <a:chOff x="2595600" y="4050000"/>
              <a:chExt cx="790200" cy="1657080"/>
            </a:xfrm>
          </p:grpSpPr>
          <p:sp>
            <p:nvSpPr>
              <p:cNvPr id="180" name="Rectangle 55"/>
              <p:cNvSpPr/>
              <p:nvPr/>
            </p:nvSpPr>
            <p:spPr>
              <a:xfrm rot="5400000">
                <a:off x="2268360" y="4662720"/>
                <a:ext cx="16570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7"/>
              <p:cNvSpPr/>
              <p:nvPr/>
            </p:nvSpPr>
            <p:spPr>
              <a:xfrm>
                <a:off x="2595600" y="4050000"/>
                <a:ext cx="79020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滴稀盐酸冒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129"/>
            <p:cNvSpPr/>
            <p:nvPr/>
          </p:nvSpPr>
          <p:spPr>
            <a:xfrm>
              <a:off x="3098880" y="376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4"/>
          <p:cNvGrpSpPr/>
          <p:nvPr/>
        </p:nvGrpSpPr>
        <p:grpSpPr>
          <a:xfrm>
            <a:off x="3386160" y="3762360"/>
            <a:ext cx="1439640" cy="1007640"/>
            <a:chOff x="3386160" y="3762360"/>
            <a:chExt cx="1439640" cy="1007640"/>
          </a:xfrm>
        </p:grpSpPr>
        <p:grpSp>
          <p:nvGrpSpPr>
            <p:cNvPr id="184" name="Group 48"/>
            <p:cNvGrpSpPr/>
            <p:nvPr/>
          </p:nvGrpSpPr>
          <p:grpSpPr>
            <a:xfrm>
              <a:off x="4105080" y="4338360"/>
              <a:ext cx="720720" cy="431640"/>
              <a:chOff x="4105080" y="4338360"/>
              <a:chExt cx="720720" cy="431640"/>
            </a:xfrm>
          </p:grpSpPr>
          <p:sp>
            <p:nvSpPr>
              <p:cNvPr id="185" name="Rectangle 49"/>
              <p:cNvSpPr/>
              <p:nvPr/>
            </p:nvSpPr>
            <p:spPr>
              <a:xfrm>
                <a:off x="417636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50"/>
              <p:cNvSpPr/>
              <p:nvPr/>
            </p:nvSpPr>
            <p:spPr>
              <a:xfrm>
                <a:off x="410508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130"/>
            <p:cNvSpPr/>
            <p:nvPr/>
          </p:nvSpPr>
          <p:spPr>
            <a:xfrm>
              <a:off x="3386160" y="376236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7"/>
          <p:cNvGrpSpPr/>
          <p:nvPr/>
        </p:nvGrpSpPr>
        <p:grpSpPr>
          <a:xfrm>
            <a:off x="1657440" y="3762360"/>
            <a:ext cx="1225080" cy="1007640"/>
            <a:chOff x="1657440" y="3762360"/>
            <a:chExt cx="1225080" cy="1007640"/>
          </a:xfrm>
        </p:grpSpPr>
        <p:grpSp>
          <p:nvGrpSpPr>
            <p:cNvPr id="189" name="Group 74"/>
            <p:cNvGrpSpPr/>
            <p:nvPr/>
          </p:nvGrpSpPr>
          <p:grpSpPr>
            <a:xfrm>
              <a:off x="1657440" y="4338360"/>
              <a:ext cx="720720" cy="431640"/>
              <a:chOff x="1657440" y="4338360"/>
              <a:chExt cx="720720" cy="431640"/>
            </a:xfrm>
          </p:grpSpPr>
          <p:sp>
            <p:nvSpPr>
              <p:cNvPr id="190" name="Rectangle 75"/>
              <p:cNvSpPr/>
              <p:nvPr/>
            </p:nvSpPr>
            <p:spPr>
              <a:xfrm>
                <a:off x="172872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6"/>
              <p:cNvSpPr/>
              <p:nvPr/>
            </p:nvSpPr>
            <p:spPr>
              <a:xfrm>
                <a:off x="165744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131"/>
            <p:cNvSpPr/>
            <p:nvPr/>
          </p:nvSpPr>
          <p:spPr>
            <a:xfrm flipH="1">
              <a:off x="2306160" y="3762360"/>
              <a:ext cx="576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5"/>
          <p:cNvGrpSpPr/>
          <p:nvPr/>
        </p:nvGrpSpPr>
        <p:grpSpPr>
          <a:xfrm>
            <a:off x="4826160" y="4338720"/>
            <a:ext cx="2304000" cy="503280"/>
            <a:chOff x="4826160" y="4338720"/>
            <a:chExt cx="2304000" cy="503280"/>
          </a:xfrm>
        </p:grpSpPr>
        <p:grpSp>
          <p:nvGrpSpPr>
            <p:cNvPr id="194" name="Group 64"/>
            <p:cNvGrpSpPr/>
            <p:nvPr/>
          </p:nvGrpSpPr>
          <p:grpSpPr>
            <a:xfrm>
              <a:off x="5259240" y="4338720"/>
              <a:ext cx="1870920" cy="503280"/>
              <a:chOff x="5259240" y="4338720"/>
              <a:chExt cx="1870920" cy="503280"/>
            </a:xfrm>
          </p:grpSpPr>
          <p:sp>
            <p:nvSpPr>
              <p:cNvPr id="195" name="AutoShape 60"/>
              <p:cNvSpPr/>
              <p:nvPr/>
            </p:nvSpPr>
            <p:spPr>
              <a:xfrm>
                <a:off x="5259240" y="4338720"/>
                <a:ext cx="1800000" cy="50328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2"/>
              <p:cNvSpPr/>
              <p:nvPr/>
            </p:nvSpPr>
            <p:spPr>
              <a:xfrm>
                <a:off x="5330160" y="43736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有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132"/>
            <p:cNvSpPr/>
            <p:nvPr/>
          </p:nvSpPr>
          <p:spPr>
            <a:xfrm>
              <a:off x="4826160" y="4554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4826160" y="4699080"/>
            <a:ext cx="2303280" cy="1008000"/>
            <a:chOff x="4826160" y="4699080"/>
            <a:chExt cx="2303280" cy="1008000"/>
          </a:xfrm>
        </p:grpSpPr>
        <p:grpSp>
          <p:nvGrpSpPr>
            <p:cNvPr id="199" name="Group 65"/>
            <p:cNvGrpSpPr/>
            <p:nvPr/>
          </p:nvGrpSpPr>
          <p:grpSpPr>
            <a:xfrm>
              <a:off x="5257800" y="5202360"/>
              <a:ext cx="1871640" cy="504720"/>
              <a:chOff x="5257800" y="5202360"/>
              <a:chExt cx="1871640" cy="504720"/>
            </a:xfrm>
          </p:grpSpPr>
          <p:sp>
            <p:nvSpPr>
              <p:cNvPr id="200" name="AutoShape 61"/>
              <p:cNvSpPr/>
              <p:nvPr/>
            </p:nvSpPr>
            <p:spPr>
              <a:xfrm>
                <a:off x="5257800" y="5202360"/>
                <a:ext cx="1800360" cy="50472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5329080" y="523692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无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3"/>
            <p:cNvSpPr/>
            <p:nvPr/>
          </p:nvSpPr>
          <p:spPr>
            <a:xfrm>
              <a:off x="4826160" y="4699080"/>
              <a:ext cx="360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6"/>
          <p:cNvGrpSpPr/>
          <p:nvPr/>
        </p:nvGrpSpPr>
        <p:grpSpPr>
          <a:xfrm>
            <a:off x="1441440" y="4843440"/>
            <a:ext cx="1081080" cy="1152720"/>
            <a:chOff x="1441440" y="4843440"/>
            <a:chExt cx="1081080" cy="1152720"/>
          </a:xfrm>
        </p:grpSpPr>
        <p:grpSp>
          <p:nvGrpSpPr>
            <p:cNvPr id="204" name="Group 165"/>
            <p:cNvGrpSpPr/>
            <p:nvPr/>
          </p:nvGrpSpPr>
          <p:grpSpPr>
            <a:xfrm>
              <a:off x="1441440" y="4843440"/>
              <a:ext cx="936360" cy="1152720"/>
              <a:chOff x="1441440" y="4843440"/>
              <a:chExt cx="936360" cy="1152720"/>
            </a:xfrm>
          </p:grpSpPr>
          <p:sp>
            <p:nvSpPr>
              <p:cNvPr id="205" name="Oval 107"/>
              <p:cNvSpPr/>
              <p:nvPr/>
            </p:nvSpPr>
            <p:spPr>
              <a:xfrm>
                <a:off x="1441440" y="5419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4"/>
              <p:cNvSpPr/>
              <p:nvPr/>
            </p:nvSpPr>
            <p:spPr>
              <a:xfrm>
                <a:off x="1944360" y="4843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108"/>
            <p:cNvSpPr/>
            <p:nvPr/>
          </p:nvSpPr>
          <p:spPr>
            <a:xfrm>
              <a:off x="1514520" y="5491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浮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5"/>
          <p:cNvGrpSpPr/>
          <p:nvPr/>
        </p:nvGrpSpPr>
        <p:grpSpPr>
          <a:xfrm>
            <a:off x="2665440" y="5778360"/>
            <a:ext cx="1009800" cy="865080"/>
            <a:chOff x="2665440" y="5778360"/>
            <a:chExt cx="1009800" cy="865080"/>
          </a:xfrm>
        </p:grpSpPr>
        <p:grpSp>
          <p:nvGrpSpPr>
            <p:cNvPr id="209" name="Group 164"/>
            <p:cNvGrpSpPr/>
            <p:nvPr/>
          </p:nvGrpSpPr>
          <p:grpSpPr>
            <a:xfrm>
              <a:off x="2665440" y="5778360"/>
              <a:ext cx="936720" cy="865080"/>
              <a:chOff x="2665440" y="5778360"/>
              <a:chExt cx="936720" cy="865080"/>
            </a:xfrm>
          </p:grpSpPr>
          <p:sp>
            <p:nvSpPr>
              <p:cNvPr id="210" name="Oval 91"/>
              <p:cNvSpPr/>
              <p:nvPr/>
            </p:nvSpPr>
            <p:spPr>
              <a:xfrm>
                <a:off x="2665440" y="6067080"/>
                <a:ext cx="93672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5"/>
              <p:cNvSpPr/>
              <p:nvPr/>
            </p:nvSpPr>
            <p:spPr>
              <a:xfrm>
                <a:off x="3097440" y="577836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92"/>
            <p:cNvSpPr/>
            <p:nvPr/>
          </p:nvSpPr>
          <p:spPr>
            <a:xfrm>
              <a:off x="2666880" y="61387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石灰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0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岩石的种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石灰岩"/>
          <p:cNvPicPr/>
          <p:nvPr/>
        </p:nvPicPr>
        <p:blipFill>
          <a:blip r:embed="rId1"/>
          <a:stretch/>
        </p:blipFill>
        <p:spPr>
          <a:xfrm>
            <a:off x="3357720" y="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页岩"/>
          <p:cNvPicPr/>
          <p:nvPr/>
        </p:nvPicPr>
        <p:blipFill>
          <a:blip r:embed="rId2"/>
          <a:stretch/>
        </p:blipFill>
        <p:spPr>
          <a:xfrm>
            <a:off x="0" y="2428920"/>
            <a:ext cx="2637000" cy="196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板岩"/>
          <p:cNvPicPr/>
          <p:nvPr/>
        </p:nvPicPr>
        <p:blipFill>
          <a:blip r:embed="rId3"/>
          <a:stretch/>
        </p:blipFill>
        <p:spPr>
          <a:xfrm>
            <a:off x="0" y="0"/>
            <a:ext cx="263700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大理岩"/>
          <p:cNvPicPr/>
          <p:nvPr/>
        </p:nvPicPr>
        <p:blipFill>
          <a:blip r:embed="rId4"/>
          <a:stretch/>
        </p:blipFill>
        <p:spPr>
          <a:xfrm>
            <a:off x="6622920" y="0"/>
            <a:ext cx="25210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花岗岩"/>
          <p:cNvPicPr/>
          <p:nvPr/>
        </p:nvPicPr>
        <p:blipFill>
          <a:blip r:embed="rId5"/>
          <a:stretch/>
        </p:blipFill>
        <p:spPr>
          <a:xfrm>
            <a:off x="3357720" y="278604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砾岩"/>
          <p:cNvPicPr/>
          <p:nvPr/>
        </p:nvPicPr>
        <p:blipFill>
          <a:blip r:embed="rId6"/>
          <a:stretch/>
        </p:blipFill>
        <p:spPr>
          <a:xfrm>
            <a:off x="0" y="4508640"/>
            <a:ext cx="263700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砂岩"/>
          <p:cNvPicPr/>
          <p:nvPr/>
        </p:nvPicPr>
        <p:blipFill>
          <a:blip r:embed="rId7"/>
          <a:stretch/>
        </p:blipFill>
        <p:spPr>
          <a:xfrm>
            <a:off x="6622920" y="2786040"/>
            <a:ext cx="2521080" cy="2198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0"/>
          <p:cNvSpPr/>
          <p:nvPr/>
        </p:nvSpPr>
        <p:spPr>
          <a:xfrm>
            <a:off x="3357720" y="54291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这些常见的岩石，哪些是它最重要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特点，让别人猜出岩石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7572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岩石成因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—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成因和分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今天观察的岩石根据成因进行分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2000160" y="364320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浆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积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质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71680" y="4786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5"/>
          <p:cNvSpPr/>
          <p:nvPr/>
        </p:nvSpPr>
        <p:spPr>
          <a:xfrm>
            <a:off x="1785960" y="3857760"/>
            <a:ext cx="214200" cy="2428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8320 h 2428920"/>
              <a:gd name="textAreaBottom" fmla="*/ 23706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4"/>
                  <a:pt x="10800" y="1667"/>
                </a:cubicBezTo>
                <a:lnTo>
                  <a:pt x="10800" y="9356"/>
                </a:lnTo>
                <a:cubicBezTo>
                  <a:pt x="10800" y="10190"/>
                  <a:pt x="5400" y="11023"/>
                  <a:pt x="0" y="11023"/>
                </a:cubicBezTo>
                <a:cubicBezTo>
                  <a:pt x="5400" y="11023"/>
                  <a:pt x="10800" y="11857"/>
                  <a:pt x="10800" y="12690"/>
                </a:cubicBezTo>
                <a:lnTo>
                  <a:pt x="10800" y="19933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3643200" y="3643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玄武岩、浮石、花岗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643200" y="4786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砂岩、页岩、砾岩、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3643200" y="59166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理岩、板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84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遇盐酸会冒泡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砂岩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多气孔的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常常通过观察岩石的（      ），对岩石的种类作出判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滑程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片的成分和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357960" y="2285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643880" y="570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7286760" y="392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种常见的岩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0" y="3071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岩             石灰岩            砂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砾岩             大理岩          花岗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QQ图片20130531091857.jpg"/>
          <p:cNvPicPr/>
          <p:nvPr/>
        </p:nvPicPr>
        <p:blipFill>
          <a:blip r:embed="rId1"/>
          <a:stretch/>
        </p:blipFill>
        <p:spPr>
          <a:xfrm>
            <a:off x="0" y="792000"/>
            <a:ext cx="307188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3214800" y="785880"/>
            <a:ext cx="2786040" cy="2263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1111111111111111111.jpg"/>
          <p:cNvPicPr/>
          <p:nvPr/>
        </p:nvPicPr>
        <p:blipFill>
          <a:blip r:embed="rId3"/>
          <a:stretch/>
        </p:blipFill>
        <p:spPr>
          <a:xfrm>
            <a:off x="6143760" y="79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173692760\QQ\WinTemp\RichOle\A5KRK)1S2Y{_AND7LIBKY`E.jpg"/>
          <p:cNvPicPr/>
          <p:nvPr/>
        </p:nvPicPr>
        <p:blipFill>
          <a:blip r:embed="rId4"/>
          <a:stretch/>
        </p:blipFill>
        <p:spPr>
          <a:xfrm>
            <a:off x="0" y="3857760"/>
            <a:ext cx="30481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istrator\AppData\Roaming\Tencent\Users\173692760\QQ\WinTemp\RichOle\OUX]7YF[9}MU3CVAT2S4C[O.jpg"/>
          <p:cNvPicPr/>
          <p:nvPr/>
        </p:nvPicPr>
        <p:blipFill>
          <a:blip r:embed="rId5"/>
          <a:stretch/>
        </p:blipFill>
        <p:spPr>
          <a:xfrm>
            <a:off x="3208320" y="3895560"/>
            <a:ext cx="2792520" cy="21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dministrator\AppData\Roaming\Tencent\Users\173692760\QQ\WinTemp\RichOle\7][LC5I[D]X77`_0BL0SNLI.jpg"/>
          <p:cNvPicPr/>
          <p:nvPr/>
        </p:nvPicPr>
        <p:blipFill>
          <a:blip r:embed="rId6"/>
          <a:stretch/>
        </p:blipFill>
        <p:spPr>
          <a:xfrm>
            <a:off x="6172200" y="39290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观察岩石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35"/>
          <p:cNvSpPr/>
          <p:nvPr/>
        </p:nvSpPr>
        <p:spPr>
          <a:xfrm>
            <a:off x="2940120" y="277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4680" y="1816200"/>
          <a:ext cx="8029440" cy="4684680"/>
        </p:xfrm>
        <a:graphic>
          <a:graphicData uri="http://schemas.openxmlformats.org/drawingml/2006/table">
            <a:tbl>
              <a:tblPr/>
              <a:tblGrid>
                <a:gridCol w="483840"/>
                <a:gridCol w="218880"/>
                <a:gridCol w="396360"/>
                <a:gridCol w="490320"/>
                <a:gridCol w="588600"/>
                <a:gridCol w="590040"/>
                <a:gridCol w="590040"/>
                <a:gridCol w="490320"/>
                <a:gridCol w="550440"/>
                <a:gridCol w="428400"/>
                <a:gridCol w="428040"/>
                <a:gridCol w="490320"/>
                <a:gridCol w="428400"/>
                <a:gridCol w="428040"/>
                <a:gridCol w="421920"/>
                <a:gridCol w="483840"/>
                <a:gridCol w="521640"/>
              </a:tblGrid>
              <a:tr h="557280">
                <a:tc gridSpan="17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的显著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颗粒形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敲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滴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" action="ppaction://hlinksldjump"/>
                        </a:rPr>
                        <a:t>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2" action="ppaction://hlinksldjump"/>
                        </a:rPr>
                        <a:t>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3" action="ppaction://hlinksldjump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4" action="ppaction://hlinksldjump"/>
                        </a:rPr>
                        <a:t>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5" action="ppaction://hlinksldjump"/>
                        </a:rPr>
                        <a:t>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6" action="ppaction://hlinksldjump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7" action="ppaction://hlinksldjump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8" action="ppaction://hlinksldjump"/>
                        </a:rPr>
                        <a:t>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9" action="ppaction://hlinksldjump"/>
                        </a:rPr>
                        <a:t>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0" action="ppaction://hlinksldjump"/>
                        </a:rPr>
                        <a:t>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1" action="ppaction://hlinksldjump"/>
                        </a:rPr>
                        <a:t>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2" action="ppaction://hlinksldjump"/>
                        </a:rPr>
                        <a:t>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3" action="ppaction://hlinksldjump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4" action="ppaction://hlinksldjump"/>
                        </a:rPr>
                        <a:t>粗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混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清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4"/>
          <p:cNvSpPr/>
          <p:nvPr/>
        </p:nvSpPr>
        <p:spPr>
          <a:xfrm>
            <a:off x="0" y="98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岩石观察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5">
            <a:hlinkClick r:id="rId15" action="ppaction://hlinksldjump"/>
          </p:cNvPr>
          <p:cNvSpPr/>
          <p:nvPr/>
        </p:nvSpPr>
        <p:spPr>
          <a:xfrm>
            <a:off x="8429760" y="92880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10"/>
          <p:cNvSpPr/>
          <p:nvPr/>
        </p:nvSpPr>
        <p:spPr>
          <a:xfrm>
            <a:off x="4929120" y="785880"/>
            <a:ext cx="2786040" cy="1928880"/>
          </a:xfrm>
          <a:prstGeom prst="wedgeRoundRectCallout">
            <a:avLst>
              <a:gd name="adj1" fmla="val 41101"/>
              <a:gd name="adj2" fmla="val 66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752480" y="18288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QQ图片20130531091857.jpg"/>
          <p:cNvPicPr/>
          <p:nvPr/>
        </p:nvPicPr>
        <p:blipFill>
          <a:blip r:embed="rId1"/>
          <a:stretch/>
        </p:blipFill>
        <p:spPr>
          <a:xfrm>
            <a:off x="0" y="857160"/>
            <a:ext cx="4657680" cy="342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824960" y="2571840"/>
            <a:ext cx="1319040" cy="1563480"/>
          </a:xfrm>
          <a:prstGeom prst="rect">
            <a:avLst/>
          </a:prstGeom>
          <a:ln w="0">
            <a:noFill/>
          </a:ln>
        </p:spPr>
      </p:pic>
      <p:sp>
        <p:nvSpPr>
          <p:cNvPr id="64" name="矩形 9"/>
          <p:cNvSpPr/>
          <p:nvPr/>
        </p:nvSpPr>
        <p:spPr>
          <a:xfrm>
            <a:off x="5072040" y="8571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岩石分好几层，这就是层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dministrator\AppData\Roaming\Tencent\Users\173692760\QQ\WinTemp\RichOle\6YKC)GMSI}C5TED5WBGI$5J.jpg"/>
          <p:cNvPicPr/>
          <p:nvPr/>
        </p:nvPicPr>
        <p:blipFill>
          <a:blip r:embed="rId3"/>
          <a:stretch/>
        </p:blipFill>
        <p:spPr>
          <a:xfrm>
            <a:off x="0" y="4468680"/>
            <a:ext cx="2643120" cy="238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Administrator\AppData\Roaming\Tencent\Users\173692760\QQ\WinTemp\RichOle\MZ34@D3(SZ{8{~1QNR`_B[K.jpg"/>
          <p:cNvPicPr/>
          <p:nvPr/>
        </p:nvPicPr>
        <p:blipFill>
          <a:blip r:embed="rId4"/>
          <a:stretch/>
        </p:blipFill>
        <p:spPr>
          <a:xfrm>
            <a:off x="2786040" y="4500720"/>
            <a:ext cx="41432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AppData\Roaming\Tencent\Users\173692760\QQ\WinTemp\RichOle\425WO[6}8$%P}3]%Z}Q0WWV.jpg"/>
          <p:cNvPicPr/>
          <p:nvPr/>
        </p:nvPicPr>
        <p:blipFill>
          <a:blip r:embed="rId5"/>
          <a:stretch/>
        </p:blipFill>
        <p:spPr>
          <a:xfrm>
            <a:off x="7072200" y="4500720"/>
            <a:ext cx="20718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动作按钮: 后退或前一项 14">
            <a:hlinkClick r:id="rId6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动作按钮: 后退或前一项 14">
            <a:hlinkClick r:id="rId1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气孔7"/>
          <p:cNvPicPr/>
          <p:nvPr/>
        </p:nvPicPr>
        <p:blipFill>
          <a:blip r:embed="rId2"/>
          <a:stretch/>
        </p:blipFill>
        <p:spPr>
          <a:xfrm>
            <a:off x="214200" y="1285920"/>
            <a:ext cx="4500720" cy="51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AppData\Roaming\Tencent\Users\173692760\QQ\WinTemp\RichOle\3~%HNRKSJ{%MA`P%VRH2O12.jpg"/>
          <p:cNvPicPr/>
          <p:nvPr/>
        </p:nvPicPr>
        <p:blipFill>
          <a:blip r:embed="rId3"/>
          <a:stretch/>
        </p:blipFill>
        <p:spPr>
          <a:xfrm>
            <a:off x="4929120" y="1285920"/>
            <a:ext cx="40006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斑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花岗岩斑点图片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4500720" y="407196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C:\Users\Administrator\AppData\Roaming\Tencent\Users\173692760\QQ\WinTemp\RichOle\(9C{U9{QORN(W0~4D2O1LPW.jpg"/>
          <p:cNvPicPr/>
          <p:nvPr/>
        </p:nvPicPr>
        <p:blipFill>
          <a:blip r:embed="rId3"/>
          <a:stretch/>
        </p:blipFill>
        <p:spPr>
          <a:xfrm>
            <a:off x="0" y="40719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istrator\AppData\Roaming\Tencent\Users\173692760\QQ\WinTemp\RichOle\%I6WLUAD55FJEE7GZJ79DI2.jpg"/>
          <p:cNvPicPr/>
          <p:nvPr/>
        </p:nvPicPr>
        <p:blipFill>
          <a:blip r:embed="rId4"/>
          <a:stretch/>
        </p:blipFill>
        <p:spPr>
          <a:xfrm>
            <a:off x="4500720" y="928800"/>
            <a:ext cx="46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纹理7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物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(_(UA)PH6INPN~YUGY_V9MV.jpg"/>
          <p:cNvPicPr/>
          <p:nvPr/>
        </p:nvPicPr>
        <p:blipFill>
          <a:blip r:embed="rId1"/>
          <a:stretch/>
        </p:blipFill>
        <p:spPr>
          <a:xfrm>
            <a:off x="0" y="1000080"/>
            <a:ext cx="46814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173692760\QQ\WinTemp\RichOle\LO9K7J8NA97Z6)IJCV8UH@M.jpg"/>
          <p:cNvPicPr/>
          <p:nvPr/>
        </p:nvPicPr>
        <p:blipFill>
          <a:blip r:embed="rId2"/>
          <a:stretch/>
        </p:blipFill>
        <p:spPr>
          <a:xfrm>
            <a:off x="0" y="4013280"/>
            <a:ext cx="4643280" cy="28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Administrator\AppData\Roaming\Tencent\Users\173692760\QQ\WinTemp\RichOle\15H1P{%X4FV}9V~L6}T)G}8.jpg"/>
          <p:cNvPicPr/>
          <p:nvPr/>
        </p:nvPicPr>
        <p:blipFill>
          <a:blip r:embed="rId3"/>
          <a:stretch/>
        </p:blipFill>
        <p:spPr>
          <a:xfrm>
            <a:off x="4857840" y="4019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AppData\Roaming\Tencent\Users\173692760\QQ\WinTemp\RichOle\6V_@Q6Q~V@7%PPX7A8883RG.jpg"/>
          <p:cNvPicPr/>
          <p:nvPr/>
        </p:nvPicPr>
        <p:blipFill>
          <a:blip r:embed="rId4"/>
          <a:stretch/>
        </p:blipFill>
        <p:spPr>
          <a:xfrm>
            <a:off x="4857840" y="100008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颗粒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Administrator\AppData\Roaming\Tencent\Users\173692760\QQ\WinTemp\RichOle\A5KRK)1S2Y{_AND7LIBKY`E.jpg"/>
          <p:cNvPicPr/>
          <p:nvPr/>
        </p:nvPicPr>
        <p:blipFill>
          <a:blip r:embed="rId1"/>
          <a:stretch/>
        </p:blipFill>
        <p:spPr>
          <a:xfrm>
            <a:off x="571680" y="928800"/>
            <a:ext cx="373536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929200" y="4643280"/>
            <a:ext cx="2516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Administrator\AppData\Roaming\Tencent\Users\173692760\QQ\WinTemp\RichOle\7][LC5I[D]X77`_0BL0SNLI.jpg"/>
          <p:cNvPicPr/>
          <p:nvPr/>
        </p:nvPicPr>
        <p:blipFill>
          <a:blip r:embed="rId3"/>
          <a:stretch/>
        </p:blipFill>
        <p:spPr>
          <a:xfrm>
            <a:off x="4786200" y="928800"/>
            <a:ext cx="3714840" cy="2725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0"/>
          <p:cNvSpPr/>
          <p:nvPr/>
        </p:nvSpPr>
        <p:spPr>
          <a:xfrm>
            <a:off x="0" y="36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粒                       中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2" descr="QQ图片20130531114834.jpg"/>
          <p:cNvPicPr/>
          <p:nvPr/>
        </p:nvPicPr>
        <p:blipFill>
          <a:blip r:embed="rId4"/>
          <a:stretch/>
        </p:blipFill>
        <p:spPr>
          <a:xfrm>
            <a:off x="571680" y="4300560"/>
            <a:ext cx="3714480" cy="2557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4500720" y="52862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35Z</dcterms:modified>
  <cp:revision>143</cp:revision>
  <dc:subject/>
  <dc:title>幻灯片 1</dc:title>
</cp:coreProperties>
</file>