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31A-7E7F-4A72-A2C4-001C9789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08F-5580-4AC0-8B6B-8E24C28A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624-FB0C-4897-8954-46660A40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C2E-0B42-4C86-BD88-81786CB3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F55-AFD7-495C-ABD2-7438682F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F51-56A3-41A9-9D39-FBFF3687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A09-8B64-4BAE-9C6B-8FF6A0EB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3E2-204A-4B18-A2E1-B730CCA1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102-5C43-4576-9D25-63D531DE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875-24C9-4E41-8095-A6896EE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DBB-1339-4A5B-A7A5-73D81889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55A-AED4-423F-B122-00C4F4A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0DB9-3EBE-4054-8753-FD147906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1280" y="2421000"/>
            <a:ext cx="813744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对几种不知名的矿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25d9901b0046994267fb577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586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327ce16d2b5455a962b4371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5327ce16d2b5455a962b4371"/>
          <p:cNvPicPr/>
          <p:nvPr/>
        </p:nvPicPr>
        <p:blipFill>
          <a:blip r:embed="rId1"/>
          <a:stretch/>
        </p:blipFill>
        <p:spPr>
          <a:xfrm>
            <a:off x="428760" y="857160"/>
            <a:ext cx="3684600" cy="278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25d9901b0046994267fb577"/>
          <p:cNvPicPr/>
          <p:nvPr/>
        </p:nvPicPr>
        <p:blipFill>
          <a:blip r:embed="rId2"/>
          <a:stretch/>
        </p:blipFill>
        <p:spPr>
          <a:xfrm>
            <a:off x="4714920" y="85716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6493638fe5fcd30b8998fa1"/>
          <p:cNvPicPr/>
          <p:nvPr/>
        </p:nvPicPr>
        <p:blipFill>
          <a:blip r:embed="rId3"/>
          <a:stretch/>
        </p:blipFill>
        <p:spPr>
          <a:xfrm>
            <a:off x="428760" y="4148280"/>
            <a:ext cx="371448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b13fd480326af0ca9123d9d5"/>
          <p:cNvPicPr/>
          <p:nvPr/>
        </p:nvPicPr>
        <p:blipFill>
          <a:blip r:embed="rId4"/>
          <a:stretch/>
        </p:blipFill>
        <p:spPr>
          <a:xfrm>
            <a:off x="4714920" y="4070520"/>
            <a:ext cx="37861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1574640"/>
          <a:ext cx="4857480" cy="5126040"/>
        </p:xfrm>
        <a:graphic>
          <a:graphicData uri="http://schemas.openxmlformats.org/drawingml/2006/table">
            <a:tbl>
              <a:tblPr/>
              <a:tblGrid>
                <a:gridCol w="1571400"/>
                <a:gridCol w="32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33"/>
          <p:cNvSpPr/>
          <p:nvPr/>
        </p:nvSpPr>
        <p:spPr>
          <a:xfrm>
            <a:off x="3929040" y="785880"/>
            <a:ext cx="47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5"/>
          <p:cNvSpPr/>
          <p:nvPr/>
        </p:nvSpPr>
        <p:spPr>
          <a:xfrm>
            <a:off x="1149480" y="4149720"/>
            <a:ext cx="187308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5676840" y="157464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5676840" y="221760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7"/>
          <p:cNvSpPr/>
          <p:nvPr/>
        </p:nvSpPr>
        <p:spPr>
          <a:xfrm>
            <a:off x="5676840" y="28605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5676840" y="42181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9"/>
          <p:cNvSpPr/>
          <p:nvPr/>
        </p:nvSpPr>
        <p:spPr>
          <a:xfrm>
            <a:off x="5732640" y="478944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676840" y="3503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76840" y="5432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2" descr="石墨"/>
          <p:cNvPicPr/>
          <p:nvPr/>
        </p:nvPicPr>
        <p:blipFill>
          <a:blip r:embed="rId1"/>
          <a:stretch/>
        </p:blipFill>
        <p:spPr>
          <a:xfrm>
            <a:off x="214200" y="133992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3"/>
          <p:cNvSpPr/>
          <p:nvPr/>
        </p:nvSpPr>
        <p:spPr>
          <a:xfrm>
            <a:off x="1399320" y="53974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石  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57760" y="1785960"/>
          <a:ext cx="4929120" cy="4697280"/>
        </p:xfrm>
        <a:graphic>
          <a:graphicData uri="http://schemas.openxmlformats.org/drawingml/2006/table">
            <a:tbl>
              <a:tblPr/>
              <a:tblGrid>
                <a:gridCol w="1849320"/>
                <a:gridCol w="3079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3"/>
          <p:cNvSpPr/>
          <p:nvPr/>
        </p:nvSpPr>
        <p:spPr>
          <a:xfrm>
            <a:off x="3929040" y="928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100476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赤铁矿"/>
          <p:cNvPicPr/>
          <p:nvPr/>
        </p:nvPicPr>
        <p:blipFill>
          <a:blip r:embed="rId1"/>
          <a:stretch/>
        </p:blipFill>
        <p:spPr>
          <a:xfrm>
            <a:off x="214200" y="836640"/>
            <a:ext cx="290052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7"/>
          <p:cNvSpPr/>
          <p:nvPr/>
        </p:nvSpPr>
        <p:spPr>
          <a:xfrm>
            <a:off x="5686560" y="1857240"/>
            <a:ext cx="32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5757840" y="24336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暗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5764320" y="30099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5786280" y="41562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786280" y="4799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5765760" y="35863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686560" y="53611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122760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赤铁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赤铁矿也“长得”不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f15e24297238c3ea98250a46"/>
          <p:cNvPicPr/>
          <p:nvPr/>
        </p:nvPicPr>
        <p:blipFill>
          <a:blip r:embed="rId1"/>
          <a:stretch/>
        </p:blipFill>
        <p:spPr>
          <a:xfrm>
            <a:off x="0" y="2352600"/>
            <a:ext cx="6286680" cy="450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2f9cbdcc3cd6a90301e92807"/>
          <p:cNvPicPr/>
          <p:nvPr/>
        </p:nvPicPr>
        <p:blipFill>
          <a:blip r:embed="rId2"/>
          <a:srcRect l="9418" t="7456" r="9524" b="7207"/>
          <a:stretch/>
        </p:blipFill>
        <p:spPr>
          <a:xfrm>
            <a:off x="6643800" y="1285920"/>
            <a:ext cx="245736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83cab81e31fef95e413417cb"/>
          <p:cNvPicPr/>
          <p:nvPr/>
        </p:nvPicPr>
        <p:blipFill>
          <a:blip r:embed="rId3"/>
          <a:srcRect l="6274" t="6736" r="0" b="19335"/>
          <a:stretch/>
        </p:blipFill>
        <p:spPr>
          <a:xfrm>
            <a:off x="6629400" y="5143680"/>
            <a:ext cx="251460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赤铁矿"/>
          <p:cNvPicPr/>
          <p:nvPr/>
        </p:nvPicPr>
        <p:blipFill>
          <a:blip r:embed="rId4"/>
          <a:stretch/>
        </p:blipFill>
        <p:spPr>
          <a:xfrm>
            <a:off x="6643800" y="314316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678320"/>
            <a:ext cx="8750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矿物能用磁铁吸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在鉴别矿物时，往往是在野外观察的基础上，再用显微镜观察，并对照资料、图鉴进一步确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稀盐酸滴在矿物上，如果产生二氧化碳气泡的就可能是方解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状矿物，颜色铁黑色或者暗红色等，条痕樱红色，矿粉可制作红色涂料和红色铅笔，这种矿物是石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53200" y="499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53200" y="1356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58160" y="3244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75800" y="46429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Administrator\AppData\Roaming\Tencent\Users\173692760\QQ\WinTemp\RichOle\7S@WB$(3EP(S[F15VQX$VPX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C:\Users\Administrator\AppData\Roaming\Tencent\Users\173692760\QQ\WinTemp\RichOle\6JFF]]B]HKQHZ9K[OPF32NE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Administrator\AppData\Roaming\Tencent\Users\173692760\QQ\WinTemp\RichOle\I[NL9OUAI{)A(LY{~AW)O4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LMTO_quess_2009092108313247f5b5f97c25c6a9"/>
          <p:cNvPicPr/>
          <p:nvPr/>
        </p:nvPicPr>
        <p:blipFill>
          <a:blip r:embed="rId1"/>
          <a:stretch/>
        </p:blipFill>
        <p:spPr>
          <a:xfrm>
            <a:off x="428760" y="411120"/>
            <a:ext cx="1857240" cy="18036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717640" y="242892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看、闻、摸、刻、敲、滴盐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17640" y="3357720"/>
            <a:ext cx="60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光滑程度、颗粒大小、软硬、透明度、花纹、色泽、生物痕迹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2717640" y="522936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条痕、软硬、透明度、光泽、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857680" y="85716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描述岩石和矿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85840" y="2428920"/>
            <a:ext cx="3571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岩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矿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214960" y="714240"/>
            <a:ext cx="3174840" cy="278604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5072040" y="3568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照资料、图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鉴别矿物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42876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外实地观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3714840" cy="250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5"/>
          <p:cNvSpPr/>
          <p:nvPr/>
        </p:nvSpPr>
        <p:spPr>
          <a:xfrm>
            <a:off x="4286160" y="464328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仪器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矿物各种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2(6ON[O~P{F6FZ9H7}WU}73.jpg"/>
          <p:cNvPicPr/>
          <p:nvPr/>
        </p:nvPicPr>
        <p:blipFill>
          <a:blip r:embed="rId1"/>
          <a:stretch/>
        </p:blipFill>
        <p:spPr>
          <a:xfrm>
            <a:off x="5072040" y="1143000"/>
            <a:ext cx="407196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2RDBY6CW7[A}SE_2UFV$W2W.jpg"/>
          <p:cNvPicPr/>
          <p:nvPr/>
        </p:nvPicPr>
        <p:blipFill>
          <a:blip r:embed="rId2"/>
          <a:stretch/>
        </p:blipFill>
        <p:spPr>
          <a:xfrm>
            <a:off x="0" y="357120"/>
            <a:ext cx="4929120" cy="30718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>
            <a:off x="5214960" y="5000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采集的矿物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3ESDO92@DSAI$YQ_M_V[26K.jpg"/>
          <p:cNvPicPr/>
          <p:nvPr/>
        </p:nvPicPr>
        <p:blipFill>
          <a:blip r:embed="rId3"/>
          <a:stretch/>
        </p:blipFill>
        <p:spPr>
          <a:xfrm>
            <a:off x="0" y="43815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Administrator\AppData\Roaming\Tencent\Users\173692760\QQ\WinTemp\RichOle\IQ4)_S87L8B7$PE`XBNN3)7.jpg"/>
          <p:cNvPicPr/>
          <p:nvPr/>
        </p:nvPicPr>
        <p:blipFill>
          <a:blip r:embed="rId4"/>
          <a:stretch/>
        </p:blipFill>
        <p:spPr>
          <a:xfrm>
            <a:off x="3214800" y="4390920"/>
            <a:ext cx="27860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Administrator\AppData\Roaming\Tencent\Users\173692760\QQ\WinTemp\RichOle\M_AD{{7(${D%EOM]5)4%DKA.jpg"/>
          <p:cNvPicPr/>
          <p:nvPr/>
        </p:nvPicPr>
        <p:blipFill>
          <a:blip r:embed="rId5"/>
          <a:stretch/>
        </p:blipFill>
        <p:spPr>
          <a:xfrm>
            <a:off x="6143760" y="4357800"/>
            <a:ext cx="3000240" cy="2166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1"/>
          <p:cNvSpPr/>
          <p:nvPr/>
        </p:nvSpPr>
        <p:spPr>
          <a:xfrm>
            <a:off x="0" y="357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矿物进行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是什么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赤铁矿"/>
          <p:cNvPicPr/>
          <p:nvPr/>
        </p:nvPicPr>
        <p:blipFill>
          <a:blip r:embed="rId1"/>
          <a:stretch/>
        </p:blipFill>
        <p:spPr>
          <a:xfrm>
            <a:off x="6804000" y="1125360"/>
            <a:ext cx="1873440" cy="22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方解石"/>
          <p:cNvPicPr/>
          <p:nvPr/>
        </p:nvPicPr>
        <p:blipFill>
          <a:blip r:embed="rId2"/>
          <a:stretch/>
        </p:blipFill>
        <p:spPr>
          <a:xfrm>
            <a:off x="324000" y="1341360"/>
            <a:ext cx="2627280" cy="1660680"/>
          </a:xfrm>
          <a:prstGeom prst="rect">
            <a:avLst/>
          </a:prstGeom>
          <a:ln w="0">
            <a:noFill/>
          </a:ln>
        </p:spPr>
      </p:pic>
      <p:sp>
        <p:nvSpPr>
          <p:cNvPr id="66" name="Oval 9"/>
          <p:cNvSpPr/>
          <p:nvPr/>
        </p:nvSpPr>
        <p:spPr>
          <a:xfrm>
            <a:off x="1042920" y="33577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140360" y="3355920"/>
            <a:ext cx="122364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308720" y="33559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石墨"/>
          <p:cNvPicPr/>
          <p:nvPr/>
        </p:nvPicPr>
        <p:blipFill>
          <a:blip r:embed="rId3"/>
          <a:stretch/>
        </p:blipFill>
        <p:spPr>
          <a:xfrm>
            <a:off x="3348000" y="1235160"/>
            <a:ext cx="2801880" cy="240984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分别是什么矿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猜测是否正确，我们该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142920" y="107172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小组认真观察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矿物特征卡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别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2960" y="4533840"/>
            <a:ext cx="3357720" cy="23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赤铁矿"/>
          <p:cNvPicPr/>
          <p:nvPr/>
        </p:nvPicPr>
        <p:blipFill>
          <a:blip r:embed="rId3"/>
          <a:stretch/>
        </p:blipFill>
        <p:spPr>
          <a:xfrm>
            <a:off x="7572240" y="2071800"/>
            <a:ext cx="974880" cy="116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方解石"/>
          <p:cNvPicPr/>
          <p:nvPr/>
        </p:nvPicPr>
        <p:blipFill>
          <a:blip r:embed="rId4"/>
          <a:stretch/>
        </p:blipFill>
        <p:spPr>
          <a:xfrm>
            <a:off x="5500800" y="2214720"/>
            <a:ext cx="146988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石墨"/>
          <p:cNvPicPr/>
          <p:nvPr/>
        </p:nvPicPr>
        <p:blipFill>
          <a:blip r:embed="rId5"/>
          <a:stretch/>
        </p:blipFill>
        <p:spPr>
          <a:xfrm>
            <a:off x="6429240" y="100008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57760" y="1844640"/>
          <a:ext cx="4462200" cy="4697280"/>
        </p:xfrm>
        <a:graphic>
          <a:graphicData uri="http://schemas.openxmlformats.org/drawingml/2006/table">
            <a:tbl>
              <a:tblPr/>
              <a:tblGrid>
                <a:gridCol w="1458720"/>
                <a:gridCol w="3003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5"/>
          <p:cNvSpPr/>
          <p:nvPr/>
        </p:nvSpPr>
        <p:spPr>
          <a:xfrm>
            <a:off x="4071960" y="1071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方解石"/>
          <p:cNvPicPr/>
          <p:nvPr/>
        </p:nvPicPr>
        <p:blipFill>
          <a:blip r:embed="rId1"/>
          <a:stretch/>
        </p:blipFill>
        <p:spPr>
          <a:xfrm>
            <a:off x="468360" y="1628640"/>
            <a:ext cx="3031920" cy="2138400"/>
          </a:xfrm>
          <a:prstGeom prst="rect">
            <a:avLst/>
          </a:prstGeom>
          <a:ln w="0">
            <a:noFill/>
          </a:ln>
        </p:spPr>
      </p:pic>
      <p:sp>
        <p:nvSpPr>
          <p:cNvPr id="82" name="Oval 37"/>
          <p:cNvSpPr/>
          <p:nvPr/>
        </p:nvSpPr>
        <p:spPr>
          <a:xfrm>
            <a:off x="104760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378400" y="191628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97480" y="2492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423040" y="3068640"/>
            <a:ext cx="27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429160" y="4221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450040" y="478620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429160" y="36450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429160" y="53578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27044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方解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13fd480326af0ca9123d9d5"/>
          <p:cNvPicPr/>
          <p:nvPr/>
        </p:nvPicPr>
        <p:blipFill>
          <a:blip r:embed="rId1"/>
          <a:stretch/>
        </p:blipFill>
        <p:spPr>
          <a:xfrm>
            <a:off x="857160" y="1000080"/>
            <a:ext cx="7342200" cy="55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6493638fe5fcd30b8998fa1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5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