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05DE-6AB3-4E64-8497-893EFA8B8FD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0C18-B179-4C3B-A60F-727E00A161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367-5BF7-4578-98BC-E132A779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7E1B-5C04-4188-9A8F-F6C9D9D5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86CF-DCE5-4B86-8EBB-FB93C950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641-B03A-4C7A-AE8D-58B0E5E3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A171-105E-4570-8EDE-02406221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B1CC-DEBD-4AB2-9C85-C26FE0FC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114-EA2F-4B45-9B1B-E1BD84A5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0870-8A8B-4209-87D9-EF7AA3DD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54BF-4392-4D2C-8A2C-B5612DCB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5173-87A0-4B78-ACAE-45F2BA1F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AC7-6943-452C-AE49-DE34EAA3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7E3-83F7-4D76-B89D-C95EBDBD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1AA2-0174-45D9-97C3-4CD3A33DE8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6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3"/>
          <p:cNvSpPr/>
          <p:nvPr/>
        </p:nvSpPr>
        <p:spPr>
          <a:xfrm>
            <a:off x="684360" y="2286000"/>
            <a:ext cx="799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尼利从前是个小不点儿，罩衫直拖到脚尖上，如今连膝盖也快盖不住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尼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3"/>
          <p:cNvSpPr/>
          <p:nvPr/>
        </p:nvSpPr>
        <p:spPr>
          <a:xfrm>
            <a:off x="1042920" y="205596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斯巴多尼两年前来到这个班时，经常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。现在要再这样，他自己都会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4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斯巴多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"/>
          <p:cNvSpPr/>
          <p:nvPr/>
        </p:nvSpPr>
        <p:spPr>
          <a:xfrm>
            <a:off x="1735200" y="25178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搬弄是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1577160" y="29685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害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3"/>
          <p:cNvSpPr/>
          <p:nvPr/>
        </p:nvSpPr>
        <p:spPr>
          <a:xfrm>
            <a:off x="1042920" y="2055960"/>
            <a:ext cx="685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还有达尼埃里的五枚      的瑞士邮票，而他还认为      的呢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4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达尼埃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"/>
          <p:cNvSpPr/>
          <p:nvPr/>
        </p:nvSpPr>
        <p:spPr>
          <a:xfrm>
            <a:off x="5251320" y="2055960"/>
            <a:ext cx="153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极普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4345200" y="25225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挺值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3"/>
          <p:cNvSpPr/>
          <p:nvPr/>
        </p:nvSpPr>
        <p:spPr>
          <a:xfrm>
            <a:off x="395280" y="1935000"/>
            <a:ext cx="849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奇奥蒂尼的父亲也准会来的。他是个壮实的小个子，老远就跟我打招呼。这学年开始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奇奥蒂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3"/>
          <p:cNvSpPr/>
          <p:nvPr/>
        </p:nvSpPr>
        <p:spPr>
          <a:xfrm>
            <a:off x="179280" y="345960"/>
            <a:ext cx="85996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Arial"/>
              </a:rPr>
              <a:t>　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“好啦，孩子们，咱们在一起已经两年了，待一会儿下课铃一响，咱们就该说‘再见’啦。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4"/>
          <p:cNvSpPr/>
          <p:nvPr/>
        </p:nvSpPr>
        <p:spPr>
          <a:xfrm>
            <a:off x="187200" y="1203480"/>
            <a:ext cx="859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我已经把成绩报告单发下去。马蒂尼里及格了。当他看见自己的分数时，还真以为看错了呢。今天早晨，妈妈仔细地给他梳了头，还非让他系个新领结不可，看上去像只巨大的白蝴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"/>
          <p:cNvSpPr/>
          <p:nvPr/>
        </p:nvSpPr>
        <p:spPr>
          <a:xfrm>
            <a:off x="198360" y="1968480"/>
            <a:ext cx="85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克利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</a:rPr>
              <a:t>帕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也及格了——那个十三岁的高个子，两条腿上汗毛浓浓的，上课时老打瞌睡。到明年进了中学，他照样会在课堂上睡着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217440" y="2519280"/>
            <a:ext cx="860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唯一没有及格的是安东尼里。这孩子花了整整一年工夫用玳瑁铅笔刀在课桌上刻自己的姓。不过，他的速度实在太慢，到现在只刻了“安东”两字。明年，到了新老师的班上，他大概能刻上“尼里”了。</a:t>
            </a: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176040" y="3292560"/>
            <a:ext cx="84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马尼利从前是个小不点儿，罩衫直拖到脚尖上，如今连膝盖也快盖不住了。斯巴多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8"/>
          <p:cNvSpPr/>
          <p:nvPr/>
        </p:nvSpPr>
        <p:spPr>
          <a:xfrm>
            <a:off x="219240" y="3833640"/>
            <a:ext cx="865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孩子们，铃声一响，你们就要走了。我呢，不再教书，要搬到另一个城市去，所以咱们再也不能见面了。”我拉开抽屉，把今年没收来的东西发还给他们。其中有奇奥蒂尼的水枪、斯巴多尼的几个笔帽、马尼利的陀螺，还有达尼埃里的五枚极普通的瑞士邮票，而他还认为挺值钱的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217440" y="4822920"/>
            <a:ext cx="86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街上肯定会挤满学生们的亲友，到处是嗡嗡的说话声。斯巴多尼的奶奶一定会来。这位老太太一见我，总要说：“谢谢你，谢谢你，先生。”而且每次看见我总要吻我的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208080" y="5332320"/>
            <a:ext cx="867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奇奥蒂尼的父亲也准会来的。他是个壮实的小个子，老远就跟我打招呼。这学年开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1"/>
          <p:cNvSpPr/>
          <p:nvPr/>
        </p:nvSpPr>
        <p:spPr>
          <a:xfrm>
            <a:off x="179280" y="6100920"/>
            <a:ext cx="867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中学的老师要严格得多，你们要继续努力学习，做个好学生。我一定不会忘记你们的！我对你们说的都是心里话，记住我的话吧！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189000" y="3535200"/>
            <a:ext cx="70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两年前来到这个班时，经常搬弄是非。现在要再这样，他自己都会害臊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8"/>
          <p:cNvSpPr/>
          <p:nvPr/>
        </p:nvSpPr>
        <p:spPr>
          <a:xfrm>
            <a:off x="8101080" y="700200"/>
            <a:ext cx="852480" cy="2562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轮辐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椭圆 4"/>
          <p:cNvGrpSpPr/>
          <p:nvPr/>
        </p:nvGrpSpPr>
        <p:grpSpPr>
          <a:xfrm>
            <a:off x="3273480" y="2792520"/>
            <a:ext cx="1438200" cy="1334880"/>
            <a:chOff x="3273480" y="2792520"/>
            <a:chExt cx="1438200" cy="1334880"/>
          </a:xfrm>
        </p:grpSpPr>
        <p:pic>
          <p:nvPicPr>
            <p:cNvPr id="164" name="椭圆 4" descr=""/>
            <p:cNvPicPr/>
            <p:nvPr/>
          </p:nvPicPr>
          <p:blipFill>
            <a:blip r:embed="rId1"/>
            <a:stretch/>
          </p:blipFill>
          <p:spPr>
            <a:xfrm>
              <a:off x="3273480" y="2792520"/>
              <a:ext cx="14382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505320" y="3003480"/>
              <a:ext cx="98568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下弧形箭头 38"/>
          <p:cNvSpPr/>
          <p:nvPr/>
        </p:nvSpPr>
        <p:spPr>
          <a:xfrm rot="11548800">
            <a:off x="1450440" y="1958400"/>
            <a:ext cx="1938600" cy="479160"/>
          </a:xfrm>
          <a:custGeom>
            <a:avLst/>
            <a:gdLst>
              <a:gd name="textAreaLeft" fmla="*/ 353880 w 1938600"/>
              <a:gd name="textAreaRight" fmla="*/ 1327680 w 193860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下弧形箭头 39"/>
          <p:cNvSpPr/>
          <p:nvPr/>
        </p:nvSpPr>
        <p:spPr>
          <a:xfrm rot="15291600">
            <a:off x="3240720" y="1247040"/>
            <a:ext cx="1938240" cy="47916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下弧形箭头 40"/>
          <p:cNvSpPr/>
          <p:nvPr/>
        </p:nvSpPr>
        <p:spPr>
          <a:xfrm rot="18978000">
            <a:off x="4757760" y="22442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下弧形箭头 41"/>
          <p:cNvSpPr/>
          <p:nvPr/>
        </p:nvSpPr>
        <p:spPr>
          <a:xfrm rot="301800">
            <a:off x="4905360" y="39020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下弧形箭头 42"/>
          <p:cNvSpPr/>
          <p:nvPr/>
        </p:nvSpPr>
        <p:spPr>
          <a:xfrm rot="6216600">
            <a:off x="1964880" y="4883040"/>
            <a:ext cx="1838160" cy="479160"/>
          </a:xfrm>
          <a:custGeom>
            <a:avLst/>
            <a:gdLst>
              <a:gd name="textAreaLeft" fmla="*/ 328680 w 1838160"/>
              <a:gd name="textAreaRight" fmla="*/ 1252440 w 183816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-1882803"/>
                <a:lnTo>
                  <a:pt x="20537" y="10931"/>
                </a:lnTo>
                <a:lnTo>
                  <a:pt x="17020" y="0"/>
                </a:lnTo>
                <a:lnTo>
                  <a:pt x="11377" y="10931"/>
                </a:lnTo>
                <a:lnTo>
                  <a:pt x="14397" y="10931"/>
                </a:lnTo>
                <a:arcTo wR="7730" hR="21600" stAng="3517197" swAng="1629764"/>
                <a:lnTo>
                  <a:pt x="9290" y="21156"/>
                </a:lnTo>
                <a:arcTo wR="7730" hR="21600" stAng="5653040" swAng="5146960"/>
                <a:close/>
              </a:path>
              <a:path fill="darkenLess"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253040"/>
                <a:lnTo>
                  <a:pt x="9290" y="21156"/>
                </a:lnTo>
                <a:arcTo wR="7730" hR="21600" stAng="5653040" swAng="514696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下弧形箭头 43"/>
          <p:cNvSpPr/>
          <p:nvPr/>
        </p:nvSpPr>
        <p:spPr>
          <a:xfrm rot="9042600">
            <a:off x="981000" y="35258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下弧形箭头 44"/>
          <p:cNvSpPr/>
          <p:nvPr/>
        </p:nvSpPr>
        <p:spPr>
          <a:xfrm rot="2759400">
            <a:off x="3811320" y="5072040"/>
            <a:ext cx="1939680" cy="479520"/>
          </a:xfrm>
          <a:custGeom>
            <a:avLst/>
            <a:gdLst>
              <a:gd name="textAreaLeft" fmla="*/ 354240 w 1939680"/>
              <a:gd name="textAreaRight" fmla="*/ 1328400 w 193968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-1914454"/>
                <a:lnTo>
                  <a:pt x="20515" y="10931"/>
                </a:lnTo>
                <a:lnTo>
                  <a:pt x="17260" y="0"/>
                </a:lnTo>
                <a:lnTo>
                  <a:pt x="11835" y="10931"/>
                </a:lnTo>
                <a:lnTo>
                  <a:pt x="14697" y="10931"/>
                </a:lnTo>
                <a:arcTo wR="7891" hR="21600" stAng="3485546" swAng="1675371"/>
                <a:lnTo>
                  <a:pt x="9369" y="21218"/>
                </a:lnTo>
                <a:arcTo wR="7891" hR="21600" stAng="5639083" swAng="5160917"/>
                <a:close/>
              </a:path>
              <a:path fill="darkenLess"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239083"/>
                <a:lnTo>
                  <a:pt x="9369" y="21218"/>
                </a:lnTo>
                <a:arcTo wR="7891" hR="21600" stAng="5639083" swAng="5160917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椭圆 5"/>
          <p:cNvGrpSpPr/>
          <p:nvPr/>
        </p:nvGrpSpPr>
        <p:grpSpPr>
          <a:xfrm>
            <a:off x="-60480" y="2225520"/>
            <a:ext cx="2028960" cy="951120"/>
            <a:chOff x="-60480" y="2225520"/>
            <a:chExt cx="2028960" cy="951120"/>
          </a:xfrm>
        </p:grpSpPr>
        <p:pic>
          <p:nvPicPr>
            <p:cNvPr id="174" name="椭圆 5" descr=""/>
            <p:cNvPicPr/>
            <p:nvPr/>
          </p:nvPicPr>
          <p:blipFill>
            <a:blip r:embed="rId2"/>
            <a:stretch/>
          </p:blipFill>
          <p:spPr>
            <a:xfrm>
              <a:off x="-60480" y="2225520"/>
              <a:ext cx="202896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54160" y="2382840"/>
              <a:ext cx="14047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椭圆 6"/>
          <p:cNvGrpSpPr/>
          <p:nvPr/>
        </p:nvGrpSpPr>
        <p:grpSpPr>
          <a:xfrm>
            <a:off x="1785960" y="433440"/>
            <a:ext cx="1890720" cy="931680"/>
            <a:chOff x="1785960" y="433440"/>
            <a:chExt cx="1890720" cy="931680"/>
          </a:xfrm>
        </p:grpSpPr>
        <p:pic>
          <p:nvPicPr>
            <p:cNvPr id="177" name="椭圆 6" descr=""/>
            <p:cNvPicPr/>
            <p:nvPr/>
          </p:nvPicPr>
          <p:blipFill>
            <a:blip r:embed="rId3"/>
            <a:stretch/>
          </p:blipFill>
          <p:spPr>
            <a:xfrm>
              <a:off x="1785960" y="433440"/>
              <a:ext cx="189072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075040" y="588960"/>
              <a:ext cx="13111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克利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椭圆 7"/>
          <p:cNvGrpSpPr/>
          <p:nvPr/>
        </p:nvGrpSpPr>
        <p:grpSpPr>
          <a:xfrm>
            <a:off x="4986360" y="878040"/>
            <a:ext cx="2030400" cy="884160"/>
            <a:chOff x="4986360" y="878040"/>
            <a:chExt cx="2030400" cy="884160"/>
          </a:xfrm>
        </p:grpSpPr>
        <p:pic>
          <p:nvPicPr>
            <p:cNvPr id="180" name="椭圆 7" descr=""/>
            <p:cNvPicPr/>
            <p:nvPr/>
          </p:nvPicPr>
          <p:blipFill>
            <a:blip r:embed="rId4"/>
            <a:stretch/>
          </p:blipFill>
          <p:spPr>
            <a:xfrm>
              <a:off x="4986360" y="878040"/>
              <a:ext cx="20304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303880" y="1025640"/>
              <a:ext cx="14032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椭圆 8"/>
          <p:cNvGrpSpPr/>
          <p:nvPr/>
        </p:nvGrpSpPr>
        <p:grpSpPr>
          <a:xfrm>
            <a:off x="6132600" y="3005280"/>
            <a:ext cx="2133360" cy="933480"/>
            <a:chOff x="6132600" y="3005280"/>
            <a:chExt cx="2133360" cy="933480"/>
          </a:xfrm>
        </p:grpSpPr>
        <p:pic>
          <p:nvPicPr>
            <p:cNvPr id="183" name="椭圆 8" descr=""/>
            <p:cNvPicPr/>
            <p:nvPr/>
          </p:nvPicPr>
          <p:blipFill>
            <a:blip r:embed="rId5"/>
            <a:stretch/>
          </p:blipFill>
          <p:spPr>
            <a:xfrm>
              <a:off x="6132600" y="3005280"/>
              <a:ext cx="213336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465960" y="3160800"/>
              <a:ext cx="14763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4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马尼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椭圆 9"/>
          <p:cNvGrpSpPr/>
          <p:nvPr/>
        </p:nvGrpSpPr>
        <p:grpSpPr>
          <a:xfrm>
            <a:off x="5394240" y="4827600"/>
            <a:ext cx="1987560" cy="1036800"/>
            <a:chOff x="5394240" y="4827600"/>
            <a:chExt cx="1987560" cy="1036800"/>
          </a:xfrm>
        </p:grpSpPr>
        <p:pic>
          <p:nvPicPr>
            <p:cNvPr id="186" name="椭圆 9" descr=""/>
            <p:cNvPicPr/>
            <p:nvPr/>
          </p:nvPicPr>
          <p:blipFill>
            <a:blip r:embed="rId6"/>
            <a:stretch/>
          </p:blipFill>
          <p:spPr>
            <a:xfrm>
              <a:off x="5394240" y="4827600"/>
              <a:ext cx="198756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702400" y="4998960"/>
              <a:ext cx="137628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椭圆 10"/>
          <p:cNvGrpSpPr/>
          <p:nvPr/>
        </p:nvGrpSpPr>
        <p:grpSpPr>
          <a:xfrm>
            <a:off x="2743200" y="5662440"/>
            <a:ext cx="1968480" cy="1019520"/>
            <a:chOff x="2743200" y="5662440"/>
            <a:chExt cx="1968480" cy="1019520"/>
          </a:xfrm>
        </p:grpSpPr>
        <p:pic>
          <p:nvPicPr>
            <p:cNvPr id="189" name="椭圆 10" descr=""/>
            <p:cNvPicPr/>
            <p:nvPr/>
          </p:nvPicPr>
          <p:blipFill>
            <a:blip r:embed="rId7"/>
            <a:stretch/>
          </p:blipFill>
          <p:spPr>
            <a:xfrm>
              <a:off x="2743200" y="5662440"/>
              <a:ext cx="1968480" cy="10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046320" y="5830920"/>
              <a:ext cx="136548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椭圆 11"/>
          <p:cNvGrpSpPr/>
          <p:nvPr/>
        </p:nvGrpSpPr>
        <p:grpSpPr>
          <a:xfrm>
            <a:off x="85680" y="4370400"/>
            <a:ext cx="2060640" cy="957240"/>
            <a:chOff x="85680" y="4370400"/>
            <a:chExt cx="2060640" cy="957240"/>
          </a:xfrm>
        </p:grpSpPr>
        <p:pic>
          <p:nvPicPr>
            <p:cNvPr id="192" name="椭圆 11" descr=""/>
            <p:cNvPicPr/>
            <p:nvPr/>
          </p:nvPicPr>
          <p:blipFill>
            <a:blip r:embed="rId8"/>
            <a:stretch/>
          </p:blipFill>
          <p:spPr>
            <a:xfrm>
              <a:off x="85680" y="4370400"/>
              <a:ext cx="206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06440" y="4530600"/>
              <a:ext cx="14256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矩形 53"/>
          <p:cNvSpPr/>
          <p:nvPr/>
        </p:nvSpPr>
        <p:spPr>
          <a:xfrm>
            <a:off x="3274920" y="3130560"/>
            <a:ext cx="13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5"/>
          <p:cNvSpPr/>
          <p:nvPr/>
        </p:nvSpPr>
        <p:spPr>
          <a:xfrm>
            <a:off x="335520" y="24703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6"/>
          <p:cNvSpPr/>
          <p:nvPr/>
        </p:nvSpPr>
        <p:spPr>
          <a:xfrm>
            <a:off x="5483880" y="10922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8"/>
          <p:cNvSpPr/>
          <p:nvPr/>
        </p:nvSpPr>
        <p:spPr>
          <a:xfrm>
            <a:off x="5814000" y="510048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9"/>
          <p:cNvSpPr/>
          <p:nvPr/>
        </p:nvSpPr>
        <p:spPr>
          <a:xfrm>
            <a:off x="3148560" y="59450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30"/>
          <p:cNvSpPr/>
          <p:nvPr/>
        </p:nvSpPr>
        <p:spPr>
          <a:xfrm>
            <a:off x="541800" y="45925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1280" y="1139400"/>
            <a:ext cx="32400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自学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690560" y="2668680"/>
            <a:ext cx="68421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默读课文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10—25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自然段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1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、学生对老师的爱是什么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2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、完成小题单。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003400" y="1413000"/>
            <a:ext cx="40226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马蒂尼里对老师的爱是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楷体"/>
                <a:ea typeface="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内容占位符 5" descr=""/>
          <p:cNvPicPr/>
          <p:nvPr/>
        </p:nvPicPr>
        <p:blipFill>
          <a:blip r:embed="rId1"/>
          <a:srcRect l="17506" t="46507" r="63385" b="9928"/>
          <a:stretch/>
        </p:blipFill>
        <p:spPr>
          <a:xfrm>
            <a:off x="20520" y="2646360"/>
            <a:ext cx="3430800" cy="4105440"/>
          </a:xfrm>
          <a:prstGeom prst="rect">
            <a:avLst/>
          </a:prstGeom>
          <a:ln w="0">
            <a:noFill/>
          </a:ln>
        </p:spPr>
      </p:pic>
      <p:sp>
        <p:nvSpPr>
          <p:cNvPr id="204" name="内容占位符 2"/>
          <p:cNvSpPr/>
          <p:nvPr/>
        </p:nvSpPr>
        <p:spPr>
          <a:xfrm>
            <a:off x="1994040" y="2131920"/>
            <a:ext cx="586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奇奥蒂尼对老师的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内容占位符 2"/>
          <p:cNvSpPr/>
          <p:nvPr/>
        </p:nvSpPr>
        <p:spPr>
          <a:xfrm>
            <a:off x="2016000" y="2897280"/>
            <a:ext cx="586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斯巴多尼对老师的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内容占位符 2"/>
          <p:cNvSpPr/>
          <p:nvPr/>
        </p:nvSpPr>
        <p:spPr>
          <a:xfrm>
            <a:off x="1979640" y="3645000"/>
            <a:ext cx="586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达尼埃里对老师的爱是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5810400" y="1398600"/>
            <a:ext cx="26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唾沫印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6031080" y="213192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茧子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104520" y="286704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喇叭声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106680" y="364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瑞士邮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5911920" y="1916280"/>
            <a:ext cx="1539720" cy="612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5881680" y="2637000"/>
            <a:ext cx="156996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>
            <a:off x="5954760" y="3357720"/>
            <a:ext cx="185724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5881680" y="4149720"/>
            <a:ext cx="156996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内容占位符 5" descr=""/>
          <p:cNvPicPr/>
          <p:nvPr/>
        </p:nvPicPr>
        <p:blipFill>
          <a:blip r:embed="rId1"/>
          <a:srcRect l="17506" t="46507" r="63385" b="9928"/>
          <a:stretch/>
        </p:blipFill>
        <p:spPr>
          <a:xfrm>
            <a:off x="20520" y="2646360"/>
            <a:ext cx="3430800" cy="4105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187280" y="693720"/>
            <a:ext cx="676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蒂尼里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唾沫印儿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奇奥蒂尼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茧子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……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斯巴多尼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喇叭声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……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达尼埃里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瑞士邮票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"/>
          <p:cNvSpPr/>
          <p:nvPr/>
        </p:nvSpPr>
        <p:spPr>
          <a:xfrm>
            <a:off x="3443400" y="3716280"/>
            <a:ext cx="5688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克利帕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安东尼里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尼利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？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椭圆 4"/>
          <p:cNvGrpSpPr/>
          <p:nvPr/>
        </p:nvGrpSpPr>
        <p:grpSpPr>
          <a:xfrm>
            <a:off x="3713040" y="2792520"/>
            <a:ext cx="1432080" cy="1334880"/>
            <a:chOff x="3713040" y="2792520"/>
            <a:chExt cx="1432080" cy="1334880"/>
          </a:xfrm>
        </p:grpSpPr>
        <p:pic>
          <p:nvPicPr>
            <p:cNvPr id="219" name="椭圆 4" descr=""/>
            <p:cNvPicPr/>
            <p:nvPr/>
          </p:nvPicPr>
          <p:blipFill>
            <a:blip r:embed="rId1"/>
            <a:stretch/>
          </p:blipFill>
          <p:spPr>
            <a:xfrm>
              <a:off x="3713040" y="2792520"/>
              <a:ext cx="143208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933720" y="3003480"/>
              <a:ext cx="9860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下弧形箭头 2"/>
          <p:cNvSpPr/>
          <p:nvPr/>
        </p:nvSpPr>
        <p:spPr>
          <a:xfrm rot="11548800">
            <a:off x="1879560" y="1958400"/>
            <a:ext cx="1938240" cy="47916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下弧形箭头 3"/>
          <p:cNvSpPr/>
          <p:nvPr/>
        </p:nvSpPr>
        <p:spPr>
          <a:xfrm rot="15291600">
            <a:off x="3669120" y="12470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下弧形箭头 4"/>
          <p:cNvSpPr/>
          <p:nvPr/>
        </p:nvSpPr>
        <p:spPr>
          <a:xfrm rot="18978000">
            <a:off x="5186520" y="22442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下弧形箭头 5"/>
          <p:cNvSpPr/>
          <p:nvPr/>
        </p:nvSpPr>
        <p:spPr>
          <a:xfrm rot="301800">
            <a:off x="5392800" y="39020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下弧形箭头 6"/>
          <p:cNvSpPr/>
          <p:nvPr/>
        </p:nvSpPr>
        <p:spPr>
          <a:xfrm rot="6216600">
            <a:off x="2393640" y="4882680"/>
            <a:ext cx="1838160" cy="479520"/>
          </a:xfrm>
          <a:custGeom>
            <a:avLst/>
            <a:gdLst>
              <a:gd name="textAreaLeft" fmla="*/ 328680 w 1838160"/>
              <a:gd name="textAreaRight" fmla="*/ 1252440 w 183816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-1882803"/>
                <a:lnTo>
                  <a:pt x="20537" y="10931"/>
                </a:lnTo>
                <a:lnTo>
                  <a:pt x="17020" y="0"/>
                </a:lnTo>
                <a:lnTo>
                  <a:pt x="11377" y="10931"/>
                </a:lnTo>
                <a:lnTo>
                  <a:pt x="14397" y="10931"/>
                </a:lnTo>
                <a:arcTo wR="7730" hR="21600" stAng="3517197" swAng="1629764"/>
                <a:lnTo>
                  <a:pt x="9290" y="21156"/>
                </a:lnTo>
                <a:arcTo wR="7730" hR="21600" stAng="5653040" swAng="5146960"/>
                <a:close/>
              </a:path>
              <a:path fill="darkenLess"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253040"/>
                <a:lnTo>
                  <a:pt x="9290" y="21156"/>
                </a:lnTo>
                <a:arcTo wR="7730" hR="21600" stAng="5653040" swAng="514696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下弧形箭头 7"/>
          <p:cNvSpPr/>
          <p:nvPr/>
        </p:nvSpPr>
        <p:spPr>
          <a:xfrm rot="9042600">
            <a:off x="1409760" y="35258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下弧形箭头 8"/>
          <p:cNvSpPr/>
          <p:nvPr/>
        </p:nvSpPr>
        <p:spPr>
          <a:xfrm rot="2759400">
            <a:off x="4240080" y="5072040"/>
            <a:ext cx="1939680" cy="479520"/>
          </a:xfrm>
          <a:custGeom>
            <a:avLst/>
            <a:gdLst>
              <a:gd name="textAreaLeft" fmla="*/ 354240 w 1939680"/>
              <a:gd name="textAreaRight" fmla="*/ 1328400 w 193968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-1914454"/>
                <a:lnTo>
                  <a:pt x="20515" y="10931"/>
                </a:lnTo>
                <a:lnTo>
                  <a:pt x="17260" y="0"/>
                </a:lnTo>
                <a:lnTo>
                  <a:pt x="11835" y="10931"/>
                </a:lnTo>
                <a:lnTo>
                  <a:pt x="14697" y="10931"/>
                </a:lnTo>
                <a:arcTo wR="7891" hR="21600" stAng="3485546" swAng="1675371"/>
                <a:lnTo>
                  <a:pt x="9369" y="21218"/>
                </a:lnTo>
                <a:arcTo wR="7891" hR="21600" stAng="5639083" swAng="5160917"/>
                <a:close/>
              </a:path>
              <a:path fill="darkenLess"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239083"/>
                <a:lnTo>
                  <a:pt x="9369" y="21218"/>
                </a:lnTo>
                <a:arcTo wR="7891" hR="21600" stAng="5639083" swAng="5160917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椭圆 5"/>
          <p:cNvGrpSpPr/>
          <p:nvPr/>
        </p:nvGrpSpPr>
        <p:grpSpPr>
          <a:xfrm>
            <a:off x="365040" y="2225520"/>
            <a:ext cx="2030400" cy="951120"/>
            <a:chOff x="365040" y="2225520"/>
            <a:chExt cx="2030400" cy="951120"/>
          </a:xfrm>
        </p:grpSpPr>
        <p:pic>
          <p:nvPicPr>
            <p:cNvPr id="229" name="椭圆 5" descr=""/>
            <p:cNvPicPr/>
            <p:nvPr/>
          </p:nvPicPr>
          <p:blipFill>
            <a:blip r:embed="rId2"/>
            <a:stretch/>
          </p:blipFill>
          <p:spPr>
            <a:xfrm>
              <a:off x="365040" y="2225520"/>
              <a:ext cx="203040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82560" y="2382840"/>
              <a:ext cx="1405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椭圆 6"/>
          <p:cNvGrpSpPr/>
          <p:nvPr/>
        </p:nvGrpSpPr>
        <p:grpSpPr>
          <a:xfrm>
            <a:off x="2212920" y="433440"/>
            <a:ext cx="1889280" cy="931680"/>
            <a:chOff x="2212920" y="433440"/>
            <a:chExt cx="1889280" cy="931680"/>
          </a:xfrm>
        </p:grpSpPr>
        <p:pic>
          <p:nvPicPr>
            <p:cNvPr id="232" name="椭圆 6" descr=""/>
            <p:cNvPicPr/>
            <p:nvPr/>
          </p:nvPicPr>
          <p:blipFill>
            <a:blip r:embed="rId3"/>
            <a:stretch/>
          </p:blipFill>
          <p:spPr>
            <a:xfrm>
              <a:off x="2212920" y="433440"/>
              <a:ext cx="188928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2503440" y="588960"/>
              <a:ext cx="13114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克利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椭圆 7"/>
          <p:cNvGrpSpPr/>
          <p:nvPr/>
        </p:nvGrpSpPr>
        <p:grpSpPr>
          <a:xfrm>
            <a:off x="5419800" y="878040"/>
            <a:ext cx="2023920" cy="884160"/>
            <a:chOff x="5419800" y="878040"/>
            <a:chExt cx="2023920" cy="884160"/>
          </a:xfrm>
        </p:grpSpPr>
        <p:pic>
          <p:nvPicPr>
            <p:cNvPr id="235" name="椭圆 7" descr=""/>
            <p:cNvPicPr/>
            <p:nvPr/>
          </p:nvPicPr>
          <p:blipFill>
            <a:blip r:embed="rId4"/>
            <a:stretch/>
          </p:blipFill>
          <p:spPr>
            <a:xfrm>
              <a:off x="5419800" y="878040"/>
              <a:ext cx="202392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732640" y="1025640"/>
              <a:ext cx="14032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椭圆 8"/>
          <p:cNvGrpSpPr/>
          <p:nvPr/>
        </p:nvGrpSpPr>
        <p:grpSpPr>
          <a:xfrm>
            <a:off x="6566040" y="3005280"/>
            <a:ext cx="2127240" cy="933480"/>
            <a:chOff x="6566040" y="3005280"/>
            <a:chExt cx="2127240" cy="933480"/>
          </a:xfrm>
        </p:grpSpPr>
        <p:pic>
          <p:nvPicPr>
            <p:cNvPr id="238" name="椭圆 8" descr=""/>
            <p:cNvPicPr/>
            <p:nvPr/>
          </p:nvPicPr>
          <p:blipFill>
            <a:blip r:embed="rId5"/>
            <a:stretch/>
          </p:blipFill>
          <p:spPr>
            <a:xfrm>
              <a:off x="6566040" y="3005280"/>
              <a:ext cx="212724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894360" y="3160800"/>
              <a:ext cx="14763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4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马尼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椭圆 9"/>
          <p:cNvGrpSpPr/>
          <p:nvPr/>
        </p:nvGrpSpPr>
        <p:grpSpPr>
          <a:xfrm>
            <a:off x="5821200" y="4827600"/>
            <a:ext cx="1987560" cy="1036800"/>
            <a:chOff x="5821200" y="4827600"/>
            <a:chExt cx="1987560" cy="1036800"/>
          </a:xfrm>
        </p:grpSpPr>
        <p:pic>
          <p:nvPicPr>
            <p:cNvPr id="241" name="椭圆 9" descr=""/>
            <p:cNvPicPr/>
            <p:nvPr/>
          </p:nvPicPr>
          <p:blipFill>
            <a:blip r:embed="rId6"/>
            <a:stretch/>
          </p:blipFill>
          <p:spPr>
            <a:xfrm>
              <a:off x="5821200" y="4827600"/>
              <a:ext cx="198756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130800" y="4998960"/>
              <a:ext cx="137808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椭圆 10"/>
          <p:cNvGrpSpPr/>
          <p:nvPr/>
        </p:nvGrpSpPr>
        <p:grpSpPr>
          <a:xfrm>
            <a:off x="3176640" y="5662440"/>
            <a:ext cx="1968480" cy="1019520"/>
            <a:chOff x="3176640" y="5662440"/>
            <a:chExt cx="1968480" cy="1019520"/>
          </a:xfrm>
        </p:grpSpPr>
        <p:pic>
          <p:nvPicPr>
            <p:cNvPr id="244" name="椭圆 10" descr=""/>
            <p:cNvPicPr/>
            <p:nvPr/>
          </p:nvPicPr>
          <p:blipFill>
            <a:blip r:embed="rId7"/>
            <a:stretch/>
          </p:blipFill>
          <p:spPr>
            <a:xfrm>
              <a:off x="3176640" y="5662440"/>
              <a:ext cx="1968480" cy="10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475080" y="5830920"/>
              <a:ext cx="136512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椭圆 11"/>
          <p:cNvGrpSpPr/>
          <p:nvPr/>
        </p:nvGrpSpPr>
        <p:grpSpPr>
          <a:xfrm>
            <a:off x="512640" y="4370400"/>
            <a:ext cx="2059200" cy="957240"/>
            <a:chOff x="512640" y="4370400"/>
            <a:chExt cx="2059200" cy="957240"/>
          </a:xfrm>
        </p:grpSpPr>
        <p:pic>
          <p:nvPicPr>
            <p:cNvPr id="247" name="椭圆 11" descr=""/>
            <p:cNvPicPr/>
            <p:nvPr/>
          </p:nvPicPr>
          <p:blipFill>
            <a:blip r:embed="rId8"/>
            <a:stretch/>
          </p:blipFill>
          <p:spPr>
            <a:xfrm>
              <a:off x="512640" y="4370400"/>
              <a:ext cx="205920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835200" y="4530600"/>
              <a:ext cx="14252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矩形 16"/>
          <p:cNvSpPr/>
          <p:nvPr/>
        </p:nvSpPr>
        <p:spPr>
          <a:xfrm>
            <a:off x="764280" y="24703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7"/>
          <p:cNvSpPr/>
          <p:nvPr/>
        </p:nvSpPr>
        <p:spPr>
          <a:xfrm>
            <a:off x="5912280" y="10922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8"/>
          <p:cNvSpPr/>
          <p:nvPr/>
        </p:nvSpPr>
        <p:spPr>
          <a:xfrm>
            <a:off x="6242400" y="510048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9"/>
          <p:cNvSpPr/>
          <p:nvPr/>
        </p:nvSpPr>
        <p:spPr>
          <a:xfrm>
            <a:off x="3577320" y="59450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0"/>
          <p:cNvSpPr/>
          <p:nvPr/>
        </p:nvSpPr>
        <p:spPr>
          <a:xfrm>
            <a:off x="970560" y="45925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1"/>
          <p:cNvSpPr/>
          <p:nvPr/>
        </p:nvSpPr>
        <p:spPr>
          <a:xfrm>
            <a:off x="3703680" y="3130560"/>
            <a:ext cx="138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下弧形箭头 22"/>
          <p:cNvSpPr/>
          <p:nvPr/>
        </p:nvSpPr>
        <p:spPr>
          <a:xfrm flipV="1" rot="5560200">
            <a:off x="3845160" y="1732680"/>
            <a:ext cx="1725480" cy="418680"/>
          </a:xfrm>
          <a:custGeom>
            <a:avLst/>
            <a:gdLst>
              <a:gd name="textAreaLeft" fmla="*/ 317160 w 1725480"/>
              <a:gd name="textAreaRight" fmla="*/ 1183680 w 1725480"/>
              <a:gd name="textAreaTop" fmla="*/ 55800 h 418680"/>
              <a:gd name="textAreaBottom" fmla="*/ 362880 h 41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-1924210"/>
                <a:lnTo>
                  <a:pt x="20508" y="10931"/>
                </a:lnTo>
                <a:lnTo>
                  <a:pt x="17335" y="0"/>
                </a:lnTo>
                <a:lnTo>
                  <a:pt x="11977" y="10931"/>
                </a:lnTo>
                <a:lnTo>
                  <a:pt x="14790" y="10931"/>
                </a:lnTo>
                <a:arcTo wR="7941" hR="21600" stAng="3475790" swAng="1689437"/>
                <a:lnTo>
                  <a:pt x="9394" y="21236"/>
                </a:lnTo>
                <a:arcTo wR="7941" hR="21600" stAng="5634774" swAng="5165226"/>
                <a:close/>
              </a:path>
              <a:path fill="darkenLess"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234774"/>
                <a:lnTo>
                  <a:pt x="9394" y="21236"/>
                </a:lnTo>
                <a:arcTo wR="7941" hR="21600" stAng="5634774" swAng="5165226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下弧形箭头 29"/>
          <p:cNvSpPr/>
          <p:nvPr/>
        </p:nvSpPr>
        <p:spPr>
          <a:xfrm flipV="1" rot="2124000">
            <a:off x="2465280" y="2148840"/>
            <a:ext cx="1727280" cy="41940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6160 h 419400"/>
              <a:gd name="textAreaBottom" fmla="*/ 363240 h 41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下弧形箭头 30"/>
          <p:cNvSpPr/>
          <p:nvPr/>
        </p:nvSpPr>
        <p:spPr>
          <a:xfrm flipV="1" rot="20754000">
            <a:off x="1875960" y="3341520"/>
            <a:ext cx="1725840" cy="419400"/>
          </a:xfrm>
          <a:custGeom>
            <a:avLst/>
            <a:gdLst>
              <a:gd name="textAreaLeft" fmla="*/ 317160 w 1725840"/>
              <a:gd name="textAreaRight" fmla="*/ 1184040 w 1725840"/>
              <a:gd name="textAreaTop" fmla="*/ 56160 h 419400"/>
              <a:gd name="textAreaBottom" fmla="*/ 363240 h 41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-1924210"/>
                <a:lnTo>
                  <a:pt x="20508" y="10931"/>
                </a:lnTo>
                <a:lnTo>
                  <a:pt x="17335" y="0"/>
                </a:lnTo>
                <a:lnTo>
                  <a:pt x="11977" y="10931"/>
                </a:lnTo>
                <a:lnTo>
                  <a:pt x="14790" y="10931"/>
                </a:lnTo>
                <a:arcTo wR="7941" hR="21600" stAng="3475790" swAng="1689437"/>
                <a:lnTo>
                  <a:pt x="9394" y="21236"/>
                </a:lnTo>
                <a:arcTo wR="7941" hR="21600" stAng="5634774" swAng="5165226"/>
                <a:close/>
              </a:path>
              <a:path fill="darkenLess"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234774"/>
                <a:lnTo>
                  <a:pt x="9394" y="21236"/>
                </a:lnTo>
                <a:arcTo wR="7941" hR="21600" stAng="5634774" swAng="5165226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下弧形箭头 33"/>
          <p:cNvSpPr/>
          <p:nvPr/>
        </p:nvSpPr>
        <p:spPr>
          <a:xfrm flipV="1" rot="17963400">
            <a:off x="2572560" y="4542480"/>
            <a:ext cx="1727280" cy="420840"/>
          </a:xfrm>
          <a:custGeom>
            <a:avLst/>
            <a:gdLst>
              <a:gd name="textAreaLeft" fmla="*/ 317160 w 1727280"/>
              <a:gd name="textAreaRight" fmla="*/ 1184760 w 1727280"/>
              <a:gd name="textAreaTop" fmla="*/ 56160 h 420840"/>
              <a:gd name="textAreaBottom" fmla="*/ 364680 h 42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33" hR="21600" stAng="10800000" swAng="-5400000"/>
                <a:lnTo>
                  <a:pt x="10848" y="21600"/>
                </a:lnTo>
                <a:arcTo wR="7933" hR="21600" stAng="5400000" swAng="-1922554"/>
                <a:lnTo>
                  <a:pt x="20509" y="10931"/>
                </a:lnTo>
                <a:lnTo>
                  <a:pt x="17323" y="0"/>
                </a:lnTo>
                <a:lnTo>
                  <a:pt x="11954" y="10931"/>
                </a:lnTo>
                <a:lnTo>
                  <a:pt x="14774" y="10931"/>
                </a:lnTo>
                <a:arcTo wR="7933" hR="21600" stAng="3477446" swAng="1686938"/>
                <a:lnTo>
                  <a:pt x="9390" y="21232"/>
                </a:lnTo>
                <a:arcTo wR="7933" hR="21600" stAng="5635616" swAng="5164384"/>
                <a:close/>
              </a:path>
              <a:path fill="darkenLess" w="21600" h="21600">
                <a:moveTo>
                  <a:pt x="0" y="0"/>
                </a:moveTo>
                <a:arcTo wR="7933" hR="21600" stAng="10800000" swAng="-5400000"/>
                <a:lnTo>
                  <a:pt x="10848" y="21600"/>
                </a:lnTo>
                <a:arcTo wR="7933" hR="21600" stAng="5400000" swAng="235616"/>
                <a:lnTo>
                  <a:pt x="9390" y="21232"/>
                </a:lnTo>
                <a:arcTo wR="7933" hR="21600" stAng="5635616" swAng="5164384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下弧形箭头 34"/>
          <p:cNvSpPr/>
          <p:nvPr/>
        </p:nvSpPr>
        <p:spPr>
          <a:xfrm flipV="1" rot="14444400">
            <a:off x="4087440" y="4755600"/>
            <a:ext cx="1727280" cy="41904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6160 h 419040"/>
              <a:gd name="textAreaBottom" fmla="*/ 3628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下弧形箭头 35"/>
          <p:cNvSpPr/>
          <p:nvPr/>
        </p:nvSpPr>
        <p:spPr>
          <a:xfrm flipV="1" rot="12150000">
            <a:off x="5037120" y="3865320"/>
            <a:ext cx="1727280" cy="41868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5800 h 418680"/>
              <a:gd name="textAreaBottom" fmla="*/ 362880 h 41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下弧形箭头 36"/>
          <p:cNvSpPr/>
          <p:nvPr/>
        </p:nvSpPr>
        <p:spPr>
          <a:xfrm flipV="1" rot="9147600">
            <a:off x="4910040" y="2573640"/>
            <a:ext cx="1727280" cy="41940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6160 h 419400"/>
              <a:gd name="textAreaBottom" fmla="*/ 363240 h 41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237492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练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7240" y="2085840"/>
            <a:ext cx="788688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2700" spc="-1" strike="noStrike">
                <a:solidFill>
                  <a:srgbClr val="0000cc"/>
                </a:solidFill>
                <a:latin typeface="楷体"/>
                <a:ea typeface="楷体"/>
              </a:rPr>
              <a:t>假如十年以后，当这些同学回到母校，看到莫斯卡老师，他们又会怎样表达对老师的爱呢？请小组合作完成。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4"/>
          <p:cNvSpPr/>
          <p:nvPr/>
        </p:nvSpPr>
        <p:spPr>
          <a:xfrm flipV="1">
            <a:off x="954000" y="4208040"/>
            <a:ext cx="7205760" cy="1260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5"/>
          <p:cNvSpPr/>
          <p:nvPr/>
        </p:nvSpPr>
        <p:spPr>
          <a:xfrm flipV="1">
            <a:off x="969840" y="5217840"/>
            <a:ext cx="7205760" cy="111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6"/>
          <p:cNvSpPr/>
          <p:nvPr/>
        </p:nvSpPr>
        <p:spPr>
          <a:xfrm flipV="1">
            <a:off x="954000" y="4712760"/>
            <a:ext cx="7205760" cy="111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7"/>
          <p:cNvSpPr/>
          <p:nvPr/>
        </p:nvSpPr>
        <p:spPr>
          <a:xfrm flipV="1">
            <a:off x="969840" y="5668560"/>
            <a:ext cx="7205760" cy="111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68580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在学校的最后一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131640" y="4797000"/>
            <a:ext cx="5599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执教者：棠外附小   艮爱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椭圆 6"/>
          <p:cNvGrpSpPr/>
          <p:nvPr/>
        </p:nvGrpSpPr>
        <p:grpSpPr>
          <a:xfrm>
            <a:off x="1384200" y="884160"/>
            <a:ext cx="1895400" cy="914400"/>
            <a:chOff x="1384200" y="884160"/>
            <a:chExt cx="1895400" cy="914400"/>
          </a:xfrm>
        </p:grpSpPr>
        <p:pic>
          <p:nvPicPr>
            <p:cNvPr id="269" name="椭圆 6" descr=""/>
            <p:cNvPicPr/>
            <p:nvPr/>
          </p:nvPicPr>
          <p:blipFill>
            <a:blip r:embed="rId1"/>
            <a:stretch/>
          </p:blipFill>
          <p:spPr>
            <a:xfrm>
              <a:off x="1384200" y="884160"/>
              <a:ext cx="1895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1674720" y="1036800"/>
              <a:ext cx="13129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克利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椭圆 8"/>
          <p:cNvGrpSpPr/>
          <p:nvPr/>
        </p:nvGrpSpPr>
        <p:grpSpPr>
          <a:xfrm>
            <a:off x="6566040" y="2468520"/>
            <a:ext cx="2127240" cy="933480"/>
            <a:chOff x="6566040" y="2468520"/>
            <a:chExt cx="2127240" cy="933480"/>
          </a:xfrm>
        </p:grpSpPr>
        <p:pic>
          <p:nvPicPr>
            <p:cNvPr id="272" name="椭圆 8" descr=""/>
            <p:cNvPicPr/>
            <p:nvPr/>
          </p:nvPicPr>
          <p:blipFill>
            <a:blip r:embed="rId2"/>
            <a:stretch/>
          </p:blipFill>
          <p:spPr>
            <a:xfrm>
              <a:off x="6566040" y="2468520"/>
              <a:ext cx="212724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894360" y="2622600"/>
              <a:ext cx="14763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马尼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31"/>
          <p:cNvGrpSpPr/>
          <p:nvPr/>
        </p:nvGrpSpPr>
        <p:grpSpPr>
          <a:xfrm>
            <a:off x="4788000" y="549360"/>
            <a:ext cx="1985760" cy="841320"/>
            <a:chOff x="4788000" y="549360"/>
            <a:chExt cx="1985760" cy="841320"/>
          </a:xfrm>
        </p:grpSpPr>
        <p:grpSp>
          <p:nvGrpSpPr>
            <p:cNvPr id="275" name="椭圆 7"/>
            <p:cNvGrpSpPr/>
            <p:nvPr/>
          </p:nvGrpSpPr>
          <p:grpSpPr>
            <a:xfrm>
              <a:off x="4788000" y="549360"/>
              <a:ext cx="1985760" cy="841320"/>
              <a:chOff x="4788000" y="549360"/>
              <a:chExt cx="1985760" cy="841320"/>
            </a:xfrm>
          </p:grpSpPr>
          <p:pic>
            <p:nvPicPr>
              <p:cNvPr id="276" name="椭圆 7" descr=""/>
              <p:cNvPicPr/>
              <p:nvPr/>
            </p:nvPicPr>
            <p:blipFill>
              <a:blip r:embed="rId3"/>
              <a:stretch/>
            </p:blipFill>
            <p:spPr>
              <a:xfrm>
                <a:off x="4788000" y="549360"/>
                <a:ext cx="198576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098680" y="689760"/>
                <a:ext cx="1373040" cy="5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矩形 17"/>
            <p:cNvSpPr/>
            <p:nvPr/>
          </p:nvSpPr>
          <p:spPr>
            <a:xfrm>
              <a:off x="5383800" y="752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安东尼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38"/>
          <p:cNvGrpSpPr/>
          <p:nvPr/>
        </p:nvGrpSpPr>
        <p:grpSpPr>
          <a:xfrm>
            <a:off x="5846760" y="4854600"/>
            <a:ext cx="1946160" cy="990720"/>
            <a:chOff x="5846760" y="4854600"/>
            <a:chExt cx="1946160" cy="990720"/>
          </a:xfrm>
        </p:grpSpPr>
        <p:grpSp>
          <p:nvGrpSpPr>
            <p:cNvPr id="280" name="椭圆 9"/>
            <p:cNvGrpSpPr/>
            <p:nvPr/>
          </p:nvGrpSpPr>
          <p:grpSpPr>
            <a:xfrm>
              <a:off x="5846760" y="4854600"/>
              <a:ext cx="1946160" cy="990720"/>
              <a:chOff x="5846760" y="4854600"/>
              <a:chExt cx="1946160" cy="990720"/>
            </a:xfrm>
          </p:grpSpPr>
          <p:pic>
            <p:nvPicPr>
              <p:cNvPr id="281" name="椭圆 9" descr=""/>
              <p:cNvPicPr/>
              <p:nvPr/>
            </p:nvPicPr>
            <p:blipFill>
              <a:blip r:embed="rId4"/>
              <a:stretch/>
            </p:blipFill>
            <p:spPr>
              <a:xfrm>
                <a:off x="5846760" y="4854600"/>
                <a:ext cx="1946160" cy="99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6150240" y="5018400"/>
                <a:ext cx="1348200" cy="66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矩形 18"/>
            <p:cNvSpPr/>
            <p:nvPr/>
          </p:nvSpPr>
          <p:spPr>
            <a:xfrm>
              <a:off x="6368040" y="51152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奇奥蒂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37"/>
          <p:cNvGrpSpPr/>
          <p:nvPr/>
        </p:nvGrpSpPr>
        <p:grpSpPr>
          <a:xfrm>
            <a:off x="2268360" y="5300640"/>
            <a:ext cx="1932120" cy="977760"/>
            <a:chOff x="2268360" y="5300640"/>
            <a:chExt cx="1932120" cy="977760"/>
          </a:xfrm>
        </p:grpSpPr>
        <p:grpSp>
          <p:nvGrpSpPr>
            <p:cNvPr id="285" name="椭圆 10"/>
            <p:cNvGrpSpPr/>
            <p:nvPr/>
          </p:nvGrpSpPr>
          <p:grpSpPr>
            <a:xfrm>
              <a:off x="2268360" y="5300640"/>
              <a:ext cx="1932120" cy="977760"/>
              <a:chOff x="2268360" y="5300640"/>
              <a:chExt cx="1932120" cy="977760"/>
            </a:xfrm>
          </p:grpSpPr>
          <p:pic>
            <p:nvPicPr>
              <p:cNvPr id="286" name="椭圆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268360" y="5300640"/>
                <a:ext cx="1932120" cy="97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>
                <a:off x="2563920" y="5459040"/>
                <a:ext cx="134064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矩形 19"/>
            <p:cNvSpPr/>
            <p:nvPr/>
          </p:nvSpPr>
          <p:spPr>
            <a:xfrm>
              <a:off x="2774880" y="5569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斯巴多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32"/>
          <p:cNvGrpSpPr/>
          <p:nvPr/>
        </p:nvGrpSpPr>
        <p:grpSpPr>
          <a:xfrm>
            <a:off x="324000" y="3357720"/>
            <a:ext cx="2016000" cy="914400"/>
            <a:chOff x="324000" y="3357720"/>
            <a:chExt cx="2016000" cy="914400"/>
          </a:xfrm>
        </p:grpSpPr>
        <p:grpSp>
          <p:nvGrpSpPr>
            <p:cNvPr id="290" name="椭圆 11"/>
            <p:cNvGrpSpPr/>
            <p:nvPr/>
          </p:nvGrpSpPr>
          <p:grpSpPr>
            <a:xfrm>
              <a:off x="324000" y="3357720"/>
              <a:ext cx="2016000" cy="914400"/>
              <a:chOff x="324000" y="3357720"/>
              <a:chExt cx="2016000" cy="914400"/>
            </a:xfrm>
          </p:grpSpPr>
          <p:pic>
            <p:nvPicPr>
              <p:cNvPr id="291" name="椭圆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324000" y="3357720"/>
                <a:ext cx="20160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637200" y="3507120"/>
                <a:ext cx="1395000" cy="61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矩形 20"/>
            <p:cNvSpPr/>
            <p:nvPr/>
          </p:nvSpPr>
          <p:spPr>
            <a:xfrm>
              <a:off x="878400" y="3565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达尼埃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41"/>
          <p:cNvGrpSpPr/>
          <p:nvPr/>
        </p:nvGrpSpPr>
        <p:grpSpPr>
          <a:xfrm>
            <a:off x="1834920" y="2403000"/>
            <a:ext cx="2107800" cy="1191960"/>
            <a:chOff x="1834920" y="2403000"/>
            <a:chExt cx="2107800" cy="1191960"/>
          </a:xfrm>
        </p:grpSpPr>
        <p:sp>
          <p:nvSpPr>
            <p:cNvPr id="295" name="下弧形箭头 7"/>
            <p:cNvSpPr/>
            <p:nvPr/>
          </p:nvSpPr>
          <p:spPr>
            <a:xfrm rot="9215400">
              <a:off x="1830960" y="2790720"/>
              <a:ext cx="1841400" cy="416160"/>
            </a:xfrm>
            <a:custGeom>
              <a:avLst/>
              <a:gdLst>
                <a:gd name="textAreaLeft" fmla="*/ 336240 w 1841400"/>
                <a:gd name="textAreaRight" fmla="*/ 1261080 w 1841400"/>
                <a:gd name="textAreaTop" fmla="*/ 55800 h 416160"/>
                <a:gd name="textAreaBottom" fmla="*/ 360360 h 41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下弧形箭头 30"/>
            <p:cNvSpPr/>
            <p:nvPr/>
          </p:nvSpPr>
          <p:spPr>
            <a:xfrm flipV="1" rot="20926200">
              <a:off x="2283120" y="2647800"/>
              <a:ext cx="1639440" cy="363960"/>
            </a:xfrm>
            <a:custGeom>
              <a:avLst/>
              <a:gdLst>
                <a:gd name="textAreaLeft" fmla="*/ 301320 w 1639440"/>
                <a:gd name="textAreaRight" fmla="*/ 1124640 w 1639440"/>
                <a:gd name="textAreaTop" fmla="*/ 48600 h 363960"/>
                <a:gd name="textAreaBottom" fmla="*/ 315360 h 36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40"/>
          <p:cNvGrpSpPr/>
          <p:nvPr/>
        </p:nvGrpSpPr>
        <p:grpSpPr>
          <a:xfrm>
            <a:off x="2383560" y="3572280"/>
            <a:ext cx="1523160" cy="1921320"/>
            <a:chOff x="2383560" y="3572280"/>
            <a:chExt cx="1523160" cy="1921320"/>
          </a:xfrm>
        </p:grpSpPr>
        <p:sp>
          <p:nvSpPr>
            <p:cNvPr id="298" name="下弧形箭头 6"/>
            <p:cNvSpPr/>
            <p:nvPr/>
          </p:nvSpPr>
          <p:spPr>
            <a:xfrm rot="7059600">
              <a:off x="2126880" y="4380480"/>
              <a:ext cx="1735200" cy="470160"/>
            </a:xfrm>
            <a:custGeom>
              <a:avLst/>
              <a:gdLst>
                <a:gd name="textAreaLeft" fmla="*/ 310320 w 1735200"/>
                <a:gd name="textAreaRight" fmla="*/ 1182240 w 1735200"/>
                <a:gd name="textAreaTop" fmla="*/ 63000 h 470160"/>
                <a:gd name="textAreaBottom" fmla="*/ 407160 h 47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730" hR="21600" stAng="10800000" swAng="-5400000"/>
                  <a:lnTo>
                    <a:pt x="10850" y="21600"/>
                  </a:lnTo>
                  <a:arcTo wR="7730" hR="21600" stAng="5400000" swAng="-1882803"/>
                  <a:lnTo>
                    <a:pt x="20537" y="10931"/>
                  </a:lnTo>
                  <a:lnTo>
                    <a:pt x="17020" y="0"/>
                  </a:lnTo>
                  <a:lnTo>
                    <a:pt x="11377" y="10931"/>
                  </a:lnTo>
                  <a:lnTo>
                    <a:pt x="14397" y="10931"/>
                  </a:lnTo>
                  <a:arcTo wR="7730" hR="21600" stAng="3517197" swAng="1629764"/>
                  <a:lnTo>
                    <a:pt x="9290" y="21156"/>
                  </a:lnTo>
                  <a:arcTo wR="7730" hR="21600" stAng="5653040" swAng="5146960"/>
                  <a:close/>
                </a:path>
                <a:path fill="darkenLess" w="21600" h="21600">
                  <a:moveTo>
                    <a:pt x="0" y="0"/>
                  </a:moveTo>
                  <a:arcTo wR="7730" hR="21600" stAng="10800000" swAng="-5400000"/>
                  <a:lnTo>
                    <a:pt x="10850" y="21600"/>
                  </a:lnTo>
                  <a:arcTo wR="7730" hR="21600" stAng="5400000" swAng="253040"/>
                  <a:lnTo>
                    <a:pt x="9290" y="21156"/>
                  </a:lnTo>
                  <a:arcTo wR="7730" hR="21600" stAng="5653040" swAng="514696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下弧形箭头 33"/>
            <p:cNvSpPr/>
            <p:nvPr/>
          </p:nvSpPr>
          <p:spPr>
            <a:xfrm flipV="1" rot="18805800">
              <a:off x="2380680" y="4099680"/>
              <a:ext cx="1630440" cy="412920"/>
            </a:xfrm>
            <a:custGeom>
              <a:avLst/>
              <a:gdLst>
                <a:gd name="textAreaLeft" fmla="*/ 299160 w 1630440"/>
                <a:gd name="textAreaRight" fmla="*/ 1118160 w 1630440"/>
                <a:gd name="textAreaTop" fmla="*/ 55080 h 412920"/>
                <a:gd name="textAreaBottom" fmla="*/ 357840 h 41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33" hR="21600" stAng="10800000" swAng="-5400000"/>
                  <a:lnTo>
                    <a:pt x="10848" y="21600"/>
                  </a:lnTo>
                  <a:arcTo wR="7933" hR="21600" stAng="5400000" swAng="-1922554"/>
                  <a:lnTo>
                    <a:pt x="20509" y="10931"/>
                  </a:lnTo>
                  <a:lnTo>
                    <a:pt x="17323" y="0"/>
                  </a:lnTo>
                  <a:lnTo>
                    <a:pt x="11954" y="10931"/>
                  </a:lnTo>
                  <a:lnTo>
                    <a:pt x="14774" y="10931"/>
                  </a:lnTo>
                  <a:arcTo wR="7933" hR="21600" stAng="3477446" swAng="1686938"/>
                  <a:lnTo>
                    <a:pt x="9390" y="21232"/>
                  </a:lnTo>
                  <a:arcTo wR="7933" hR="21600" stAng="5635616" swAng="5164384"/>
                  <a:close/>
                </a:path>
                <a:path fill="darkenLess" w="21600" h="21600">
                  <a:moveTo>
                    <a:pt x="0" y="0"/>
                  </a:moveTo>
                  <a:arcTo wR="7933" hR="21600" stAng="10800000" swAng="-5400000"/>
                  <a:lnTo>
                    <a:pt x="10848" y="21600"/>
                  </a:lnTo>
                  <a:arcTo wR="7933" hR="21600" stAng="5400000" swAng="235616"/>
                  <a:lnTo>
                    <a:pt x="9390" y="21232"/>
                  </a:lnTo>
                  <a:arcTo wR="7933" hR="21600" stAng="5635616" swAng="5164384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内容占位符 5" descr=""/>
          <p:cNvPicPr/>
          <p:nvPr/>
        </p:nvPicPr>
        <p:blipFill>
          <a:blip r:embed="rId7">
            <a:lum bright="-10000"/>
          </a:blip>
          <a:srcRect l="26012" t="60927" r="68374" b="24557"/>
          <a:stretch/>
        </p:blipFill>
        <p:spPr>
          <a:xfrm>
            <a:off x="3851280" y="2565360"/>
            <a:ext cx="1152360" cy="1563840"/>
          </a:xfrm>
          <a:prstGeom prst="rect">
            <a:avLst/>
          </a:prstGeom>
          <a:ln w="0">
            <a:noFill/>
          </a:ln>
        </p:spPr>
      </p:pic>
      <p:grpSp>
        <p:nvGrpSpPr>
          <p:cNvPr id="301" name="组合 42"/>
          <p:cNvGrpSpPr/>
          <p:nvPr/>
        </p:nvGrpSpPr>
        <p:grpSpPr>
          <a:xfrm>
            <a:off x="2972880" y="1202400"/>
            <a:ext cx="1986840" cy="1471680"/>
            <a:chOff x="2972880" y="1202400"/>
            <a:chExt cx="1986840" cy="1471680"/>
          </a:xfrm>
        </p:grpSpPr>
        <p:sp>
          <p:nvSpPr>
            <p:cNvPr id="302" name="下弧形箭头 43"/>
            <p:cNvSpPr/>
            <p:nvPr/>
          </p:nvSpPr>
          <p:spPr>
            <a:xfrm rot="12426000">
              <a:off x="2966400" y="1598400"/>
              <a:ext cx="1840320" cy="416520"/>
            </a:xfrm>
            <a:custGeom>
              <a:avLst/>
              <a:gdLst>
                <a:gd name="textAreaLeft" fmla="*/ 335880 w 1840320"/>
                <a:gd name="textAreaRight" fmla="*/ 1260360 w 184032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下弧形箭头 44"/>
            <p:cNvSpPr/>
            <p:nvPr/>
          </p:nvSpPr>
          <p:spPr>
            <a:xfrm flipV="1" rot="2536200">
              <a:off x="3412080" y="1806120"/>
              <a:ext cx="1638360" cy="363600"/>
            </a:xfrm>
            <a:custGeom>
              <a:avLst/>
              <a:gdLst>
                <a:gd name="textAreaLeft" fmla="*/ 300960 w 1638360"/>
                <a:gd name="textAreaRight" fmla="*/ 1123920 w 1638360"/>
                <a:gd name="textAreaTop" fmla="*/ 48600 h 363600"/>
                <a:gd name="textAreaBottom" fmla="*/ 315000 h 3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45"/>
          <p:cNvGrpSpPr/>
          <p:nvPr/>
        </p:nvGrpSpPr>
        <p:grpSpPr>
          <a:xfrm>
            <a:off x="4962600" y="1382760"/>
            <a:ext cx="1495800" cy="1975680"/>
            <a:chOff x="4962600" y="1382760"/>
            <a:chExt cx="1495800" cy="1975680"/>
          </a:xfrm>
        </p:grpSpPr>
        <p:sp>
          <p:nvSpPr>
            <p:cNvPr id="305" name="下弧形箭头 46"/>
            <p:cNvSpPr/>
            <p:nvPr/>
          </p:nvSpPr>
          <p:spPr>
            <a:xfrm rot="17876400">
              <a:off x="4921920" y="2085480"/>
              <a:ext cx="1841760" cy="416520"/>
            </a:xfrm>
            <a:custGeom>
              <a:avLst/>
              <a:gdLst>
                <a:gd name="textAreaLeft" fmla="*/ 336240 w 1841760"/>
                <a:gd name="textAreaRight" fmla="*/ 1261440 w 184176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下弧形箭头 47"/>
            <p:cNvSpPr/>
            <p:nvPr/>
          </p:nvSpPr>
          <p:spPr>
            <a:xfrm flipV="1" rot="7986600">
              <a:off x="4835520" y="2453400"/>
              <a:ext cx="1639800" cy="363960"/>
            </a:xfrm>
            <a:custGeom>
              <a:avLst/>
              <a:gdLst>
                <a:gd name="textAreaLeft" fmla="*/ 301320 w 1639800"/>
                <a:gd name="textAreaRight" fmla="*/ 1125000 w 1639800"/>
                <a:gd name="textAreaTop" fmla="*/ 48600 h 363960"/>
                <a:gd name="textAreaBottom" fmla="*/ 315360 h 36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48"/>
          <p:cNvGrpSpPr/>
          <p:nvPr/>
        </p:nvGrpSpPr>
        <p:grpSpPr>
          <a:xfrm>
            <a:off x="4936320" y="3146400"/>
            <a:ext cx="2133720" cy="1038240"/>
            <a:chOff x="4936320" y="3146400"/>
            <a:chExt cx="2133720" cy="1038240"/>
          </a:xfrm>
        </p:grpSpPr>
        <p:sp>
          <p:nvSpPr>
            <p:cNvPr id="308" name="下弧形箭头 49"/>
            <p:cNvSpPr/>
            <p:nvPr/>
          </p:nvSpPr>
          <p:spPr>
            <a:xfrm rot="20362800">
              <a:off x="5214960" y="3457080"/>
              <a:ext cx="1840320" cy="416520"/>
            </a:xfrm>
            <a:custGeom>
              <a:avLst/>
              <a:gdLst>
                <a:gd name="textAreaLeft" fmla="*/ 335880 w 1840320"/>
                <a:gd name="textAreaRight" fmla="*/ 1260360 w 184032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下弧形箭头 50"/>
            <p:cNvSpPr/>
            <p:nvPr/>
          </p:nvSpPr>
          <p:spPr>
            <a:xfrm flipV="1" rot="10473000">
              <a:off x="4950000" y="3615840"/>
              <a:ext cx="1638360" cy="363600"/>
            </a:xfrm>
            <a:custGeom>
              <a:avLst/>
              <a:gdLst>
                <a:gd name="textAreaLeft" fmla="*/ 300960 w 1638360"/>
                <a:gd name="textAreaRight" fmla="*/ 1123920 w 1638360"/>
                <a:gd name="textAreaTop" fmla="*/ 48600 h 363600"/>
                <a:gd name="textAreaBottom" fmla="*/ 315000 h 3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51"/>
          <p:cNvGrpSpPr/>
          <p:nvPr/>
        </p:nvGrpSpPr>
        <p:grpSpPr>
          <a:xfrm>
            <a:off x="4338000" y="4046400"/>
            <a:ext cx="1703160" cy="1826640"/>
            <a:chOff x="4338000" y="4046400"/>
            <a:chExt cx="1703160" cy="1826640"/>
          </a:xfrm>
        </p:grpSpPr>
        <p:sp>
          <p:nvSpPr>
            <p:cNvPr id="311" name="下弧形箭头 52"/>
            <p:cNvSpPr/>
            <p:nvPr/>
          </p:nvSpPr>
          <p:spPr>
            <a:xfrm rot="2528400">
              <a:off x="4297680" y="4892400"/>
              <a:ext cx="1841400" cy="416520"/>
            </a:xfrm>
            <a:custGeom>
              <a:avLst/>
              <a:gdLst>
                <a:gd name="textAreaLeft" fmla="*/ 336240 w 1841400"/>
                <a:gd name="textAreaRight" fmla="*/ 1261080 w 184140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下弧形箭头 53"/>
            <p:cNvSpPr/>
            <p:nvPr/>
          </p:nvSpPr>
          <p:spPr>
            <a:xfrm flipV="1" rot="14239800">
              <a:off x="4113720" y="4651920"/>
              <a:ext cx="1639440" cy="363960"/>
            </a:xfrm>
            <a:custGeom>
              <a:avLst/>
              <a:gdLst>
                <a:gd name="textAreaLeft" fmla="*/ 301320 w 1639440"/>
                <a:gd name="textAreaRight" fmla="*/ 1124640 w 1639440"/>
                <a:gd name="textAreaTop" fmla="*/ 48600 h 363960"/>
                <a:gd name="textAreaBottom" fmla="*/ 315360 h 36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179280" y="691920"/>
            <a:ext cx="8964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再见吧，学校！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很久以后我再回来时，会遇到陌生的老师。那时候，我能找个什么借口才能回到那间老教室，才能拉开那个马蒂尼里放过蜥蜴的抽屉呢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"/>
          <p:cNvSpPr/>
          <p:nvPr/>
        </p:nvSpPr>
        <p:spPr>
          <a:xfrm>
            <a:off x="162000" y="2852640"/>
            <a:ext cx="887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再见吧，学校！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不管怎么样，我还有聊以自慰的东西：达尼埃里的瑞士邮票和斯巴多尼的笔帽。还有，马蒂尼里也可以保存一点东西，因为只有他，才会把我的上衣纽扣扯去的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"/>
          <p:cNvSpPr/>
          <p:nvPr/>
        </p:nvSpPr>
        <p:spPr>
          <a:xfrm>
            <a:off x="150840" y="5072040"/>
            <a:ext cx="89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再见吧，学校！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等我回到家里，如果我做了什么后悔的事，那就是不得不洗去脸上的唾沫印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赵海洋 - Tears - 钢琴版纯音乐.mp3" descr=""/>
          <p:cNvPicPr/>
          <p:nvPr/>
        </p:nvPicPr>
        <p:blipFill>
          <a:blip r:embed="rId1"/>
          <a:stretch/>
        </p:blipFill>
        <p:spPr>
          <a:xfrm>
            <a:off x="9325080" y="616572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.0)">
                                      <p:cBhvr>
                                        <p:cTn id="346" dur="1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814400" y="259884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隶书"/>
                <a:ea typeface="华文隶书"/>
              </a:rPr>
              <a:t>谢谢大家的聆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600280" y="2679480"/>
            <a:ext cx="338472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热泪盈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"/>
          <p:cNvSpPr/>
          <p:nvPr/>
        </p:nvSpPr>
        <p:spPr>
          <a:xfrm>
            <a:off x="1019160" y="26766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簇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6054840" y="2708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聊以自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3"/>
          <p:cNvSpPr/>
          <p:nvPr/>
        </p:nvSpPr>
        <p:spPr>
          <a:xfrm>
            <a:off x="179280" y="333360"/>
            <a:ext cx="85996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好啦，孩子们，咱们在一起已经两年了，待一会儿下课铃一响，咱们就该说‘再见’啦。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">
            <a:hlinkClick r:id="rId1" action="ppaction://hlinksldjump"/>
          </p:cNvPr>
          <p:cNvSpPr/>
          <p:nvPr/>
        </p:nvSpPr>
        <p:spPr>
          <a:xfrm>
            <a:off x="187200" y="1190520"/>
            <a:ext cx="859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我已经把成绩报告单发下去。               及格了。当他看见自己的分数时，还真以为看错了呢。今天早晨，妈妈仔细地给他梳了头，还非让他系个新领结不可，看上去像只巨大的白蝴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>
            <a:hlinkClick r:id="rId2" action="ppaction://hlinksldjump"/>
          </p:cNvPr>
          <p:cNvSpPr/>
          <p:nvPr/>
        </p:nvSpPr>
        <p:spPr>
          <a:xfrm>
            <a:off x="198360" y="1955880"/>
            <a:ext cx="85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也及格了——那个十三岁的高个子，两条腿上汗毛浓浓的，上课时老打瞌睡。到明年进了中学，他照样会在课堂上睡着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>
            <a:hlinkClick r:id="rId3" action="ppaction://hlinksldjump"/>
          </p:cNvPr>
          <p:cNvSpPr/>
          <p:nvPr/>
        </p:nvSpPr>
        <p:spPr>
          <a:xfrm>
            <a:off x="217440" y="2506680"/>
            <a:ext cx="860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唯一没有及格的是               。这孩子花了整整一年工夫用玳瑁铅笔刀在课桌上刻自己的姓。不过，他的速度实在太慢，到现在只刻了“安东”两字。明年，到了新老师的班上，他大概能刻上“尼里”了。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>
            <a:hlinkClick r:id="rId4" action="ppaction://hlinksldjump"/>
          </p:cNvPr>
          <p:cNvSpPr/>
          <p:nvPr/>
        </p:nvSpPr>
        <p:spPr>
          <a:xfrm>
            <a:off x="176040" y="3279600"/>
            <a:ext cx="84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从前是个小不点儿，罩衫直拖到脚尖上，如今连膝盖也快盖不住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/>
          <p:cNvSpPr/>
          <p:nvPr/>
        </p:nvSpPr>
        <p:spPr>
          <a:xfrm>
            <a:off x="219240" y="3821040"/>
            <a:ext cx="865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孩子们，铃声一响，你们就要走了。我呢，不再教书，要搬到另一个城市去，所以咱们再也不能见面了。”我拉开抽屉，把今年没收来的东西发还给他们。其中有奇奥蒂尼的水枪、斯巴多尼的几个笔帽、马尼利的陀螺，还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挺值钱的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9"/>
          <p:cNvSpPr/>
          <p:nvPr/>
        </p:nvSpPr>
        <p:spPr>
          <a:xfrm>
            <a:off x="217440" y="4809960"/>
            <a:ext cx="86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街上肯定会挤满学生们的亲友，到处是嗡嗡的说话声。斯巴多尼的奶奶一定会来。这位老太太一见我，总要说：“谢谢你，谢谢你，先生。”而且每次看见我总要吻我的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0">
            <a:hlinkClick r:id="rId5" action="ppaction://hlinksldjump"/>
          </p:cNvPr>
          <p:cNvSpPr/>
          <p:nvPr/>
        </p:nvSpPr>
        <p:spPr>
          <a:xfrm>
            <a:off x="208080" y="5319720"/>
            <a:ext cx="867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父亲也准会来的。他是个壮实的小个子，老远就跟我打招呼。这学年开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179280" y="6087960"/>
            <a:ext cx="867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中学的老师要严格得多，你们要继续努力学习，做个好学生。我一定不会忘记你们的！我对你们说的都是心里话，记住我的话吧！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>
            <a:hlinkClick r:id="rId6" action="ppaction://hlinksldjump"/>
          </p:cNvPr>
          <p:cNvSpPr/>
          <p:nvPr/>
        </p:nvSpPr>
        <p:spPr>
          <a:xfrm>
            <a:off x="189000" y="3535200"/>
            <a:ext cx="70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两年前来到这个班时，经常搬弄是非。现在要再这样，他自己都会害臊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4"/>
          <p:cNvSpPr/>
          <p:nvPr/>
        </p:nvSpPr>
        <p:spPr>
          <a:xfrm>
            <a:off x="3348000" y="110952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5"/>
          <p:cNvSpPr/>
          <p:nvPr/>
        </p:nvSpPr>
        <p:spPr>
          <a:xfrm>
            <a:off x="568440" y="1901880"/>
            <a:ext cx="97452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6"/>
          <p:cNvSpPr/>
          <p:nvPr/>
        </p:nvSpPr>
        <p:spPr>
          <a:xfrm>
            <a:off x="2325600" y="244944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7"/>
          <p:cNvSpPr/>
          <p:nvPr/>
        </p:nvSpPr>
        <p:spPr>
          <a:xfrm>
            <a:off x="53964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8"/>
          <p:cNvSpPr/>
          <p:nvPr/>
        </p:nvSpPr>
        <p:spPr>
          <a:xfrm>
            <a:off x="4197240" y="4245120"/>
            <a:ext cx="974880" cy="44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1"/>
          <p:cNvSpPr/>
          <p:nvPr/>
        </p:nvSpPr>
        <p:spPr>
          <a:xfrm>
            <a:off x="755640" y="524196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2"/>
          <p:cNvSpPr/>
          <p:nvPr/>
        </p:nvSpPr>
        <p:spPr>
          <a:xfrm>
            <a:off x="736596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2941560" y="7682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27000" y="1758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1916280" y="2195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25560" y="306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6918480" y="2909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3683160" y="43909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212760" y="5135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1"/>
          <p:cNvSpPr/>
          <p:nvPr/>
        </p:nvSpPr>
        <p:spPr>
          <a:xfrm>
            <a:off x="872280" y="53244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2"/>
          <p:cNvSpPr/>
          <p:nvPr/>
        </p:nvSpPr>
        <p:spPr>
          <a:xfrm>
            <a:off x="7515720" y="3270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3"/>
          <p:cNvSpPr/>
          <p:nvPr/>
        </p:nvSpPr>
        <p:spPr>
          <a:xfrm>
            <a:off x="4321800" y="4299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4"/>
          <p:cNvSpPr/>
          <p:nvPr/>
        </p:nvSpPr>
        <p:spPr>
          <a:xfrm>
            <a:off x="707760" y="32702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尼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5"/>
          <p:cNvSpPr/>
          <p:nvPr/>
        </p:nvSpPr>
        <p:spPr>
          <a:xfrm>
            <a:off x="2504160" y="2494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6"/>
          <p:cNvSpPr/>
          <p:nvPr/>
        </p:nvSpPr>
        <p:spPr>
          <a:xfrm>
            <a:off x="763200" y="19749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克利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7"/>
          <p:cNvSpPr/>
          <p:nvPr/>
        </p:nvSpPr>
        <p:spPr>
          <a:xfrm>
            <a:off x="3497760" y="11826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8">
            <a:hlinkClick r:id="rId7" action="ppaction://hlinksldjump"/>
          </p:cNvPr>
          <p:cNvSpPr/>
          <p:nvPr/>
        </p:nvSpPr>
        <p:spPr>
          <a:xfrm>
            <a:off x="5785200" y="42991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五枚极普通的瑞士邮票，而他还认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蒂尼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蒂尼里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了。当他看见自己的分数时，还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看错了呢。今天早晨，妈妈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，还非让他系个新领结不可，看上去像只巨大的白蝴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左箭头 1">
            <a:hlinkClick r:id="rId2" action="ppaction://hlinksldjump"/>
          </p:cNvPr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2945520" y="23400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及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1084320" y="28098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真以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6998400" y="280188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仔细地给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720000" y="33703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梳了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自学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浏览课文的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1-9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自然段，你从哪里读出了老师对其他学生的爱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>
            <a:off x="179280" y="333360"/>
            <a:ext cx="85996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好啦，孩子们，咱们在一起已经两年了，待一会儿下课铃一响，咱们就该说‘再见’啦。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>
            <a:hlinkClick r:id="rId1" action="ppaction://hlinksldjump"/>
          </p:cNvPr>
          <p:cNvSpPr/>
          <p:nvPr/>
        </p:nvSpPr>
        <p:spPr>
          <a:xfrm>
            <a:off x="187200" y="1190520"/>
            <a:ext cx="859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我已经把成绩报告单发下去。               及格了。当他看见自己的分数时，还真以为看错了呢。今天早晨，妈妈仔细地给他梳了头，还非让他系个新领结不可，看上去像只巨大的白蝴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>
            <a:hlinkClick r:id="rId2" action="ppaction://hlinksldjump"/>
          </p:cNvPr>
          <p:cNvSpPr/>
          <p:nvPr/>
        </p:nvSpPr>
        <p:spPr>
          <a:xfrm>
            <a:off x="198360" y="1955880"/>
            <a:ext cx="85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也及格了——那个十三岁的高个子，两条腿上汗毛浓浓的，上课时老打瞌睡。到明年进了中学，他照样会在课堂上睡着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>
            <a:hlinkClick r:id="rId3" action="ppaction://hlinksldjump"/>
          </p:cNvPr>
          <p:cNvSpPr/>
          <p:nvPr/>
        </p:nvSpPr>
        <p:spPr>
          <a:xfrm>
            <a:off x="217440" y="2506680"/>
            <a:ext cx="860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唯一没有及格的是               。这孩子花了整整一年工夫用玳瑁铅笔刀在课桌上刻自己的姓。不过，他的速度实在太慢，到现在只刻了“安东”两字。明年，到了新老师的班上，他大概能刻上“尼里”了。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176040" y="3279600"/>
            <a:ext cx="84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从前是个小不点儿，罩衫直拖到脚尖上，如今连膝盖也快盖不住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/>
          <p:cNvSpPr/>
          <p:nvPr/>
        </p:nvSpPr>
        <p:spPr>
          <a:xfrm>
            <a:off x="219240" y="3821040"/>
            <a:ext cx="865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孩子们，铃声一响，你们就要走了。我呢，不再教书，要搬到另一个城市去，所以咱们再也不能见面了。”我拉开抽屉，把今年没收来的东西发还给他们。其中有奇奥蒂尼的水枪、斯巴多尼的几个笔帽、马尼利的陀螺，还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挺值钱的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9"/>
          <p:cNvSpPr/>
          <p:nvPr/>
        </p:nvSpPr>
        <p:spPr>
          <a:xfrm>
            <a:off x="217440" y="4809960"/>
            <a:ext cx="86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街上肯定会挤满学生们的亲友，到处是嗡嗡的说话声。斯巴多尼的奶奶一定会来。这位老太太一见我，总要说：“谢谢你，谢谢你，先生。”而且每次看见我总要吻我的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0"/>
          <p:cNvSpPr/>
          <p:nvPr/>
        </p:nvSpPr>
        <p:spPr>
          <a:xfrm>
            <a:off x="208080" y="5319720"/>
            <a:ext cx="867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父亲也准会来的。他是个壮实的小个子，老远就跟我打招呼。这学年开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1"/>
          <p:cNvSpPr/>
          <p:nvPr/>
        </p:nvSpPr>
        <p:spPr>
          <a:xfrm>
            <a:off x="179280" y="6087960"/>
            <a:ext cx="867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中学的老师要严格得多，你们要继续努力学习，做个好学生。我一定不会忘记你们的！我对你们说的都是心里话，记住我的话吧！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189000" y="3535200"/>
            <a:ext cx="70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两年前来到这个班时，经常搬弄是非。现在要再这样，他自己都会害臊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左箭头 13"/>
          <p:cNvSpPr/>
          <p:nvPr/>
        </p:nvSpPr>
        <p:spPr>
          <a:xfrm>
            <a:off x="5435640" y="6354720"/>
            <a:ext cx="865080" cy="31752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4"/>
          <p:cNvSpPr/>
          <p:nvPr/>
        </p:nvSpPr>
        <p:spPr>
          <a:xfrm>
            <a:off x="3348000" y="110952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5"/>
          <p:cNvSpPr/>
          <p:nvPr/>
        </p:nvSpPr>
        <p:spPr>
          <a:xfrm>
            <a:off x="568440" y="1901880"/>
            <a:ext cx="97452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6"/>
          <p:cNvSpPr/>
          <p:nvPr/>
        </p:nvSpPr>
        <p:spPr>
          <a:xfrm>
            <a:off x="2325600" y="244944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7"/>
          <p:cNvSpPr/>
          <p:nvPr/>
        </p:nvSpPr>
        <p:spPr>
          <a:xfrm>
            <a:off x="53964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8"/>
          <p:cNvSpPr/>
          <p:nvPr/>
        </p:nvSpPr>
        <p:spPr>
          <a:xfrm>
            <a:off x="4197240" y="4245120"/>
            <a:ext cx="974880" cy="44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1"/>
          <p:cNvSpPr/>
          <p:nvPr/>
        </p:nvSpPr>
        <p:spPr>
          <a:xfrm>
            <a:off x="755640" y="524196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2"/>
          <p:cNvSpPr/>
          <p:nvPr/>
        </p:nvSpPr>
        <p:spPr>
          <a:xfrm>
            <a:off x="736596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2941560" y="7682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27000" y="1758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1916280" y="2195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25560" y="306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6918480" y="2909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3683160" y="43909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212760" y="5135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872280" y="53244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7515720" y="3270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4321800" y="4299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707760" y="32702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尼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2504160" y="2494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763200" y="19749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克利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3497760" y="11826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5785200" y="42991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五枚极普通的瑞士邮票，而他还认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36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克利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28708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克利帕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——那个十三岁的高个子，两条腿上汗毛浓浓的，上课时老打瞌睡。到明年进了中学，他照样会在课堂上睡着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左箭头 3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2685960" y="228456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也及格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92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安东尼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221616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0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没有及格的是安东尼里。这孩子花了整整一年工夫用玳瑁铅笔刀在课桌上刻自己的姓。不过，他的速度实在太慢，到现在只刻了“安东”两字。明年，到了新老师的班上，他大概能刻上“尼里”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左箭头 3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1413720" y="22194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唯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00:09:30Z</dcterms:created>
  <dc:creator>微软用户</dc:creator>
  <dc:description/>
  <dc:language>en-US</dc:language>
  <cp:lastModifiedBy>微软用户</cp:lastModifiedBy>
  <dcterms:modified xsi:type="dcterms:W3CDTF">2016-05-10T14:31:31Z</dcterms:modified>
  <cp:revision>365</cp:revision>
  <dc:subject/>
  <dc:title>幻灯片 1</dc:title>
</cp:coreProperties>
</file>