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9D6-B4C6-4272-A528-7579C46351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00D2-B257-40C1-974D-63FC83824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361-E303-4B1B-B2EA-A1C6D2F57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093-93DE-4DEF-8D89-DCF65D15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8845-339F-4A01-8D47-17CDD6C8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BD1E-5F48-410C-84CC-9E22A3552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5C9-37A9-4431-AB98-25C0B0ED0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97E9-9228-4D35-A93E-20289DDE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A030-E76E-49E2-9340-4DEE1816B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7241-18D5-4C94-B31C-81DF8EF4F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8952-175E-4C25-ADF8-C71FC188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AC3CE-CFB8-4E2E-BD37-223E6FF78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B847A-9686-4DB8-A946-93ED8D80E5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1143000"/>
            <a:ext cx="83912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ain cities in 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3124080" cy="6094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n Francisc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743200"/>
            <a:ext cx="2438280" cy="609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icag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262120" y="1603800"/>
            <a:ext cx="1762560" cy="581400"/>
          </a:xfrm>
          <a:prstGeom prst="rect">
            <a:avLst/>
          </a:prstGeom>
          <a:solidFill>
            <a:srgbClr val="cc99ff"/>
          </a:solidFill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u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958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093760" y="6323760"/>
            <a:ext cx="442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云门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Cloud Gate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，又名“豆子”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The Bean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581280" y="0"/>
            <a:ext cx="5010120" cy="26859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2752560"/>
            <a:ext cx="58294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575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105520" y="29718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3962520"/>
            <a:ext cx="304920" cy="304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541008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Hi, is it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the ______of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he U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Yes, it 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: Is it___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: Yes, congratulatio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/No, 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5257800" y="2209680"/>
            <a:ext cx="3200400" cy="1951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60160" y="6252480"/>
            <a:ext cx="6870960" cy="368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s Angeles ,   San Francisco,   Washington DC  ,   New Y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29400" y="1981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4267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29600" y="3124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2819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31T16:58:46Z</dcterms:created>
  <dc:creator>Administrator</dc:creator>
  <dc:description/>
  <dc:language>en-US</dc:language>
  <cp:lastModifiedBy>Administrator</cp:lastModifiedBy>
  <dcterms:modified xsi:type="dcterms:W3CDTF">2010-12-31T17:38:4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