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9E36-2A0B-490A-AA6D-BD11A19B7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5922-3CA1-4F64-963B-496868C4C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A4F9-39AD-44A8-B67E-67DCE5621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014D-557F-4F06-AC23-8C4484CE1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BCCC-AA15-4F35-9CE9-8ADFDEC44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A6D8-9D6C-4A56-91A5-BF2D20FBD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B277-33DB-4733-8D34-16B56264C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FBCD-E14B-4EDA-A195-CEFD5E524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9B5E-DF05-4CA6-93FC-45B68CD1A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0DFA-EFB6-4E47-9613-B78505D3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E0F4-FD39-4025-879F-801D7BFA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9131-6131-436D-9194-186EB4D8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07E1D-DFFE-48CE-BD13-4A9B76CD2A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839124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in cities in 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124080" cy="609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n Francis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743200"/>
            <a:ext cx="2438280" cy="60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cag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262120" y="1603800"/>
            <a:ext cx="1762560" cy="581400"/>
          </a:xfrm>
          <a:prstGeom prst="rect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u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093760" y="6323760"/>
            <a:ext cx="442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云门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Cloud Gate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，又名“豆子”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he Bean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581280" y="0"/>
            <a:ext cx="5010120" cy="26859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2752560"/>
            <a:ext cx="582948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575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105520" y="2971800"/>
            <a:ext cx="304560" cy="30492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3962520"/>
            <a:ext cx="304920" cy="304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05320" y="5410080"/>
            <a:ext cx="304560" cy="30492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: Hi, is it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 the ______of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he 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: Yes, it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: Is it___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: Yes, congratulation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No, 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257800" y="2209680"/>
            <a:ext cx="3200400" cy="1951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60160" y="6252480"/>
            <a:ext cx="6870960" cy="368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s Angeles ,   San Francisco,   Washington DC  ,   New Y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629400" y="1981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4267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229600" y="3124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2819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31T16:58:46Z</dcterms:created>
  <dc:creator>Administrator</dc:creator>
  <dc:description/>
  <dc:language>en-US</dc:language>
  <cp:lastModifiedBy>Administrator</cp:lastModifiedBy>
  <dcterms:modified xsi:type="dcterms:W3CDTF">2010-12-31T17:38:48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