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FF77-0AF3-4824-AE60-2599A181C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09BD-A5B6-4AC2-A1CB-38FA08558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CEE7-93C5-4150-A534-727FA29E8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8D10-AD46-4F84-B36E-F90AC83AC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FF7B-C292-4EFF-8275-D52993D93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8120-BC91-4C17-A0C9-3D9296D9E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A638-CBC2-4BE6-B668-FF4D765AE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ED54-5F28-47CC-BF39-7E6BD1EAB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659D-2166-4E86-8ABC-6541D73C2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7051-5153-420F-8837-2683858B4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3B48-3D71-4E89-ACCE-6890E65CA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0EA9-9F7C-4943-9BF3-AA16B6DB8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FB3FD-7418-4FB5-9BBE-CF94A047AA7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33520" y="1143000"/>
            <a:ext cx="839124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229600" cy="1143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ain cities in 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124080" cy="6094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n Francisc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743200"/>
            <a:ext cx="2438280" cy="609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icag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262120" y="1603800"/>
            <a:ext cx="1762560" cy="581400"/>
          </a:xfrm>
          <a:prstGeom prst="rect">
            <a:avLst/>
          </a:prstGeom>
          <a:solidFill>
            <a:srgbClr val="cc99ff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u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093760" y="6323760"/>
            <a:ext cx="442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云门（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Cloud Gate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），又名“豆子”（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The Bean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581280" y="0"/>
            <a:ext cx="5010120" cy="26859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0" y="2752560"/>
            <a:ext cx="582948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55753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5105520" y="2971800"/>
            <a:ext cx="304560" cy="30492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3962520"/>
            <a:ext cx="304920" cy="304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505320" y="5410080"/>
            <a:ext cx="304560" cy="30492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: Hi, is it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n the ______of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the U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: Yes, it 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: Is it___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: Yes, congratulation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No, sor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5257800" y="2209680"/>
            <a:ext cx="3200400" cy="19512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560160" y="6252480"/>
            <a:ext cx="6870960" cy="368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s Angeles ,   San Francisco,   Washington DC  ,   New Y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629400" y="1981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29400" y="4267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229600" y="3124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0" y="2819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31T16:58:46Z</dcterms:created>
  <dc:creator>Administrator</dc:creator>
  <dc:description/>
  <dc:language>en-US</dc:language>
  <cp:lastModifiedBy>Administrator</cp:lastModifiedBy>
  <dcterms:modified xsi:type="dcterms:W3CDTF">2010-12-31T17:38:48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