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06B-290B-4B5B-A9E3-3CB88F51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ABD-3B83-4DDC-B1AD-DA15973F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CCF-093F-4878-B0A4-F8D19AFC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D9B-89E0-4512-9F75-A04BAC46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91B-F92D-490E-B779-FB602966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432-E509-41D7-8842-60002565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5F3-A04B-4912-84A8-BC95E6E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330-007C-4C68-8439-FE9627E2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0B7-4391-48E6-8930-38D7F833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F2C-01BF-42E8-8F8C-5D8FFBF2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BAA-CB8A-49C4-BE3C-958B046F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BC9-2761-43E3-86A3-A0EB7D4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0420-B3FB-4F55-9104-60CD5B490D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91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cities in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240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Francis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43200"/>
            <a:ext cx="24382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62120" y="1603800"/>
            <a:ext cx="176256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93760" y="6323760"/>
            <a:ext cx="44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云门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loud Gat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又名“豆子”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he Bea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010120" cy="26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752560"/>
            <a:ext cx="582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7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29718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962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4100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Hi, is 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______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Is it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congratul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No, 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200400" cy="195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0160" y="6252480"/>
            <a:ext cx="68709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Angeles ,   San Francisco,   Washington DC  ,   New Y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2960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6:58:46Z</dcterms:created>
  <dc:creator>Administrator</dc:creator>
  <dc:description/>
  <dc:language>en-US</dc:language>
  <cp:lastModifiedBy>Administrator</cp:lastModifiedBy>
  <dcterms:modified xsi:type="dcterms:W3CDTF">2010-12-31T17:38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