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C2D-CB65-4DAF-8F6E-4A017673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574-6D6C-41AB-8A5B-89CC23A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828-624C-4104-84E1-E2400490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94C-8672-46A6-BB12-AD2D8435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DD8-BD1B-4DD5-928B-6E5A42A8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ABC-95E4-4898-B8F4-096A5CE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488-62C3-4976-8BD0-4F17868C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B26-4DF4-4D3E-A5DE-891884E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C16-10F5-4046-A2EC-BB8713BD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B1D-1FF3-4719-9183-8EABFA5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E0D-5178-4106-9535-11DAB30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E6B-FF62-4968-9E37-90585FE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09B-FBD0-4DE1-9E38-1FED55AE6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91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cities in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62120" y="1603800"/>
            <a:ext cx="176256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93760" y="632376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云门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oud Gat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又名“豆子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Be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01012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82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971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410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i,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______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Is it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congratul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No, 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195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0160" y="6252480"/>
            <a:ext cx="68709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 ,   San Francisco,   Washington DC  ,   New 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6:58:46Z</dcterms:created>
  <dc:creator>Administrator</dc:creator>
  <dc:description/>
  <dc:language>en-US</dc:language>
  <cp:lastModifiedBy>Administrator</cp:lastModifiedBy>
  <dcterms:modified xsi:type="dcterms:W3CDTF">2010-12-31T17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