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A86-D948-445F-933F-33DADC7D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FFC-8BA2-4F73-896E-0238164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AB4-D957-4E38-A3A2-ACBBB3C9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440-F804-411B-B193-A8C88D9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DA3-7D91-48C5-BB90-B33B6B12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046-86DF-42B6-B2D0-5620A57F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562-362C-49C0-8714-3631FFA8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9B5-861B-43FC-A519-8F03834C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87C-288D-4043-A634-0DBD902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650-A870-4F3A-A2C6-92C98B52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AC0-5C78-422C-9DEE-054BF62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3EF-F77E-4711-AC8A-6D4F246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74E-8596-4718-B877-303F10181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896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4392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like…s,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08628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013200"/>
            <a:ext cx="320040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7031" t="0" r="16407" b="6296"/>
          <a:stretch/>
        </p:blipFill>
        <p:spPr>
          <a:xfrm>
            <a:off x="6781680" y="294804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553080" y="4946760"/>
            <a:ext cx="2590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28:47Z</dcterms:created>
  <dc:creator>Administrator</dc:creator>
  <dc:description/>
  <dc:language>en-US</dc:language>
  <cp:lastModifiedBy>Administrator</cp:lastModifiedBy>
  <dcterms:modified xsi:type="dcterms:W3CDTF">2011-01-02T22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