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laser.wav" ContentType="audio/x-wav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50F-EC4A-43D7-A082-B4167CAA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02D-DFAF-4551-8CA8-B6F6CB4B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342-F6F7-475D-8454-2DFB73DD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849-BBC6-4977-8B5B-CA0EF889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934-9B95-48A7-B030-2C66C51F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FF5-9EB6-43F9-A9B7-49A0B2C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1F1-675A-4882-A2E9-E4E553A0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9C0-8BE5-49F7-86E5-3582B65D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110-10F3-4473-B5A8-E3401F5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6E3-B53C-4E6E-B58E-90EC171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E3C-1D2D-460E-9606-D23F90C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5F6-2019-4346-86AA-7B9CB38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66A-6472-4D54-812F-ABEC4CE97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0896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43928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like…s,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3581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  <a:ea typeface="黑体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903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971800" y="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08628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013200"/>
            <a:ext cx="320040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7031" t="0" r="16407" b="6296"/>
          <a:stretch/>
        </p:blipFill>
        <p:spPr>
          <a:xfrm>
            <a:off x="6781680" y="294804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553080" y="4946760"/>
            <a:ext cx="25909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22:28:47Z</dcterms:created>
  <dc:creator>Administrator</dc:creator>
  <dc:description/>
  <dc:language>en-US</dc:language>
  <cp:lastModifiedBy>Administrator</cp:lastModifiedBy>
  <dcterms:modified xsi:type="dcterms:W3CDTF">2011-01-02T22:48:2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