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DC8-D99D-415F-8B7E-4CEF2D01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CEC-B7A7-4F62-8B8D-7EEA42A3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DC1-C915-46A3-9504-8EA65F3E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0C5-B3F0-48BD-8C55-FC49757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207-DD5C-4D90-903A-7B4672D9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6AC-6133-4B62-BDA7-38CDE77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E5A-47F1-490C-AE1D-2A2DCD3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4DD-59AB-4C0F-9B09-54D91809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ECD-BD42-4360-89BE-B6CE26B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46F-7E8B-4669-9231-F00086DC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CB9-E188-4AF1-AD0E-ACF2690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3F5-E7FD-4C52-940A-47621BE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2A27-0E4B-454F-A0D7-5FF4048C2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896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4392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like…s,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08628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013200"/>
            <a:ext cx="320040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7031" t="0" r="16407" b="6296"/>
          <a:stretch/>
        </p:blipFill>
        <p:spPr>
          <a:xfrm>
            <a:off x="6781680" y="294804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553080" y="4946760"/>
            <a:ext cx="2590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28:47Z</dcterms:created>
  <dc:creator>Administrator</dc:creator>
  <dc:description/>
  <dc:language>en-US</dc:language>
  <cp:lastModifiedBy>Administrator</cp:lastModifiedBy>
  <dcterms:modified xsi:type="dcterms:W3CDTF">2011-01-02T22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