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laser.wav" ContentType="audio/x-wav"/>
  <Override PartName="/ppt/media/image5.jpeg" ContentType="image/jpeg"/>
  <Override PartName="/ppt/media/image6.gif" ContentType="image/gif"/>
  <Override PartName="/ppt/media/image7.jpeg" ContentType="image/jpeg"/>
  <Override PartName="/ppt/media/camera.wav" ContentType="audio/x-wav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4D4A6-949C-4F65-9372-9E3A85632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DC140-0E44-4CBD-B4F6-6B4FA7C1A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8A812-1ABE-414A-899F-F0A895AAC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D7E0B-3A2B-4350-9399-7116F2787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6B569-A46C-4E8E-9613-2452EBE49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70BDE-15C5-4C87-A35A-DE828F4E2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B0B17-CE25-42D1-B72C-EA0A201B9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0D087-D775-4AD6-825E-649838073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B97C1-7F64-4C71-86E7-687148F9A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43248-BDD8-4368-B056-57917DFF3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34AE3-DC92-42E3-9E2D-3002AE18E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DDE56-2F45-4B37-A2C3-E16A7A84F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E163E-22BE-4830-9797-FE26723A183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7.jpeg"/><Relationship Id="rId4" Type="http://schemas.openxmlformats.org/officeDocument/2006/relationships/image" Target="../media/image6.gif"/><Relationship Id="rId5" Type="http://schemas.openxmlformats.org/officeDocument/2006/relationships/image" Target="../media/image5.jpeg"/><Relationship Id="rId6" Type="http://schemas.openxmlformats.org/officeDocument/2006/relationships/image" Target="../media/image9.jpeg"/><Relationship Id="rId7" Type="http://schemas.openxmlformats.org/officeDocument/2006/relationships/image" Target="../media/image3.jpeg"/><Relationship Id="rId8" Type="http://schemas.openxmlformats.org/officeDocument/2006/relationships/image" Target="../media/image2.jpeg"/><Relationship Id="rId9" Type="http://schemas.openxmlformats.org/officeDocument/2006/relationships/audio" Target="../media/laser.wav"/><Relationship Id="rId10" Type="http://schemas.openxmlformats.org/officeDocument/2006/relationships/audio" Target="../media/camera.wav"/><Relationship Id="rId1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-304920" y="0"/>
            <a:ext cx="9753840" cy="716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-152280" y="0"/>
            <a:ext cx="9296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1908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1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-685800" y="0"/>
            <a:ext cx="10896480" cy="686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3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-380880" y="0"/>
            <a:ext cx="10972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-457200" y="0"/>
            <a:ext cx="10439280" cy="695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981080"/>
            <a:ext cx="777240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 like…s, because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2743200" y="5638320"/>
            <a:ext cx="35812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  <a:ea typeface="黑体"/>
              </a:rPr>
              <a:t>...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590920" cy="19033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2971800" y="0"/>
            <a:ext cx="2666880" cy="17780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6095880" y="0"/>
            <a:ext cx="3048120" cy="1905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0" y="3086280"/>
            <a:ext cx="2590920" cy="17906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5"/>
          <a:stretch/>
        </p:blipFill>
        <p:spPr>
          <a:xfrm>
            <a:off x="2895480" y="3013200"/>
            <a:ext cx="3200400" cy="20160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6"/>
          <a:srcRect l="7031" t="0" r="16407" b="6296"/>
          <a:stretch/>
        </p:blipFill>
        <p:spPr>
          <a:xfrm>
            <a:off x="6781680" y="2948040"/>
            <a:ext cx="2362320" cy="19288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7"/>
          <a:stretch/>
        </p:blipFill>
        <p:spPr>
          <a:xfrm>
            <a:off x="0" y="5029200"/>
            <a:ext cx="2438280" cy="18288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8"/>
          <a:stretch/>
        </p:blipFill>
        <p:spPr>
          <a:xfrm>
            <a:off x="6553080" y="4946760"/>
            <a:ext cx="2590920" cy="191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2T22:28:47Z</dcterms:created>
  <dc:creator>Administrator</dc:creator>
  <dc:description/>
  <dc:language>en-US</dc:language>
  <cp:lastModifiedBy>Administrator</cp:lastModifiedBy>
  <dcterms:modified xsi:type="dcterms:W3CDTF">2011-01-02T22:48:21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