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227-CBC8-4628-9BEE-8044D404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209-FAAB-4A3F-B562-BC573586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E8DC5-DE73-4313-9B50-C473698F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777B3-E2AD-4AB8-996D-6062A713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850C4-0915-4B5F-98F7-9D241B56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546B2-67E8-4994-80F5-9091AB3D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F6FAF-1535-480B-816C-E6BC002C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D78B2-D67C-4260-80E6-5EACFC3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7FC26-0916-44C1-B736-3294DE39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B18D1-39D0-4FA2-B920-363B8BA3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9D13F-D4A0-49FE-A598-0347B5F0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6296F-C59E-407A-90D4-087A0884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AD0-D9A8-4F67-8082-870B957D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5F90D-73F4-43BB-9F04-4DFBF27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8245E-121B-433F-AE10-9902956D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F9136-0F73-486F-AA96-EDC3BB5B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2B295-DBC0-4A9C-9577-78BC0C3C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17391-C1A5-42C4-ABE8-0BE9788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13CED-9359-49F6-929F-37C4F4AF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2D147-FA5A-4DA4-B768-45A16262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C879C-A5A4-40F8-A6B2-28686738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42609-06FA-44CA-86A3-28BC001B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BAE9D-96BB-45D2-9398-919AB196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6E4-B925-4B93-BB4E-A54BB6F0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1D180-7B93-4BD9-8A0D-2EF08C71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6BF1-1E21-4E73-A602-22C98985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2A56-D195-4D20-BBA5-56CCFCA0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6397-6D14-407B-929F-AE639FCF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4CE6-4538-43B2-9162-D304278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8FDB-B036-401D-83C7-62C00E6A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6303-923D-46ED-8615-A9D8A15F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AD3F-FC0E-43B0-8FF4-65506122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404-290A-490F-9976-DA127FFA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97EB-4EBA-4CEB-BD33-8DD289C4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302B-DAB1-4E5C-9DF3-5911D82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DF41-54D4-4616-9154-147FAA0E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4A8A-B1F5-45DF-9516-2C06A0BF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C863-28F6-40C2-8EE8-6C327A4E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F4BB-B4BD-4190-B8B8-1185DB01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13A5-05A4-4B0D-8300-93EDB293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6DA5-474D-46EC-BC2F-A0C9EF5D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C0BD-A3D2-4BD2-AC18-7912E704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B9B1-4C20-460E-9012-253F9DE6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75E-A118-46EB-8602-F550D871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84D7-6684-4722-9E16-C220869B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7C6E-D5EE-4662-8205-7257ABEB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A6D0-6F13-4984-AB5F-576E012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48DEB-41D0-4F21-975F-EF668B0F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99BA-131D-46EA-80C4-7DD4D3FF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E237-6F68-4165-8F79-5672F7FB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9539-A016-4C40-AC60-AAF3C382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DB0A-49CB-4FE4-91F9-4F15FCFE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F3D8-FEA0-4C4F-A2F9-A74E2463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6423-BFD6-4CCA-8C0F-B88D227F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6FA-AFAC-4906-81ED-4A0502F5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B059-E1E1-4F47-AF68-F904F8BE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DC7F-0490-45E5-A12E-AC230D8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89A1B-741C-4C01-9F44-8DDA3F2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B0C6-C1CB-4DC6-8DD3-3B4FBED4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C8A6-20CD-4E84-A1F0-C1E33FF3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E486-22E3-4B47-B17F-85CE43B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197E6-6034-4B4E-933F-9AB41331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9D97-E4D6-4231-810B-6060752A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0AC1-94F5-4626-BEBE-57732425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D2A2-9B65-423E-A867-B8A39A66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BBF-DFEC-433E-B205-C2822C5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AE36-79DF-43A7-BB75-CD16B398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9203-3229-4DA9-9288-AB5E049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FAAE-3BBC-4753-AB2B-FA8A7F75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523E6-A882-4B30-8CD7-AC2E100E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20071-066F-49F9-AE4B-F32D8072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5242-6899-4C7E-8C9F-1368A91C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89083-DA5F-4C92-AAD9-03416843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671DE-11FE-427E-8D86-6F053D78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1A805-EE33-4597-8907-49FA6B2A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23554-B359-4751-8E0B-0B98364F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F87-EF42-4CB6-880C-729479A9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6038-3626-4696-A427-8AFA4EC8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3D402-8C1B-41E9-B0C7-ACA18EEC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AD125-AA25-40FC-B739-8922D113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9C040-1609-428E-A76C-2B2B7605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3E589-EAAB-43D2-9688-794B375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EC2E-E266-4D29-8FAF-1B6123CA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13CE4-3190-4F52-8B4D-D150DA2E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469A-4A37-406D-8641-1434C71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0775C-3846-456E-9D8C-11081D72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14CA-1040-497C-AAF4-EDC7EA2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813-21EB-4589-A430-97439CD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3FCD-69C4-41AE-8202-F9398702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CA3ED-61A1-4E36-9EA1-59E82FFC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47641-D775-4997-BBD0-4B4B08EE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763F7-48DC-4EDE-8BBF-9A1EE143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E3EA0-9456-405B-81C2-D6996FB5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42141-073F-4F36-9A6F-DC463C05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968C1-4005-4160-B9CF-2D025BD0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88564-1BF3-4884-91A2-927B3474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84642-1229-4A3C-9A39-00374243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F15D2-0136-41DB-8BFB-18327704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392-F3A4-45A4-A2D2-B83884A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E7830-8787-4273-ADCA-7A4353B6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6989E-6D07-4FCC-9C8A-AC47418F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39C58-F666-4AEB-B916-BD020D63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D1887-3428-4FA1-89B1-3D8ABA53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65A2F-4EC0-46CF-9708-02CDE793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C7E4A-2C4C-44D6-860A-49EF1192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D2D15-5E3A-46D2-8864-3BEA681A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603FD-18DD-4FA0-95F8-316F3D86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FCB98-42EB-4D50-B35C-73F88FED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B5415-68D3-423B-B6C4-946FD41F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9D5-F2CC-4BCA-BF06-EF6B200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413BE-5A74-4DCA-92D1-92328B5F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A9C5-F879-45A9-AE4E-054CE51C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686C3-6498-41F9-8197-EFC42D5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223F8-A3C0-4179-B851-4F053048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DE41-74AA-45F6-816D-FF818FD3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B20FC-2254-4AFD-97FA-C32458D2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BE8B9-594A-4349-9E1F-7D5E2096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07079-C790-4372-BBC7-242B047E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143B2-0CA6-4C77-8607-E5FF6C27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17ED2-DFD4-4A21-A483-D889D51B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4B17-34E0-4DDB-B5FA-47D157274A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1FAD-69B3-448D-B133-856A062BB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7A3B-F337-4531-B1E8-DDE1381DB5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0591-22F0-4CE6-8985-E80665AC1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A951-C0FD-4B50-9995-A103E5C3D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D0C1-5FD4-4135-BFA1-DF1732E3B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F8D1-1978-42F2-9CA3-4DE1D6A36E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86AF-915A-48BD-80B0-70B656B774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7916-3136-474F-9551-BAA0C019A4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CB5-8AD3-464C-A5A3-862B479B26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184-815F-494D-BF60-E72E6D4D33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0" y="558972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双流县东升迎春小学     蒋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3318"/>
          <p:cNvSpPr txBox="1"/>
          <p:nvPr/>
        </p:nvSpPr>
        <p:spPr>
          <a:xfrm>
            <a:off x="1116000" y="1628640"/>
            <a:ext cx="68580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北师大版教材小学语文三年级下册</a:t>
            </a:r>
            <a:endParaRPr b="1" lang="en-US" sz="1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2" name="矩形 13319"/>
          <p:cNvSpPr txBox="1"/>
          <p:nvPr/>
        </p:nvSpPr>
        <p:spPr>
          <a:xfrm>
            <a:off x="2484360" y="2421000"/>
            <a:ext cx="14400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炮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  <p:sp>
        <p:nvSpPr>
          <p:cNvPr id="413" name="矩形 13321"/>
          <p:cNvSpPr txBox="1"/>
          <p:nvPr/>
        </p:nvSpPr>
        <p:spPr>
          <a:xfrm>
            <a:off x="5533920" y="2327400"/>
            <a:ext cx="14162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手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6"/>
          <p:cNvSpPr/>
          <p:nvPr/>
        </p:nvSpPr>
        <p:spPr>
          <a:xfrm>
            <a:off x="276120" y="1290600"/>
            <a:ext cx="87249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军用望远镜仔细地瞭望着河对岸的小村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喂，炮手！”将军没有回头，高声叫道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④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    的士兵应道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638"/>
          <p:cNvSpPr txBox="1"/>
          <p:nvPr/>
        </p:nvSpPr>
        <p:spPr>
          <a:xfrm rot="20925600">
            <a:off x="3492360" y="5911920"/>
            <a:ext cx="6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1" name="矩形 26639"/>
          <p:cNvSpPr txBox="1"/>
          <p:nvPr/>
        </p:nvSpPr>
        <p:spPr>
          <a:xfrm rot="21469200">
            <a:off x="1116000" y="595008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2" name="矩形 20489"/>
          <p:cNvSpPr/>
          <p:nvPr/>
        </p:nvSpPr>
        <p:spPr>
          <a:xfrm>
            <a:off x="6847920" y="4935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0160" y="3887640"/>
            <a:ext cx="640368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24000" y="155736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-9360" y="1557360"/>
            <a:ext cx="8829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⑤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你看到那座桥了吗？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⑥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得很清楚，将军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⑦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到左边的农舍了吗？就在丛林后面，那座红瓦白墙的房子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⑧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士兵脸色     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：“我看到了，将军。”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1511"/>
          <p:cNvSpPr/>
          <p:nvPr/>
        </p:nvSpPr>
        <p:spPr>
          <a:xfrm>
            <a:off x="2590920" y="53211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"/>
          <p:cNvSpPr/>
          <p:nvPr/>
        </p:nvSpPr>
        <p:spPr>
          <a:xfrm>
            <a:off x="5129280" y="1908000"/>
            <a:ext cx="3336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如土色      面如死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无血色      血色全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"/>
          <p:cNvSpPr/>
          <p:nvPr/>
        </p:nvSpPr>
        <p:spPr>
          <a:xfrm>
            <a:off x="4351320" y="3016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7"/>
          <p:cNvSpPr/>
          <p:nvPr/>
        </p:nvSpPr>
        <p:spPr>
          <a:xfrm>
            <a:off x="225360" y="1274760"/>
            <a:ext cx="8658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炮手的脸色更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    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这时，裹着大衣的军官们在凛冽的寒风中打颤，可炮手的前额却滚下了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大粒的汗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5102280" y="240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75779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服从了命令，仔细瞄准目标，开了一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44045"/>
          <p:cNvSpPr/>
          <p:nvPr/>
        </p:nvSpPr>
        <p:spPr>
          <a:xfrm>
            <a:off x="1476360" y="1916280"/>
            <a:ext cx="583236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4044" descr="jf13116ahc99538"/>
          <p:cNvPicPr/>
          <p:nvPr/>
        </p:nvPicPr>
        <p:blipFill>
          <a:blip r:embed="rId1"/>
          <a:srcRect l="0" t="0" r="0" b="12000"/>
          <a:stretch/>
        </p:blipFill>
        <p:spPr>
          <a:xfrm>
            <a:off x="2627280" y="2276640"/>
            <a:ext cx="360036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矩形 44046"/>
          <p:cNvSpPr txBox="1"/>
          <p:nvPr/>
        </p:nvSpPr>
        <p:spPr>
          <a:xfrm>
            <a:off x="1763640" y="2060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latin typeface="黑体"/>
              </a:rPr>
              <a:t>猜一猜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圆角矩形 77825"/>
          <p:cNvSpPr/>
          <p:nvPr/>
        </p:nvSpPr>
        <p:spPr>
          <a:xfrm>
            <a:off x="1332000" y="1916280"/>
            <a:ext cx="597672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77829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3132000" y="2133720"/>
            <a:ext cx="285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圆角矩形 76803"/>
          <p:cNvSpPr/>
          <p:nvPr/>
        </p:nvSpPr>
        <p:spPr>
          <a:xfrm>
            <a:off x="162000" y="563400"/>
            <a:ext cx="8820000" cy="5731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6804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422280" y="2467080"/>
            <a:ext cx="1728720" cy="2087280"/>
          </a:xfrm>
          <a:prstGeom prst="rect">
            <a:avLst/>
          </a:prstGeom>
          <a:ln w="0">
            <a:noFill/>
          </a:ln>
        </p:spPr>
      </p:pic>
      <p:sp>
        <p:nvSpPr>
          <p:cNvPr id="422" name="文本框 76805"/>
          <p:cNvSpPr/>
          <p:nvPr/>
        </p:nvSpPr>
        <p:spPr>
          <a:xfrm>
            <a:off x="2538360" y="946080"/>
            <a:ext cx="6156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人的前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脚、挥手、左手、手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76807"/>
          <p:cNvSpPr/>
          <p:nvPr/>
        </p:nvSpPr>
        <p:spPr>
          <a:xfrm>
            <a:off x="2644920" y="2257560"/>
            <a:ext cx="5945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招式、方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段、手法、手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6808"/>
          <p:cNvSpPr/>
          <p:nvPr/>
        </p:nvSpPr>
        <p:spPr>
          <a:xfrm>
            <a:off x="2590920" y="3568680"/>
            <a:ext cx="6051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量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留一手、有一手、一手好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76809"/>
          <p:cNvSpPr/>
          <p:nvPr/>
        </p:nvSpPr>
        <p:spPr>
          <a:xfrm>
            <a:off x="2538360" y="4976640"/>
            <a:ext cx="5737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名词，表示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能手、对手、枪手、炮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11280" y="2671920"/>
            <a:ext cx="84596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读通读顺课文，不认识的字想办法解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思考课文讲了一件什么事？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5370"/>
          <p:cNvGrpSpPr/>
          <p:nvPr/>
        </p:nvGrpSpPr>
        <p:grpSpPr>
          <a:xfrm>
            <a:off x="0" y="1413000"/>
            <a:ext cx="3492000" cy="1152360"/>
            <a:chOff x="0" y="1413000"/>
            <a:chExt cx="3492000" cy="1152360"/>
          </a:xfrm>
        </p:grpSpPr>
        <p:pic>
          <p:nvPicPr>
            <p:cNvPr id="429" name="图片 21515" descr="20160324204605_b387918835e54b0e132161f337ffd55e_1"/>
            <p:cNvPicPr/>
            <p:nvPr/>
          </p:nvPicPr>
          <p:blipFill>
            <a:blip r:embed="rId1"/>
            <a:srcRect l="6816" t="0" r="18191" b="8435"/>
            <a:stretch/>
          </p:blipFill>
          <p:spPr>
            <a:xfrm>
              <a:off x="0" y="1413000"/>
              <a:ext cx="1092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矩形 15367"/>
            <p:cNvSpPr txBox="1"/>
            <p:nvPr/>
          </p:nvSpPr>
          <p:spPr>
            <a:xfrm>
              <a:off x="1290600" y="1413000"/>
              <a:ext cx="1837080" cy="83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0000ff"/>
                  </a:solidFill>
                  <a:latin typeface="宋体"/>
                </a:rPr>
                <a:t>自读要求</a:t>
              </a:r>
              <a:endParaRPr b="1" lang="en-US" sz="4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431" name="矩形 15368"/>
            <p:cNvSpPr/>
            <p:nvPr/>
          </p:nvSpPr>
          <p:spPr>
            <a:xfrm>
              <a:off x="515520" y="2276640"/>
              <a:ext cx="2612160" cy="72720"/>
            </a:xfrm>
            <a:prstGeom prst="rect">
              <a:avLst/>
            </a:prstGeom>
            <a:solidFill>
              <a:srgbClr val="ff6600">
                <a:alpha val="4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369"/>
            <p:cNvSpPr/>
            <p:nvPr/>
          </p:nvSpPr>
          <p:spPr>
            <a:xfrm>
              <a:off x="1183320" y="2494080"/>
              <a:ext cx="2308680" cy="7128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1204920" y="1387440"/>
            <a:ext cx="16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侵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"/>
          <p:cNvSpPr/>
          <p:nvPr/>
        </p:nvSpPr>
        <p:spPr>
          <a:xfrm>
            <a:off x="1403280" y="561024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9"/>
          <p:cNvSpPr/>
          <p:nvPr/>
        </p:nvSpPr>
        <p:spPr>
          <a:xfrm>
            <a:off x="3546360" y="561024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0"/>
          <p:cNvSpPr/>
          <p:nvPr/>
        </p:nvSpPr>
        <p:spPr>
          <a:xfrm>
            <a:off x="5427720" y="56102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3"/>
          <p:cNvSpPr/>
          <p:nvPr/>
        </p:nvSpPr>
        <p:spPr>
          <a:xfrm>
            <a:off x="3914640" y="138744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瞭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6392880" y="13874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打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"/>
          <p:cNvSpPr/>
          <p:nvPr/>
        </p:nvSpPr>
        <p:spPr>
          <a:xfrm>
            <a:off x="1297080" y="2475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0"/>
          <p:cNvSpPr/>
          <p:nvPr/>
        </p:nvSpPr>
        <p:spPr>
          <a:xfrm>
            <a:off x="1204920" y="277020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"/>
          <p:cNvSpPr/>
          <p:nvPr/>
        </p:nvSpPr>
        <p:spPr>
          <a:xfrm>
            <a:off x="3621240" y="27986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2"/>
          <p:cNvSpPr/>
          <p:nvPr/>
        </p:nvSpPr>
        <p:spPr>
          <a:xfrm>
            <a:off x="3693960" y="247500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7432"/>
          <p:cNvSpPr/>
          <p:nvPr/>
        </p:nvSpPr>
        <p:spPr>
          <a:xfrm>
            <a:off x="193680" y="3500280"/>
            <a:ext cx="8577360" cy="204480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武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声：“快拿酒来！我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二碗。”博得众食客一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6401"/>
          <p:cNvGrpSpPr/>
          <p:nvPr/>
        </p:nvGrpSpPr>
        <p:grpSpPr>
          <a:xfrm>
            <a:off x="2597040" y="3471840"/>
            <a:ext cx="6174000" cy="1436040"/>
            <a:chOff x="2597040" y="3471840"/>
            <a:chExt cx="6174000" cy="1436040"/>
          </a:xfrm>
        </p:grpSpPr>
        <p:sp>
          <p:nvSpPr>
            <p:cNvPr id="445" name="文本框 12"/>
            <p:cNvSpPr/>
            <p:nvPr/>
          </p:nvSpPr>
          <p:spPr>
            <a:xfrm>
              <a:off x="2597040" y="3471840"/>
              <a:ext cx="73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12"/>
            <p:cNvSpPr/>
            <p:nvPr/>
          </p:nvSpPr>
          <p:spPr>
            <a:xfrm>
              <a:off x="8121600" y="3471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"/>
            <p:cNvSpPr/>
            <p:nvPr/>
          </p:nvSpPr>
          <p:spPr>
            <a:xfrm>
              <a:off x="5867280" y="44481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9640"/>
          <p:cNvSpPr/>
          <p:nvPr/>
        </p:nvSpPr>
        <p:spPr>
          <a:xfrm>
            <a:off x="1476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"/>
          <p:cNvSpPr/>
          <p:nvPr/>
        </p:nvSpPr>
        <p:spPr>
          <a:xfrm>
            <a:off x="419040" y="26049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请孩子们默读课文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到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10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，用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“——”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划出表现炮手神态的句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73735"/>
          <p:cNvSpPr/>
          <p:nvPr/>
        </p:nvSpPr>
        <p:spPr>
          <a:xfrm>
            <a:off x="3348000" y="292428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32000" y="1689120"/>
            <a:ext cx="77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苍白的士兵应道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73737"/>
          <p:cNvSpPr/>
          <p:nvPr/>
        </p:nvSpPr>
        <p:spPr>
          <a:xfrm>
            <a:off x="1332000" y="351000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士兵脸色煞白：“我看到了，将军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73738"/>
          <p:cNvSpPr/>
          <p:nvPr/>
        </p:nvSpPr>
        <p:spPr>
          <a:xfrm>
            <a:off x="1332000" y="4905360"/>
            <a:ext cx="61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惨白了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太阳形 73751"/>
          <p:cNvSpPr/>
          <p:nvPr/>
        </p:nvSpPr>
        <p:spPr>
          <a:xfrm>
            <a:off x="539640" y="1955880"/>
            <a:ext cx="360360" cy="3477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太阳形 73753"/>
          <p:cNvSpPr/>
          <p:nvPr/>
        </p:nvSpPr>
        <p:spPr>
          <a:xfrm>
            <a:off x="539640" y="369108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太阳形 73754"/>
          <p:cNvSpPr/>
          <p:nvPr/>
        </p:nvSpPr>
        <p:spPr>
          <a:xfrm>
            <a:off x="539640" y="507672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3:51Z</dcterms:created>
  <dc:creator>微软用户</dc:creator>
  <dc:description/>
  <dc:language>en-US</dc:language>
  <cp:lastModifiedBy>Lenovo</cp:lastModifiedBy>
  <dcterms:modified xsi:type="dcterms:W3CDTF">2017-04-19T07:30:16Z</dcterms:modified>
  <cp:revision>266</cp:revision>
  <dc:subject/>
  <dc:title>黑孩子罗伯特                        【美国】 玛丽·雷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