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42E-6558-4874-BC19-F566AEB7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54D-FA2E-487C-80E7-2E216CD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754C6-2E8E-45EC-8852-51E940D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9AAC9-E32A-4D65-9F02-0DF48B38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0D332-2F2E-482C-B3CA-AB40BB98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13BE3-FD74-4526-A17F-4EE3C73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E6530-592E-4661-98D5-665649B7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7DB1F-023A-427B-83B3-160CAA0B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0F78C-DDCB-447A-9CA0-24667C35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B2EC4-2D50-4853-96A4-F656B160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DDC91-20E1-4D35-9A63-830085AB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736A6-F2F6-45E8-9224-3CA2979B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75A-BAA8-4419-A91F-3CABAE52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8B2CF-1536-4E33-8F3E-8D28A43A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7A4CF-7BD1-4FA2-ACC6-583FD633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55932-D116-4CE8-AC96-06647E90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DCE99-3598-41E2-B0DA-F345B152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A56EF-FB90-43D8-84CA-DAF793C5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61725-E17C-49ED-BF55-7D843FD2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D82F7-4007-4381-AB84-060D7B6E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86CC0-0053-47F7-8142-A52EF328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08B0B-69D5-4AFF-AF05-08A27FFA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A3642-30CE-4333-B8A3-2CE674B4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590-2ED6-46CC-85A4-047F95ED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90D3B-2F3F-4864-93A8-2A4FCE29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59E2-EFD9-4B92-8513-5715B266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D039-9D5D-40B3-8DC8-F151A979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D7DB-C52B-406F-B8B0-42BC9905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ADB5-2545-41AF-8A30-EBCE99E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2FB9-BBC9-46FA-BEEF-1E1FCF7C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0C85-A5E8-416B-8E7A-1E596F21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EBFB-CB96-4822-8F01-D1F0300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BB5-059A-45AE-9052-7E676264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9DE0-88A2-444E-9935-BADEBE3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435F-3869-4690-8057-61C63FEA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5A2-77DD-4FD5-BC3C-97AB5F2D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F43B-A58A-4318-99B9-FF828E6F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6CCF-4B49-484E-B878-76D65D39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84CB-2553-4EE6-8313-0DE6AB3D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DDD3-B9C2-4F83-A327-345ED209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9026C-240F-45F5-A4D5-C273B1BE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EE1A-AC8E-4B15-9D04-9D6590A7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4F8E-C145-4229-B949-B7FCB5F5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872-7372-4ACC-ABB4-A598CC26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D468-8643-4CD2-BB85-C668041C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719A-3E9F-41D0-852F-C90DAB8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C63D-9F28-4F49-A37F-8770679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1F28-74B2-4A39-93D7-E584C36A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8ACE-CCEE-4F03-B5A4-1EA93697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E89B-F41E-4F78-9B88-374D6E74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891F-08DD-40FE-B0FF-04585917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8DEF7-F5C9-47B5-B2A3-5CDB6577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D0AC-3F37-464D-A5C0-7C094061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30D77-8DD5-40F6-9F1D-55E91649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0C9-2ED3-4514-A8F2-94D59A3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BDF6F-9293-45F0-8CB0-A8C2CEA5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D4E6-F810-4A4E-9CE8-7635708D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E23A-2427-4FDB-A0AD-BAF01142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42D3-9AB6-4624-B46E-73F4D2C7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E3B3-1AC0-42B1-9ABE-F6FA494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CADF9-2E70-44D8-B210-680A273F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B8F4-DEE4-48E4-A226-8A5DB7C5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B1BF-E075-4ADF-8972-1223DD5E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6C5A-045E-49F4-8568-125DE951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38B56-9189-463A-A1B5-B031134C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077-E375-4511-B270-FB528AA9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4C2F0-2099-4FFD-ADC4-1CD801BE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C638-F89C-4DD6-A2EC-FA54F1D2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7AC0A-DC49-4A61-A19B-833543F0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A5960-DE81-4A80-90B3-066B338B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79C02-969C-4849-8634-88F81E42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01729-AD1E-4A08-8B4E-DB238690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61DC-316C-4698-8B26-257EA15E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DFC74-E3F0-4B8B-BDB6-398CA63F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574A6-4C67-48FE-B170-56D7CA46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F4DF6-4595-4832-A147-B4E2E2FD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DE3-3481-4ACC-8EE3-5C2BE1D9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FF067-145C-4478-810A-5B271F19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12FA7-F70F-452D-8183-984A15C6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5ED40-E5D1-4587-A542-92FF9505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34BF1-7AE6-4236-9675-B90C02B4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5278-D9C3-48A1-93F1-BFDF68BC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B785B-3D58-4AAF-9547-99551713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E4B8-1228-48CA-AD93-895DF720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C4FE-6291-471F-9D46-87D22E04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605C0-4A61-4402-84CB-A350978B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8849C-D1EA-4445-AACC-7620E71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CED-3AD4-4D4D-9D93-1B4F63B3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4DAC7-BAFE-461B-90A8-EC07F169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C754C-09C6-4B68-87A8-19A8F897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0EBFB-8F57-4E92-9D88-01AAA4BA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CBE6-00E9-4B19-91B8-E5BDE349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25B47-DFA8-4AED-A90C-3EF597F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F38D2-269C-440A-9592-08781BB8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B5BA9-B762-4C27-87A8-A58BC77A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1CD95-704B-484C-B87A-C8416F78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5A4D-A8A8-4579-99A8-8B858FB8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FEB0F-5DBC-46D8-A92F-81661105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16F-D006-4A85-BF26-59C76A14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A296C-1D55-4F60-B03E-0B91A5D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B5FFA-887D-4868-945F-152F234B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72E5A-7A40-46B5-B108-A9940F8E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5430B-719F-4C1B-96E0-83829960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6CA7-4B57-4A52-A56E-7BA8D74A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292DF-D1B8-48C1-9D13-2996CECF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79954-79ED-447F-98ED-F5858FB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BD7FB-2B93-476D-B905-8A1BFC2F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3C464-A09C-4410-B33C-9D4833AF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514DC-82DB-4F0B-ACBE-370E098C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F96-A602-42C0-AE59-4D2AF8C0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07DA0-9FDD-4493-9D49-4200D377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58335-F678-4B34-AE59-5F842B6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761A0-2312-4444-9B98-01C7407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8DF9C-DBEE-4301-AC47-C60B92F9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6C65D-CD38-40B8-ABAD-46961D86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3F329-CFED-4401-BD25-541CCCD5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4F1DA-7BFF-44F4-A08A-0143F757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2B5D9-89AA-4FCA-8832-FA7B4A95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6A5FE-CD70-4E89-9D78-54B7DB67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A3189-B6C6-4849-9170-D72CC78A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211D-9E5C-4877-BDF7-9A1585E94A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248D-84E9-4474-9BD8-5C354D77B0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A754-A2D4-4CC7-A74D-4328FFF397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6653-AD80-4F70-ABD6-B7B45533C7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8B5D-B1AE-4701-AF33-0DF9AE96CD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D1E4-6F2E-47CF-9F1D-26B54BCA36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9C62-56D7-4947-94B4-7146FA612A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BFB5-08CC-4717-9320-4E3E5D4455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15EB-0CEF-43D7-A861-8D1B1F99F5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6406-581F-4325-8940-446DB871C8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2DF-8775-461E-8F25-B382D85F93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0" y="558972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双流县东升迎春小学     蒋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3318"/>
          <p:cNvSpPr txBox="1"/>
          <p:nvPr/>
        </p:nvSpPr>
        <p:spPr>
          <a:xfrm>
            <a:off x="1116000" y="1628640"/>
            <a:ext cx="68580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北师大版教材小学语文三年级下册</a:t>
            </a:r>
            <a:endParaRPr b="1" lang="en-US" sz="1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2" name="矩形 13319"/>
          <p:cNvSpPr txBox="1"/>
          <p:nvPr/>
        </p:nvSpPr>
        <p:spPr>
          <a:xfrm>
            <a:off x="2484360" y="2421000"/>
            <a:ext cx="14400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炮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  <p:sp>
        <p:nvSpPr>
          <p:cNvPr id="413" name="矩形 13321"/>
          <p:cNvSpPr txBox="1"/>
          <p:nvPr/>
        </p:nvSpPr>
        <p:spPr>
          <a:xfrm>
            <a:off x="5533920" y="2327400"/>
            <a:ext cx="141624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手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6"/>
          <p:cNvSpPr/>
          <p:nvPr/>
        </p:nvSpPr>
        <p:spPr>
          <a:xfrm>
            <a:off x="276120" y="1290600"/>
            <a:ext cx="87249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军用望远镜仔细地瞭望着河对岸的小村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喂，炮手！”将军没有回头，高声叫道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④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    的士兵应道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638"/>
          <p:cNvSpPr txBox="1"/>
          <p:nvPr/>
        </p:nvSpPr>
        <p:spPr>
          <a:xfrm rot="20925600">
            <a:off x="3492360" y="5911920"/>
            <a:ext cx="6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1" name="矩形 26639"/>
          <p:cNvSpPr txBox="1"/>
          <p:nvPr/>
        </p:nvSpPr>
        <p:spPr>
          <a:xfrm rot="21469200">
            <a:off x="1116000" y="5950080"/>
            <a:ext cx="64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2" name="矩形 20489"/>
          <p:cNvSpPr/>
          <p:nvPr/>
        </p:nvSpPr>
        <p:spPr>
          <a:xfrm>
            <a:off x="6847920" y="4935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0160" y="3887640"/>
            <a:ext cx="640368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24000" y="155736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-9360" y="1557360"/>
            <a:ext cx="8829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⑤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你看到那座桥了吗？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⑥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得很清楚，将军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⑦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到左边的农舍了吗？就在丛林后面，那座红瓦白墙的房子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⑧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士兵脸色     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：“我看到了，将军。”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1511"/>
          <p:cNvSpPr/>
          <p:nvPr/>
        </p:nvSpPr>
        <p:spPr>
          <a:xfrm>
            <a:off x="2590920" y="53211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"/>
          <p:cNvSpPr/>
          <p:nvPr/>
        </p:nvSpPr>
        <p:spPr>
          <a:xfrm>
            <a:off x="5129280" y="1908000"/>
            <a:ext cx="3336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如土色      面如死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无血色      血色全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5"/>
          <p:cNvSpPr/>
          <p:nvPr/>
        </p:nvSpPr>
        <p:spPr>
          <a:xfrm>
            <a:off x="4351320" y="3016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7"/>
          <p:cNvSpPr/>
          <p:nvPr/>
        </p:nvSpPr>
        <p:spPr>
          <a:xfrm>
            <a:off x="225360" y="1274760"/>
            <a:ext cx="86583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炮手的脸色更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    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这时，裹着大衣的军官们在凛冽的寒风中打颤，可炮手的前额却滚下了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大粒的汗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5102280" y="240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75779"/>
          <p:cNvSpPr/>
          <p:nvPr/>
        </p:nvSpPr>
        <p:spPr>
          <a:xfrm>
            <a:off x="826920" y="292428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服从了命令，仔细瞄准目标，开了一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44045"/>
          <p:cNvSpPr/>
          <p:nvPr/>
        </p:nvSpPr>
        <p:spPr>
          <a:xfrm>
            <a:off x="1476360" y="1916280"/>
            <a:ext cx="5832360" cy="39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4044" descr="jf13116ahc99538"/>
          <p:cNvPicPr/>
          <p:nvPr/>
        </p:nvPicPr>
        <p:blipFill>
          <a:blip r:embed="rId1"/>
          <a:srcRect l="0" t="0" r="0" b="12000"/>
          <a:stretch/>
        </p:blipFill>
        <p:spPr>
          <a:xfrm>
            <a:off x="2627280" y="2276640"/>
            <a:ext cx="3600360" cy="3168360"/>
          </a:xfrm>
          <a:prstGeom prst="rect">
            <a:avLst/>
          </a:prstGeom>
          <a:ln w="0">
            <a:noFill/>
          </a:ln>
        </p:spPr>
      </p:pic>
      <p:sp>
        <p:nvSpPr>
          <p:cNvPr id="417" name="矩形 44046"/>
          <p:cNvSpPr txBox="1"/>
          <p:nvPr/>
        </p:nvSpPr>
        <p:spPr>
          <a:xfrm>
            <a:off x="1763640" y="206064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latin typeface="黑体"/>
              </a:rPr>
              <a:t>猜一猜</a:t>
            </a:r>
            <a:endParaRPr b="1" lang="en-US" sz="1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圆角矩形 77825"/>
          <p:cNvSpPr/>
          <p:nvPr/>
        </p:nvSpPr>
        <p:spPr>
          <a:xfrm>
            <a:off x="1332000" y="1916280"/>
            <a:ext cx="597672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77829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3132000" y="2133720"/>
            <a:ext cx="285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圆角矩形 76803"/>
          <p:cNvSpPr/>
          <p:nvPr/>
        </p:nvSpPr>
        <p:spPr>
          <a:xfrm>
            <a:off x="162000" y="563400"/>
            <a:ext cx="8820000" cy="5731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6804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422280" y="2467080"/>
            <a:ext cx="1728720" cy="2087280"/>
          </a:xfrm>
          <a:prstGeom prst="rect">
            <a:avLst/>
          </a:prstGeom>
          <a:ln w="0">
            <a:noFill/>
          </a:ln>
        </p:spPr>
      </p:pic>
      <p:sp>
        <p:nvSpPr>
          <p:cNvPr id="422" name="文本框 76805"/>
          <p:cNvSpPr/>
          <p:nvPr/>
        </p:nvSpPr>
        <p:spPr>
          <a:xfrm>
            <a:off x="2538360" y="946080"/>
            <a:ext cx="6156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人的前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脚、挥手、左手、手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76807"/>
          <p:cNvSpPr/>
          <p:nvPr/>
        </p:nvSpPr>
        <p:spPr>
          <a:xfrm>
            <a:off x="2644920" y="2257560"/>
            <a:ext cx="5945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招式、方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段、手法、手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6808"/>
          <p:cNvSpPr/>
          <p:nvPr/>
        </p:nvSpPr>
        <p:spPr>
          <a:xfrm>
            <a:off x="2590920" y="3568680"/>
            <a:ext cx="6051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量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留一手、有一手、一手好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76809"/>
          <p:cNvSpPr/>
          <p:nvPr/>
        </p:nvSpPr>
        <p:spPr>
          <a:xfrm>
            <a:off x="2538360" y="4976640"/>
            <a:ext cx="5737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名词，表示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能手、对手、枪手、炮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611280" y="2671920"/>
            <a:ext cx="84596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读通读顺课文，不认识的字想办法解决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思考课文讲了一件什么事？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5370"/>
          <p:cNvGrpSpPr/>
          <p:nvPr/>
        </p:nvGrpSpPr>
        <p:grpSpPr>
          <a:xfrm>
            <a:off x="0" y="1413000"/>
            <a:ext cx="3492000" cy="1152360"/>
            <a:chOff x="0" y="1413000"/>
            <a:chExt cx="3492000" cy="1152360"/>
          </a:xfrm>
        </p:grpSpPr>
        <p:pic>
          <p:nvPicPr>
            <p:cNvPr id="429" name="图片 21515" descr="20160324204605_b387918835e54b0e132161f337ffd55e_1"/>
            <p:cNvPicPr/>
            <p:nvPr/>
          </p:nvPicPr>
          <p:blipFill>
            <a:blip r:embed="rId1"/>
            <a:srcRect l="6816" t="0" r="18191" b="8435"/>
            <a:stretch/>
          </p:blipFill>
          <p:spPr>
            <a:xfrm>
              <a:off x="0" y="1413000"/>
              <a:ext cx="1092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矩形 15367"/>
            <p:cNvSpPr txBox="1"/>
            <p:nvPr/>
          </p:nvSpPr>
          <p:spPr>
            <a:xfrm>
              <a:off x="1290600" y="1413000"/>
              <a:ext cx="1837080" cy="83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0000ff"/>
                  </a:solidFill>
                  <a:latin typeface="宋体"/>
                </a:rPr>
                <a:t>自读要求</a:t>
              </a:r>
              <a:endParaRPr b="1" lang="en-US" sz="4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431" name="矩形 15368"/>
            <p:cNvSpPr/>
            <p:nvPr/>
          </p:nvSpPr>
          <p:spPr>
            <a:xfrm>
              <a:off x="515520" y="2276640"/>
              <a:ext cx="2612160" cy="72720"/>
            </a:xfrm>
            <a:prstGeom prst="rect">
              <a:avLst/>
            </a:prstGeom>
            <a:solidFill>
              <a:srgbClr val="ff6600">
                <a:alpha val="4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369"/>
            <p:cNvSpPr/>
            <p:nvPr/>
          </p:nvSpPr>
          <p:spPr>
            <a:xfrm>
              <a:off x="1183320" y="2494080"/>
              <a:ext cx="2308680" cy="7128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"/>
          <p:cNvSpPr/>
          <p:nvPr/>
        </p:nvSpPr>
        <p:spPr>
          <a:xfrm>
            <a:off x="1204920" y="1387440"/>
            <a:ext cx="16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侵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"/>
          <p:cNvSpPr/>
          <p:nvPr/>
        </p:nvSpPr>
        <p:spPr>
          <a:xfrm>
            <a:off x="1403280" y="561024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9"/>
          <p:cNvSpPr/>
          <p:nvPr/>
        </p:nvSpPr>
        <p:spPr>
          <a:xfrm>
            <a:off x="3546360" y="5610240"/>
            <a:ext cx="13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0"/>
          <p:cNvSpPr/>
          <p:nvPr/>
        </p:nvSpPr>
        <p:spPr>
          <a:xfrm>
            <a:off x="5427720" y="56102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3"/>
          <p:cNvSpPr/>
          <p:nvPr/>
        </p:nvSpPr>
        <p:spPr>
          <a:xfrm>
            <a:off x="3914640" y="138744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瞭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6392880" y="13874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打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"/>
          <p:cNvSpPr/>
          <p:nvPr/>
        </p:nvSpPr>
        <p:spPr>
          <a:xfrm>
            <a:off x="1297080" y="2475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0"/>
          <p:cNvSpPr/>
          <p:nvPr/>
        </p:nvSpPr>
        <p:spPr>
          <a:xfrm>
            <a:off x="1204920" y="277020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"/>
          <p:cNvSpPr/>
          <p:nvPr/>
        </p:nvSpPr>
        <p:spPr>
          <a:xfrm>
            <a:off x="3621240" y="27986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2"/>
          <p:cNvSpPr/>
          <p:nvPr/>
        </p:nvSpPr>
        <p:spPr>
          <a:xfrm>
            <a:off x="3693960" y="2475000"/>
            <a:ext cx="9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7432"/>
          <p:cNvSpPr/>
          <p:nvPr/>
        </p:nvSpPr>
        <p:spPr>
          <a:xfrm>
            <a:off x="193680" y="3500280"/>
            <a:ext cx="8577360" cy="204480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武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声：“快拿酒来！我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二碗。”博得众食客一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6401"/>
          <p:cNvGrpSpPr/>
          <p:nvPr/>
        </p:nvGrpSpPr>
        <p:grpSpPr>
          <a:xfrm>
            <a:off x="2597040" y="3471840"/>
            <a:ext cx="6174000" cy="1436040"/>
            <a:chOff x="2597040" y="3471840"/>
            <a:chExt cx="6174000" cy="1436040"/>
          </a:xfrm>
        </p:grpSpPr>
        <p:sp>
          <p:nvSpPr>
            <p:cNvPr id="445" name="文本框 12"/>
            <p:cNvSpPr/>
            <p:nvPr/>
          </p:nvSpPr>
          <p:spPr>
            <a:xfrm>
              <a:off x="2597040" y="3471840"/>
              <a:ext cx="73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12"/>
            <p:cNvSpPr/>
            <p:nvPr/>
          </p:nvSpPr>
          <p:spPr>
            <a:xfrm>
              <a:off x="8121600" y="3471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12"/>
            <p:cNvSpPr/>
            <p:nvPr/>
          </p:nvSpPr>
          <p:spPr>
            <a:xfrm>
              <a:off x="5867280" y="44481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69640"/>
          <p:cNvSpPr/>
          <p:nvPr/>
        </p:nvSpPr>
        <p:spPr>
          <a:xfrm>
            <a:off x="1476360" y="3068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"/>
          <p:cNvSpPr/>
          <p:nvPr/>
        </p:nvSpPr>
        <p:spPr>
          <a:xfrm>
            <a:off x="419040" y="26049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请孩子们默读课文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到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10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，用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“——”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划出表现炮手神态的句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73735"/>
          <p:cNvSpPr/>
          <p:nvPr/>
        </p:nvSpPr>
        <p:spPr>
          <a:xfrm>
            <a:off x="3348000" y="292428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332000" y="1689120"/>
            <a:ext cx="774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苍白的士兵应道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73737"/>
          <p:cNvSpPr/>
          <p:nvPr/>
        </p:nvSpPr>
        <p:spPr>
          <a:xfrm>
            <a:off x="1332000" y="351000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士兵脸色煞白：“我看到了，将军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73738"/>
          <p:cNvSpPr/>
          <p:nvPr/>
        </p:nvSpPr>
        <p:spPr>
          <a:xfrm>
            <a:off x="1332000" y="4905360"/>
            <a:ext cx="61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惨白了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太阳形 73751"/>
          <p:cNvSpPr/>
          <p:nvPr/>
        </p:nvSpPr>
        <p:spPr>
          <a:xfrm>
            <a:off x="539640" y="1955880"/>
            <a:ext cx="360360" cy="3477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太阳形 73753"/>
          <p:cNvSpPr/>
          <p:nvPr/>
        </p:nvSpPr>
        <p:spPr>
          <a:xfrm>
            <a:off x="539640" y="369108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太阳形 73754"/>
          <p:cNvSpPr/>
          <p:nvPr/>
        </p:nvSpPr>
        <p:spPr>
          <a:xfrm>
            <a:off x="539640" y="507672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53:51Z</dcterms:created>
  <dc:creator>微软用户</dc:creator>
  <dc:description/>
  <dc:language>en-US</dc:language>
  <cp:lastModifiedBy>Lenovo</cp:lastModifiedBy>
  <dcterms:modified xsi:type="dcterms:W3CDTF">2017-04-19T07:30:16Z</dcterms:modified>
  <cp:revision>266</cp:revision>
  <dc:subject/>
  <dc:title>黑孩子罗伯特                        【美国】 玛丽·雷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