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3C6D-2B18-48AB-97CA-2A27C13C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E774-51C8-413D-BCD4-7384AFCE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E77FB-043F-4596-A031-27EB8F52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51030-40AB-4305-8C97-CB8502D2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F6A3F-A8D8-4E42-B038-F8A6906C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D00B3-641B-46E1-A0D0-263E8170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2ADBA-9354-45BA-9CB4-5EE27480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CA8EC-05C6-4386-82E5-F66D9B0F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74AAB-91A1-40D9-8FEB-A41901C5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4E517-D2AC-477E-A456-A918C07C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86F29-513D-4218-A2C9-970234A5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D38AB-3AEE-49F0-9B49-30839AB7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27A6-471B-436B-BC55-326558B2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FC714-8FAD-4A89-A463-72F797AA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03945-9C80-4648-80F5-AA16ACBC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DF1E4-2064-44E2-B5FD-273EEFFE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55528-8286-4373-9181-A38EA602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C40F7-6420-4BFE-B6A8-70FA1D3F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1A1E7-C55A-4A56-BCC5-4DBDB55C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16BD8-C7F3-4256-95B8-8ADCFE42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4E7C7-FD9E-4C4D-8B57-E41D0D29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B6C61-5655-48C8-AF4F-69F47B16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F77E1-58DE-4A5C-8F9A-1B3AFCFE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FE7-A550-4365-BDDE-5B066A35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6F985-6C97-43F0-BFA9-CDC31885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0A2D-D381-4C4E-8417-9A519B1F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A4C7-2610-4297-BBBD-C04FE7AA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C121-90F8-4C04-A6B8-21F122BE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EF14-A5DB-468B-8946-AFDA1BA9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47B5-8EE4-44FB-9BBA-08D0FBDD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8544-01F2-4A08-8942-89EC06DF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0989-4EA4-47D6-A2CA-0F4006EC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C58B-47CB-48A2-A0FA-C3920510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B96C-2561-4AC5-8B2B-01D9DAD9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836E-A8FB-41E6-A2CD-F94B36AB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E69B-44A3-4AE9-B89E-26B72B9E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F863-40B8-413D-9201-C11502A4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3068-2A91-4089-B13B-6493C755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34D44-0E4A-42C7-983C-FFBC94D8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9AD54-A27F-4D3B-BB1E-CD46B7D9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AEAF6-F1DF-49DB-B497-2DC309B0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1AA71-5F88-4788-8315-EB617F4A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A1B34-0FF2-41D1-8F3C-152DDC98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D709-213C-4764-A482-C028C1E2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00F0F-9F0D-4FAD-B671-90B60384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B588F-81D3-42AC-B441-E96A9293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BDBE2-E39C-4059-AF25-3F325C57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D7C25-D94C-4D5A-A305-0AE7FFDC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73537-9B6C-46C2-B7FD-E06E1343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63D84-BD02-4CC6-9604-CFE9E02E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43AFC-DEDA-4850-87F2-58361EE8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B1EDD-D473-436B-8CC3-4D676271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A89D3-15EF-469F-AD35-B253C075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1EB0B-2681-4B54-B768-E3D911A1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627-79AC-4059-989C-10551C0F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199C3-954C-4AEF-AAEB-0EF60D27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78EF6-0EE3-430E-96E1-AFDA7D89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5DE46-E827-4F0F-BEEE-2A1FD797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6E58F-76BE-4BB3-820F-513C816C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6AB05-7CD5-43B7-8F8D-339A539B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181E9-DCC0-4BD3-8B46-DD07C1B9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AEFDF-FCF6-4DC8-B2ED-9647127F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01D66-B21B-4519-8F68-E7F4E66C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D2201-72F1-4F2D-84EB-8CE5B899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6947F-D01D-4639-B75B-CD1A9FFE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13F8-DCDC-4765-8DF9-A964F881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F2408-84D6-4CD0-80E2-C4A9F540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7B67E-3514-4C0A-9C24-A9742685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F3D64-6969-470B-94F7-D3987336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E4F43-AEFD-4D28-B528-2AA8AF4F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E5E4F-A52F-48EF-9D4E-13A38468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7E0E1-066B-496B-970B-A26FC181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AB75B-70D9-42F9-B404-A8C011DD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87118-0EFF-4638-9F86-D55C879B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675FD-538D-405E-A227-F5FBEF8C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8B92E-7F9A-4D04-8895-BBF78163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BE2A-F74C-4879-8608-FF85EAF6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53191-23DC-498D-B230-25ECF970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185DA-701F-44C4-833D-6085CF2BA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8F468-7DE6-4560-87C1-A47743F5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87DF5-210A-41C5-805B-A5FCB91C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53D22-D498-4A30-9231-64FB1025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514EC-50FE-4D7A-BE30-D5574C16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05DF3-600F-4E7D-844F-56A011B2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800BE-5192-4D18-A80C-18EBBDAB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B8E47-1BBF-49E7-9F74-14A13E14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A471C-D7A6-40DA-B4B4-3AA6D5E4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0844-0D9B-483B-AB0B-2C9E8CFC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627C2-A84E-4130-A12C-56504074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E93E7-231F-4959-99DC-DD780099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42E8A-5A94-477D-B705-7454A729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FB1E2-5C74-4C44-BB6C-0F545174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88F98-C1FD-4092-BA28-66A5CE6A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F557C-7889-4742-92EA-E79A1D28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1E712-0F72-4760-A90A-0526E7C4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90CBD-0336-4E51-90B2-48779B4C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86565-345D-46BF-9CA0-EAE27662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51FD8-A220-44C0-B699-F3F289C3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1E7B-E2C2-4E0A-BBEA-DE83B94F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4347F-BED0-4E83-89F5-B50225CD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09144-041F-401C-9B0B-7814FF3A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61AD9-9887-4960-AF79-4595B8CF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67E10-9E04-4DD8-A16E-DB9532BC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3B692-07D2-4E84-BF5B-D95646EB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FEDDE-5C08-4AF3-9874-7A784F36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5E030-5496-4FB6-86BB-4613A3DD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1B8B5-CA95-442D-A10D-43A375A3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404A9-FDD4-4C94-8BC3-9799E765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127E6-0EB9-4CE9-BA3F-B14771F4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442C-7C1F-4111-95BA-0716DC14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E122F-8E71-43D6-BF86-B608E15D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6C449-C201-4B5C-B829-94D3BF6F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4D235-CB8A-4208-8562-2B8393C6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E7411-A2F7-49F6-BA73-A4CFDC14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38AAC-F0F0-4D20-AB37-013F6006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90175-CB90-426F-BBE3-AF61EF9B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79522-7A75-493E-8E43-42214A06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B8CCB-E5D3-4D99-AED0-4BD6E5783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03DA4-6F02-49EC-8760-2AED5F19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DC47D-5127-4D90-A203-85A121F4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B278-486E-4C79-8B6A-E12EF859DC8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B741-55BA-4EA0-AF61-927A87517E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F586-F597-4AC7-B3CC-4FE797F2E6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3339-0A2E-407E-A02F-0047D5DF56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F21A-6A6A-483F-80D2-DBE9972607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C360-AF8A-4561-8E23-C416CA3764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05F4-2D89-4050-99AE-B64E1C90F9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6AC5-AA06-442C-918C-4096BC3F98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381C-CB56-41D0-830E-B476F62508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0623-1F2D-4200-8F52-468EA91073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8FAA-DDB6-4AD2-9C56-6D45DF35D5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5"/>
          <p:cNvSpPr/>
          <p:nvPr/>
        </p:nvSpPr>
        <p:spPr>
          <a:xfrm>
            <a:off x="0" y="558972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双流县东升迎春小学     蒋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13318"/>
          <p:cNvSpPr txBox="1"/>
          <p:nvPr/>
        </p:nvSpPr>
        <p:spPr>
          <a:xfrm>
            <a:off x="1116000" y="1628640"/>
            <a:ext cx="685800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北师大版教材小学语文三年级下册</a:t>
            </a:r>
            <a:endParaRPr b="1" lang="en-US" sz="1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12" name="矩形 13319"/>
          <p:cNvSpPr txBox="1"/>
          <p:nvPr/>
        </p:nvSpPr>
        <p:spPr>
          <a:xfrm>
            <a:off x="2484360" y="2421000"/>
            <a:ext cx="144000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楷体_GB2312"/>
              </a:rPr>
              <a:t>炮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楷体_GB2312"/>
              <a:ea typeface="楷体_GB2312"/>
            </a:endParaRPr>
          </a:p>
        </p:txBody>
      </p:sp>
      <p:sp>
        <p:nvSpPr>
          <p:cNvPr id="413" name="矩形 13321"/>
          <p:cNvSpPr txBox="1"/>
          <p:nvPr/>
        </p:nvSpPr>
        <p:spPr>
          <a:xfrm>
            <a:off x="5533920" y="2327400"/>
            <a:ext cx="1416240" cy="180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楷体_GB2312"/>
              </a:rPr>
              <a:t>手</a:t>
            </a:r>
            <a:endParaRPr b="1" lang="en-US" sz="5400" spc="-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楷体_GB2312"/>
              <a:ea typeface="楷体_GB2312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6"/>
          <p:cNvSpPr/>
          <p:nvPr/>
        </p:nvSpPr>
        <p:spPr>
          <a:xfrm>
            <a:off x="276120" y="1290600"/>
            <a:ext cx="872496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将军用望远镜仔细地瞭望着河对岸的小村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喂，炮手！”将军没有回头，高声叫道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④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是，将军！”一个脸色    的士兵应道。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26638"/>
          <p:cNvSpPr txBox="1"/>
          <p:nvPr/>
        </p:nvSpPr>
        <p:spPr>
          <a:xfrm rot="20925600">
            <a:off x="3492360" y="5911920"/>
            <a:ext cx="64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latin typeface="宋体"/>
              </a:rPr>
              <a:t> </a:t>
            </a:r>
            <a:endParaRPr b="1" lang="en-US" sz="1600" spc="1" strike="noStrike">
              <a:ln w="9360">
                <a:solidFill>
                  <a:srgbClr val="ff6600"/>
                </a:solidFill>
                <a:round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461" name="矩形 26639"/>
          <p:cNvSpPr txBox="1"/>
          <p:nvPr/>
        </p:nvSpPr>
        <p:spPr>
          <a:xfrm rot="21469200">
            <a:off x="1116000" y="5950080"/>
            <a:ext cx="647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latin typeface="宋体"/>
              </a:rPr>
              <a:t> </a:t>
            </a:r>
            <a:endParaRPr b="1" lang="en-US" sz="1600" spc="1" strike="noStrike">
              <a:ln w="9360">
                <a:solidFill>
                  <a:srgbClr val="ff6600"/>
                </a:solidFill>
                <a:round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462" name="矩形 20489"/>
          <p:cNvSpPr/>
          <p:nvPr/>
        </p:nvSpPr>
        <p:spPr>
          <a:xfrm>
            <a:off x="6847920" y="4935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苍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370160" y="3887640"/>
            <a:ext cx="6403680" cy="17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图片1"/>
          <p:cNvPicPr/>
          <p:nvPr/>
        </p:nvPicPr>
        <p:blipFill>
          <a:blip r:embed="rId1"/>
          <a:stretch/>
        </p:blipFill>
        <p:spPr>
          <a:xfrm>
            <a:off x="-32400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324000" y="1557360"/>
            <a:ext cx="8640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7"/>
          <p:cNvSpPr/>
          <p:nvPr/>
        </p:nvSpPr>
        <p:spPr>
          <a:xfrm>
            <a:off x="-9360" y="1557360"/>
            <a:ext cx="882936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⑤“</a:t>
            </a: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你看到那座桥了吗？”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⑥“</a:t>
            </a: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看得很清楚，将军。”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⑦“</a:t>
            </a: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看到左边的农舍了吗？就在丛林后面，那座红瓦白墙的房子。”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⑧</a:t>
            </a: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士兵脸色     </a:t>
            </a:r>
            <a:r>
              <a:rPr b="1" lang="zh-CN" sz="3800" spc="-1" strike="noStrike">
                <a:solidFill>
                  <a:srgbClr val="000000"/>
                </a:solidFill>
                <a:latin typeface="楷体"/>
                <a:ea typeface="楷体"/>
              </a:rPr>
              <a:t>：“我看到了，将军。”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21511"/>
          <p:cNvSpPr/>
          <p:nvPr/>
        </p:nvSpPr>
        <p:spPr>
          <a:xfrm>
            <a:off x="2590920" y="5321160"/>
            <a:ext cx="129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煞白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7"/>
          <p:cNvSpPr/>
          <p:nvPr/>
        </p:nvSpPr>
        <p:spPr>
          <a:xfrm>
            <a:off x="225360" y="1274760"/>
            <a:ext cx="8629560" cy="32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⑨“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这是德军的一个驻地，伙计，给它一炮！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炮手的脸色更加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 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这时，裹着大衣的军官们在凛冽的寒风中打颤，可炮手的前额却滚下了大粒的汗珠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他服从了命令，仔细瞄准目标，开了一炮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28680"/>
          <p:cNvSpPr/>
          <p:nvPr/>
        </p:nvSpPr>
        <p:spPr>
          <a:xfrm>
            <a:off x="755640" y="3559320"/>
            <a:ext cx="54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3"/>
          <p:cNvSpPr/>
          <p:nvPr/>
        </p:nvSpPr>
        <p:spPr>
          <a:xfrm>
            <a:off x="5129280" y="1908000"/>
            <a:ext cx="33368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面如土色      面如死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面无血色      血色全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5"/>
          <p:cNvSpPr/>
          <p:nvPr/>
        </p:nvSpPr>
        <p:spPr>
          <a:xfrm>
            <a:off x="4351320" y="30160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惨白</a:t>
            </a:r>
            <a:r>
              <a:rPr b="1" lang="en-US" sz="2800" spc="-1" strike="noStrike">
                <a:solidFill>
                  <a:srgbClr val="ff3300"/>
                </a:solidFill>
                <a:latin typeface="楷体"/>
                <a:ea typeface="楷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7"/>
          <p:cNvSpPr/>
          <p:nvPr/>
        </p:nvSpPr>
        <p:spPr>
          <a:xfrm>
            <a:off x="225360" y="1274760"/>
            <a:ext cx="8629560" cy="32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⑨“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这是德军的一个驻地，伙计，给它一炮！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炮手的脸色更加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惨白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这时，裹着大衣的军官们在凛冽的寒风中打颤，可炮手的前额却滚下了大粒的汗珠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他服从了命令，仔细瞄准目标，开了一炮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28680"/>
          <p:cNvSpPr/>
          <p:nvPr/>
        </p:nvSpPr>
        <p:spPr>
          <a:xfrm>
            <a:off x="755640" y="3559320"/>
            <a:ext cx="54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7"/>
          <p:cNvSpPr/>
          <p:nvPr/>
        </p:nvSpPr>
        <p:spPr>
          <a:xfrm>
            <a:off x="225360" y="1274760"/>
            <a:ext cx="865836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ff"/>
                </a:solidFill>
                <a:latin typeface="楷体"/>
                <a:ea typeface="楷体"/>
              </a:rPr>
              <a:t>炮手的脸色更加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     了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楷体"/>
                <a:ea typeface="楷体"/>
              </a:rPr>
              <a:t>这时，裹着大衣的军官们在凛冽的寒风中打颤，可炮手的前额却滚下了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大粒的汗珠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28680"/>
          <p:cNvSpPr/>
          <p:nvPr/>
        </p:nvSpPr>
        <p:spPr>
          <a:xfrm>
            <a:off x="755640" y="3559320"/>
            <a:ext cx="54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5"/>
          <p:cNvSpPr/>
          <p:nvPr/>
        </p:nvSpPr>
        <p:spPr>
          <a:xfrm>
            <a:off x="5102280" y="2403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惨白</a:t>
            </a:r>
            <a:r>
              <a:rPr b="1" lang="en-US" sz="2800" spc="-1" strike="noStrike">
                <a:solidFill>
                  <a:srgbClr val="ff3300"/>
                </a:solidFill>
                <a:latin typeface="楷体"/>
                <a:ea typeface="楷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矩形 75779"/>
          <p:cNvSpPr/>
          <p:nvPr/>
        </p:nvSpPr>
        <p:spPr>
          <a:xfrm>
            <a:off x="826920" y="2924280"/>
            <a:ext cx="792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他服从了命令，仔细瞄准目标，开了一炮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圆角矩形 44045"/>
          <p:cNvSpPr/>
          <p:nvPr/>
        </p:nvSpPr>
        <p:spPr>
          <a:xfrm>
            <a:off x="1476360" y="1916280"/>
            <a:ext cx="5832360" cy="396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图片 44044" descr="jf13116ahc99538"/>
          <p:cNvPicPr/>
          <p:nvPr/>
        </p:nvPicPr>
        <p:blipFill>
          <a:blip r:embed="rId1"/>
          <a:srcRect l="0" t="0" r="0" b="12000"/>
          <a:stretch/>
        </p:blipFill>
        <p:spPr>
          <a:xfrm>
            <a:off x="2627280" y="2276640"/>
            <a:ext cx="3600360" cy="3168360"/>
          </a:xfrm>
          <a:prstGeom prst="rect">
            <a:avLst/>
          </a:prstGeom>
          <a:ln w="0">
            <a:noFill/>
          </a:ln>
        </p:spPr>
      </p:pic>
      <p:sp>
        <p:nvSpPr>
          <p:cNvPr id="417" name="矩形 44046"/>
          <p:cNvSpPr txBox="1"/>
          <p:nvPr/>
        </p:nvSpPr>
        <p:spPr>
          <a:xfrm>
            <a:off x="1763640" y="2060640"/>
            <a:ext cx="14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cc99ff"/>
                    </a:gs>
                    <a:gs pos="50000">
                      <a:srgbClr val="ffffff"/>
                    </a:gs>
                    <a:gs pos="100000">
                      <a:srgbClr val="cc99ff"/>
                    </a:gs>
                  </a:gsLst>
                  <a:lin ang="5400000"/>
                </a:gradFill>
                <a:latin typeface="黑体"/>
              </a:rPr>
              <a:t>猜一猜</a:t>
            </a:r>
            <a:endParaRPr b="1" lang="en-US" sz="16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cc99ff"/>
                  </a:gs>
                  <a:gs pos="50000">
                    <a:srgbClr val="ffffff"/>
                  </a:gs>
                  <a:gs pos="100000">
                    <a:srgbClr val="cc99ff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圆角矩形 77825"/>
          <p:cNvSpPr/>
          <p:nvPr/>
        </p:nvSpPr>
        <p:spPr>
          <a:xfrm>
            <a:off x="1332000" y="1916280"/>
            <a:ext cx="5976720" cy="4033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图片 77829" descr="t013e3a0aaf8e425269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3132000" y="2133720"/>
            <a:ext cx="28576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圆角矩形 76803"/>
          <p:cNvSpPr/>
          <p:nvPr/>
        </p:nvSpPr>
        <p:spPr>
          <a:xfrm>
            <a:off x="162000" y="563400"/>
            <a:ext cx="8820000" cy="57312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图片 76804" descr="t013e3a0aaf8e425269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422280" y="2467080"/>
            <a:ext cx="1728720" cy="2087280"/>
          </a:xfrm>
          <a:prstGeom prst="rect">
            <a:avLst/>
          </a:prstGeom>
          <a:ln w="0">
            <a:noFill/>
          </a:ln>
        </p:spPr>
      </p:pic>
      <p:sp>
        <p:nvSpPr>
          <p:cNvPr id="422" name="文本框 76805"/>
          <p:cNvSpPr/>
          <p:nvPr/>
        </p:nvSpPr>
        <p:spPr>
          <a:xfrm>
            <a:off x="2538360" y="946080"/>
            <a:ext cx="6156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指人的前肢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：手脚、挥手、左手、手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76807"/>
          <p:cNvSpPr/>
          <p:nvPr/>
        </p:nvSpPr>
        <p:spPr>
          <a:xfrm>
            <a:off x="2644920" y="2257560"/>
            <a:ext cx="59450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2.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指招式、方法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：手段、手法、手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76808"/>
          <p:cNvSpPr/>
          <p:nvPr/>
        </p:nvSpPr>
        <p:spPr>
          <a:xfrm>
            <a:off x="2590920" y="3568680"/>
            <a:ext cx="6051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指量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：留一手、有一手、一手好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76809"/>
          <p:cNvSpPr/>
          <p:nvPr/>
        </p:nvSpPr>
        <p:spPr>
          <a:xfrm>
            <a:off x="2538360" y="4976640"/>
            <a:ext cx="57373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指名词，表示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：能手、对手、枪手、炮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611280" y="2671920"/>
            <a:ext cx="845964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读通读顺课文，不认识的字想办法解决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思考课文讲了一件什么事？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组合 15370"/>
          <p:cNvGrpSpPr/>
          <p:nvPr/>
        </p:nvGrpSpPr>
        <p:grpSpPr>
          <a:xfrm>
            <a:off x="0" y="1413000"/>
            <a:ext cx="3492000" cy="1152360"/>
            <a:chOff x="0" y="1413000"/>
            <a:chExt cx="3492000" cy="1152360"/>
          </a:xfrm>
        </p:grpSpPr>
        <p:pic>
          <p:nvPicPr>
            <p:cNvPr id="429" name="图片 21515" descr="20160324204605_b387918835e54b0e132161f337ffd55e_1"/>
            <p:cNvPicPr/>
            <p:nvPr/>
          </p:nvPicPr>
          <p:blipFill>
            <a:blip r:embed="rId1"/>
            <a:srcRect l="6816" t="0" r="18191" b="8435"/>
            <a:stretch/>
          </p:blipFill>
          <p:spPr>
            <a:xfrm>
              <a:off x="0" y="1413000"/>
              <a:ext cx="109224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矩形 15367"/>
            <p:cNvSpPr txBox="1"/>
            <p:nvPr/>
          </p:nvSpPr>
          <p:spPr>
            <a:xfrm>
              <a:off x="1290600" y="1413000"/>
              <a:ext cx="1837080" cy="833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50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0000ff"/>
                  </a:solidFill>
                  <a:latin typeface="宋体"/>
                </a:rPr>
                <a:t>自读要求</a:t>
              </a:r>
              <a:endParaRPr b="1" lang="en-US" sz="4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0000ff"/>
                </a:solidFill>
                <a:latin typeface="宋体"/>
                <a:ea typeface="宋体"/>
              </a:endParaRPr>
            </a:p>
          </p:txBody>
        </p:sp>
        <p:sp>
          <p:nvSpPr>
            <p:cNvPr id="431" name="矩形 15368"/>
            <p:cNvSpPr/>
            <p:nvPr/>
          </p:nvSpPr>
          <p:spPr>
            <a:xfrm>
              <a:off x="515520" y="2276640"/>
              <a:ext cx="2612160" cy="72720"/>
            </a:xfrm>
            <a:prstGeom prst="rect">
              <a:avLst/>
            </a:prstGeom>
            <a:solidFill>
              <a:srgbClr val="ff6600">
                <a:alpha val="4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矩形 15369"/>
            <p:cNvSpPr/>
            <p:nvPr/>
          </p:nvSpPr>
          <p:spPr>
            <a:xfrm>
              <a:off x="1183320" y="2494080"/>
              <a:ext cx="2308680" cy="71280"/>
            </a:xfrm>
            <a:prstGeom prst="rect">
              <a:avLst/>
            </a:prstGeom>
            <a:solidFill>
              <a:srgbClr val="ffcc00">
                <a:alpha val="7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文本框 2"/>
          <p:cNvSpPr/>
          <p:nvPr/>
        </p:nvSpPr>
        <p:spPr>
          <a:xfrm>
            <a:off x="1204920" y="1387440"/>
            <a:ext cx="168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侵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入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8"/>
          <p:cNvSpPr/>
          <p:nvPr/>
        </p:nvSpPr>
        <p:spPr>
          <a:xfrm>
            <a:off x="1403280" y="5610240"/>
            <a:ext cx="130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苍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9"/>
          <p:cNvSpPr/>
          <p:nvPr/>
        </p:nvSpPr>
        <p:spPr>
          <a:xfrm>
            <a:off x="3546360" y="5610240"/>
            <a:ext cx="131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煞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10"/>
          <p:cNvSpPr/>
          <p:nvPr/>
        </p:nvSpPr>
        <p:spPr>
          <a:xfrm>
            <a:off x="5427720" y="5610240"/>
            <a:ext cx="131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惨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13"/>
          <p:cNvSpPr/>
          <p:nvPr/>
        </p:nvSpPr>
        <p:spPr>
          <a:xfrm>
            <a:off x="3914640" y="1387440"/>
            <a:ext cx="16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瞭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望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3"/>
          <p:cNvSpPr/>
          <p:nvPr/>
        </p:nvSpPr>
        <p:spPr>
          <a:xfrm>
            <a:off x="6392880" y="138744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打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颤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12"/>
          <p:cNvSpPr/>
          <p:nvPr/>
        </p:nvSpPr>
        <p:spPr>
          <a:xfrm>
            <a:off x="1297080" y="2475000"/>
            <a:ext cx="9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10"/>
          <p:cNvSpPr/>
          <p:nvPr/>
        </p:nvSpPr>
        <p:spPr>
          <a:xfrm>
            <a:off x="1204920" y="2770200"/>
            <a:ext cx="131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彩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10"/>
          <p:cNvSpPr/>
          <p:nvPr/>
        </p:nvSpPr>
        <p:spPr>
          <a:xfrm>
            <a:off x="3621240" y="2798640"/>
            <a:ext cx="131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水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12"/>
          <p:cNvSpPr/>
          <p:nvPr/>
        </p:nvSpPr>
        <p:spPr>
          <a:xfrm>
            <a:off x="3693960" y="2475000"/>
            <a:ext cx="94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7432"/>
          <p:cNvSpPr/>
          <p:nvPr/>
        </p:nvSpPr>
        <p:spPr>
          <a:xfrm>
            <a:off x="193680" y="3500280"/>
            <a:ext cx="8577360" cy="2044800"/>
          </a:xfrm>
          <a:prstGeom prst="rect">
            <a:avLst/>
          </a:prstGeom>
          <a:solidFill>
            <a:srgbClr val="ccffcc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武松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大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声：“快拿酒来！我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十二碗。”博得众食客一阵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喝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组合 16401"/>
          <p:cNvGrpSpPr/>
          <p:nvPr/>
        </p:nvGrpSpPr>
        <p:grpSpPr>
          <a:xfrm>
            <a:off x="2597040" y="3471840"/>
            <a:ext cx="6174000" cy="1436040"/>
            <a:chOff x="2597040" y="3471840"/>
            <a:chExt cx="6174000" cy="1436040"/>
          </a:xfrm>
        </p:grpSpPr>
        <p:sp>
          <p:nvSpPr>
            <p:cNvPr id="445" name="文本框 12"/>
            <p:cNvSpPr/>
            <p:nvPr/>
          </p:nvSpPr>
          <p:spPr>
            <a:xfrm>
              <a:off x="2597040" y="3471840"/>
              <a:ext cx="73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hè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文本框 12"/>
            <p:cNvSpPr/>
            <p:nvPr/>
          </p:nvSpPr>
          <p:spPr>
            <a:xfrm>
              <a:off x="8121600" y="347184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ē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文本框 12"/>
            <p:cNvSpPr/>
            <p:nvPr/>
          </p:nvSpPr>
          <p:spPr>
            <a:xfrm>
              <a:off x="5867280" y="444816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hè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69640"/>
          <p:cNvSpPr/>
          <p:nvPr/>
        </p:nvSpPr>
        <p:spPr>
          <a:xfrm>
            <a:off x="1476360" y="306864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课文讲了一件什么事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3"/>
          <p:cNvSpPr/>
          <p:nvPr/>
        </p:nvSpPr>
        <p:spPr>
          <a:xfrm>
            <a:off x="419040" y="260496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请孩子们默读课文第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自然段到第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10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自然段，用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“——”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划出表现炮手神态的句子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文本框 73735"/>
          <p:cNvSpPr/>
          <p:nvPr/>
        </p:nvSpPr>
        <p:spPr>
          <a:xfrm>
            <a:off x="3348000" y="2924280"/>
            <a:ext cx="3095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1332000" y="1689120"/>
            <a:ext cx="7743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是，将军！”一个脸色苍白的士兵应道 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73737"/>
          <p:cNvSpPr/>
          <p:nvPr/>
        </p:nvSpPr>
        <p:spPr>
          <a:xfrm>
            <a:off x="1332000" y="3510000"/>
            <a:ext cx="749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士兵脸色煞白：“我看到了，将军。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73738"/>
          <p:cNvSpPr/>
          <p:nvPr/>
        </p:nvSpPr>
        <p:spPr>
          <a:xfrm>
            <a:off x="1332000" y="4905360"/>
            <a:ext cx="618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炮手的脸色更加惨白了 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太阳形 73751"/>
          <p:cNvSpPr/>
          <p:nvPr/>
        </p:nvSpPr>
        <p:spPr>
          <a:xfrm>
            <a:off x="539640" y="1955880"/>
            <a:ext cx="360360" cy="3477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太阳形 73753"/>
          <p:cNvSpPr/>
          <p:nvPr/>
        </p:nvSpPr>
        <p:spPr>
          <a:xfrm>
            <a:off x="539640" y="3691080"/>
            <a:ext cx="360360" cy="3603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太阳形 73754"/>
          <p:cNvSpPr/>
          <p:nvPr/>
        </p:nvSpPr>
        <p:spPr>
          <a:xfrm>
            <a:off x="539640" y="5076720"/>
            <a:ext cx="360360" cy="3603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3:53:51Z</dcterms:created>
  <dc:creator>微软用户</dc:creator>
  <dc:description/>
  <dc:language>en-US</dc:language>
  <cp:lastModifiedBy>Lenovo</cp:lastModifiedBy>
  <dcterms:modified xsi:type="dcterms:W3CDTF">2017-04-19T07:30:16Z</dcterms:modified>
  <cp:revision>266</cp:revision>
  <dc:subject/>
  <dc:title>黑孩子罗伯特                        【美国】 玛丽·雷蒙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