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3C5-9E1E-4320-A6B7-2DE9B8ED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C8F-5A90-4126-87FA-1CAC4314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0DB6F-6C81-4399-B35F-6F0CC55A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4F6AA-EC5B-4D54-8AF3-321ABAE3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C87C6-57D8-457F-A5A0-DD55E9F8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A643B-8295-480C-9116-F88C61D0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75273-7EBC-48F9-9CC6-0A4302A1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C669F-C3EA-488D-99DC-F215F9DE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6C8A9-5887-4952-8C51-73400C6D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2F74C-4016-4381-8076-6AFDB940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02D54-C368-4C0A-9A90-90135FD9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16BC5-79F8-43BF-9FF5-72A2A60C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513-19F1-4E9D-AF16-92AEBC0F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8F729-32D3-40BB-9802-1358035E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613BB-37F4-4EDE-928A-6BD6E4A8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445D9-29A3-4DDF-B531-B0AB1603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E2711-A04C-455C-A836-33B3C0D3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84E02-652B-4F9A-940A-508E2E8E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94139-7DEF-457E-BE77-1A57EBF1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50642-677D-4202-8C4B-59DFEB54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AE27C-ADC8-478B-B016-F2120FDA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61F0D-E734-455C-B0B7-1589E696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A2979-DC47-458C-B2CF-0883F7DD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6F2-7208-4571-B9A4-C32BE362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C2429-2913-4A88-851E-4BF94C54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43FC-06D9-4A6C-879A-C61CE0FC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84FF-B6F1-44E6-8EBC-E7528417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3D8D-E170-4A04-981A-BFFA835F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DB44-B794-479B-8647-77CE126E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BAFC-6CB1-47C5-9DDE-C67B8990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F060-4D79-48D0-96BE-25727A24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2899-4E5F-43AE-9E77-A484E6C0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0EA-FA8D-4A00-941B-16B9DBA9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4627-E8B1-43D9-AE17-7ECAB5FE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47A2-1ABD-4CAC-A505-BFEE7833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1D04-13B5-49AB-BF0D-A4200992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818D-BDD3-4E9D-86C1-FBDE14A3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36E1-2AE7-45F4-BA7A-BF9F6EE2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34E4-DAA6-47A1-8688-99ED0FBF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4028-C8EC-4322-810A-DF0EDD85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032C4-3F78-4F0E-8847-80CEFD76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7284-B6FF-483F-B5FD-AE0FFC8F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C7C5-1F5B-4E40-AB98-BF60B703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8B3-9E60-413F-99DC-40F829B9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42DC-0E25-4540-86B3-1DE5C620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CBC3-AA82-4514-8E4B-27881228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5EA4-1E95-4570-B5D1-30EF36E4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EEAE-0877-489C-BC6D-7B9EB2F3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E35BF-0887-4880-AEC6-EAF81735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D03C-9D7B-4B26-B685-F61E5EB1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CF71-027A-4A54-9426-5616190F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AF99F-E090-4AF5-897B-474770AF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FDAAB-BE86-4AF6-8237-54CB5A92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5861-BDC3-4C48-AB24-127883C5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6DB-E2A8-497F-B5F9-C3DB68E3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47496-BB00-4EC6-A67E-770D2652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E274D-89FA-4A8C-AD34-FEBA8D5E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8DC7-6608-4883-BAAE-C88C0559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8573-7334-4BA3-B417-7B9F1F89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EEA3C-72F6-475E-B56E-5C022D7A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8E6E6-879E-4476-88BE-0C01417D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D9C8C-DFAF-4029-A8E1-A6AAC6D6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272C-EF05-48A4-8FF7-CD446A52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7FF3-F5EB-4D20-9328-44FDBE64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695AA-5101-4FB4-B0B9-E5EF0ACA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B4B-0006-44E6-A915-7A22840D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D327C-4E34-4EA9-911F-101D498C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55EDB-CFD5-4377-8BD0-E03F293B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A12C9-B62C-4FA9-9A77-D5E502E2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44B61-1226-42C8-AD2C-C1AE3CC8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E5138-442C-4FA0-937C-A2DC2A33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BE071-E04B-42FF-AD11-ED51C30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67796-7AE7-4BB5-B84C-9829F87F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880F8-D2A9-4B6F-951E-2B593664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01D4-DF9C-4907-96BE-9649414A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20739-B7F0-43F8-AF69-1D6B0CB4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21A-C7DA-465B-BA45-CB08A8EB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0A27-961C-4488-A7C9-CB2C1943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082DB-084E-4C46-A23A-088A640B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537D3-BD1A-45FA-ACA8-A0381B1A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16253-585D-41DD-B495-ACDDFD9A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986FE-EF1C-4D71-8F33-D5F02D9F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875E3-0F00-4CFE-9D46-91329E1A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04E1-5191-4815-9B9B-23558074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BDAB8-6C66-4FC3-B4FD-8DE46A89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B9EFF-C9FA-4176-BC97-A1D658E9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41AB1-343B-471D-92A5-CEA79BD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CFE-34C4-4999-97A4-E60A596C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BC4AE-0BE7-45C6-A244-124C3993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A3863-898B-425D-AD32-10FD9758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A4E2E-0E44-4F1A-9D23-71445E66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E544D-49DD-4BBC-8D05-50BD743E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058E6-931D-4ABF-BF57-1B5CC634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F9FFD-92EF-4577-AB45-14884BDF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671ED-A2DD-4BD8-9081-4A1C0D80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6AD09-DD41-4EDD-ACF6-242F12A5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9D246-6F22-41A0-89AF-76E60F7B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2B15F-C537-463E-BB2F-14D83A6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A99-EBF2-4A2B-9253-DEA3F926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6172F-7918-4247-9AB9-58CF68F8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6FD59-E985-4BF4-81D7-D98E3328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3D0DE-2624-418B-B2EF-B26ACCFF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125E6-5F4E-4176-BCA4-77B2AE14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3361B-8B06-4B28-AF05-FDFEAC0B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D6DE2-5FBD-4AB7-9674-14158D0C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5C31F-58C4-4316-B14E-600E6A7A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42FF9-F3FA-4B05-8656-0B6C026B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3595E-31DD-4C69-AC8F-2F7AE0C7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8F97-82EC-423F-9A79-CCC91D8A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CB2-3298-41FD-A53C-28A3AB9C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3C985-D1E1-4DF2-8696-4F5D1E6A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4A75F-C38E-4937-8EAE-6EDD424D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55AE8-89FF-433C-A69A-52A59952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9C1BA-50A0-441C-A8D8-31D59150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A6EA9-440F-4318-976F-80B66628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687D9-53E5-409A-AA7F-FBFAFAAB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230E9-D300-4ACF-AC0F-5619FE19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80601-310A-4378-A593-8CA2D25B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0F096-06DF-43AB-87F6-3D700A21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269E8-26A4-49B0-8DEF-0A22C508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EE32-0296-47F2-A03D-24B73458176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E40D-23F2-4A44-A8AD-7EF4BD020F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CD61-1A38-4133-8E2B-AF381D9FAD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84AB-209A-479F-81DB-D77C2A1CB6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73F3-C663-4E33-85A9-89591C3B95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3C80-8CAA-43F3-8366-DCA52FB122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8FF5-6698-4E18-837D-CC5F7AA542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42AF-3EBE-4759-ACC4-954D3FC8A2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F19B-D1D0-4275-A6B2-CF5C869343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CBCA-9A30-46A9-8357-15FCF2B57D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32E7-4AE6-4F9A-A5A1-8B2DD4C824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5"/>
          <p:cNvSpPr/>
          <p:nvPr/>
        </p:nvSpPr>
        <p:spPr>
          <a:xfrm>
            <a:off x="0" y="558972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双流县东升迎春小学     蒋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3318"/>
          <p:cNvSpPr txBox="1"/>
          <p:nvPr/>
        </p:nvSpPr>
        <p:spPr>
          <a:xfrm>
            <a:off x="1116000" y="1628640"/>
            <a:ext cx="68580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北师大版教材小学语文三年级下册</a:t>
            </a:r>
            <a:endParaRPr b="1" lang="en-US" sz="1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12" name="矩形 13319"/>
          <p:cNvSpPr txBox="1"/>
          <p:nvPr/>
        </p:nvSpPr>
        <p:spPr>
          <a:xfrm>
            <a:off x="2484360" y="2421000"/>
            <a:ext cx="14400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炮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  <p:sp>
        <p:nvSpPr>
          <p:cNvPr id="413" name="矩形 13321"/>
          <p:cNvSpPr txBox="1"/>
          <p:nvPr/>
        </p:nvSpPr>
        <p:spPr>
          <a:xfrm>
            <a:off x="5533920" y="2327400"/>
            <a:ext cx="141624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楷体_GB2312"/>
              </a:rPr>
              <a:t>手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楷体_GB2312"/>
              <a:ea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6"/>
          <p:cNvSpPr/>
          <p:nvPr/>
        </p:nvSpPr>
        <p:spPr>
          <a:xfrm>
            <a:off x="276120" y="1290600"/>
            <a:ext cx="87249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将军用望远镜仔细地瞭望着河对岸的小村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喂，炮手！”将军没有回头，高声叫道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④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    的士兵应道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26638"/>
          <p:cNvSpPr txBox="1"/>
          <p:nvPr/>
        </p:nvSpPr>
        <p:spPr>
          <a:xfrm rot="20925600">
            <a:off x="3492360" y="5911920"/>
            <a:ext cx="6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1" name="矩形 26639"/>
          <p:cNvSpPr txBox="1"/>
          <p:nvPr/>
        </p:nvSpPr>
        <p:spPr>
          <a:xfrm rot="21469200">
            <a:off x="1116000" y="5950080"/>
            <a:ext cx="64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 </a:t>
            </a:r>
            <a:endParaRPr b="1" lang="en-US" sz="16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462" name="矩形 20489"/>
          <p:cNvSpPr/>
          <p:nvPr/>
        </p:nvSpPr>
        <p:spPr>
          <a:xfrm>
            <a:off x="6847920" y="4935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0160" y="3887640"/>
            <a:ext cx="640368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324000" y="155736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-9360" y="1557360"/>
            <a:ext cx="8829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⑤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你看到那座桥了吗？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⑥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得很清楚，将军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⑦“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看到左边的农舍了吗？就在丛林后面，那座红瓦白墙的房子。”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⑧</a:t>
            </a: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士兵脸色     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：“我看到了，将军。”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1511"/>
          <p:cNvSpPr/>
          <p:nvPr/>
        </p:nvSpPr>
        <p:spPr>
          <a:xfrm>
            <a:off x="2590920" y="532116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"/>
          <p:cNvSpPr/>
          <p:nvPr/>
        </p:nvSpPr>
        <p:spPr>
          <a:xfrm>
            <a:off x="5129280" y="1908000"/>
            <a:ext cx="3336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如土色      面如死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面无血色      血色全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5"/>
          <p:cNvSpPr/>
          <p:nvPr/>
        </p:nvSpPr>
        <p:spPr>
          <a:xfrm>
            <a:off x="4351320" y="3016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7"/>
          <p:cNvSpPr/>
          <p:nvPr/>
        </p:nvSpPr>
        <p:spPr>
          <a:xfrm>
            <a:off x="225360" y="1274760"/>
            <a:ext cx="862956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⑨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这是德军的一个驻地，伙计，给它一炮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惨白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这时，裹着大衣的军官们在凛冽的寒风中打颤，可炮手的前额却滚下了大粒的汗珠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他服从了命令，仔细瞄准目标，开了一炮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7"/>
          <p:cNvSpPr/>
          <p:nvPr/>
        </p:nvSpPr>
        <p:spPr>
          <a:xfrm>
            <a:off x="225360" y="1274760"/>
            <a:ext cx="86583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炮手的脸色更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     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这时，裹着大衣的军官们在凛冽的寒风中打颤，可炮手的前额却滚下了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大粒的汗珠</a:t>
            </a: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8680"/>
          <p:cNvSpPr/>
          <p:nvPr/>
        </p:nvSpPr>
        <p:spPr>
          <a:xfrm>
            <a:off x="755640" y="355932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5"/>
          <p:cNvSpPr/>
          <p:nvPr/>
        </p:nvSpPr>
        <p:spPr>
          <a:xfrm>
            <a:off x="5102280" y="240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惨白</a:t>
            </a:r>
            <a:r>
              <a:rPr b="1" lang="en-US" sz="2800" spc="-1" strike="noStrike">
                <a:solidFill>
                  <a:srgbClr val="ff3300"/>
                </a:solidFill>
                <a:latin typeface="楷体"/>
                <a:ea typeface="楷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矩形 75779"/>
          <p:cNvSpPr/>
          <p:nvPr/>
        </p:nvSpPr>
        <p:spPr>
          <a:xfrm>
            <a:off x="826920" y="2924280"/>
            <a:ext cx="79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他服从了命令，仔细瞄准目标，开了一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圆角矩形 44045"/>
          <p:cNvSpPr/>
          <p:nvPr/>
        </p:nvSpPr>
        <p:spPr>
          <a:xfrm>
            <a:off x="1476360" y="1916280"/>
            <a:ext cx="5832360" cy="39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图片 44044" descr="jf13116ahc99538"/>
          <p:cNvPicPr/>
          <p:nvPr/>
        </p:nvPicPr>
        <p:blipFill>
          <a:blip r:embed="rId1"/>
          <a:srcRect l="0" t="0" r="0" b="12000"/>
          <a:stretch/>
        </p:blipFill>
        <p:spPr>
          <a:xfrm>
            <a:off x="2627280" y="2276640"/>
            <a:ext cx="3600360" cy="3168360"/>
          </a:xfrm>
          <a:prstGeom prst="rect">
            <a:avLst/>
          </a:prstGeom>
          <a:ln w="0">
            <a:noFill/>
          </a:ln>
        </p:spPr>
      </p:pic>
      <p:sp>
        <p:nvSpPr>
          <p:cNvPr id="417" name="矩形 44046"/>
          <p:cNvSpPr txBox="1"/>
          <p:nvPr/>
        </p:nvSpPr>
        <p:spPr>
          <a:xfrm>
            <a:off x="1763640" y="206064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latin typeface="黑体"/>
              </a:rPr>
              <a:t>猜一猜</a:t>
            </a:r>
            <a:endParaRPr b="1" lang="en-US" sz="16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圆角矩形 77825"/>
          <p:cNvSpPr/>
          <p:nvPr/>
        </p:nvSpPr>
        <p:spPr>
          <a:xfrm>
            <a:off x="1332000" y="1916280"/>
            <a:ext cx="597672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77829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3132000" y="2133720"/>
            <a:ext cx="285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圆角矩形 76803"/>
          <p:cNvSpPr/>
          <p:nvPr/>
        </p:nvSpPr>
        <p:spPr>
          <a:xfrm>
            <a:off x="162000" y="563400"/>
            <a:ext cx="8820000" cy="5731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76804" descr="t013e3a0aaf8e425269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422280" y="2467080"/>
            <a:ext cx="1728720" cy="2087280"/>
          </a:xfrm>
          <a:prstGeom prst="rect">
            <a:avLst/>
          </a:prstGeom>
          <a:ln w="0">
            <a:noFill/>
          </a:ln>
        </p:spPr>
      </p:pic>
      <p:sp>
        <p:nvSpPr>
          <p:cNvPr id="422" name="文本框 76805"/>
          <p:cNvSpPr/>
          <p:nvPr/>
        </p:nvSpPr>
        <p:spPr>
          <a:xfrm>
            <a:off x="2538360" y="946080"/>
            <a:ext cx="6156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人的前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脚、挥手、左手、手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76807"/>
          <p:cNvSpPr/>
          <p:nvPr/>
        </p:nvSpPr>
        <p:spPr>
          <a:xfrm>
            <a:off x="2644920" y="2257560"/>
            <a:ext cx="59450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招式、方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手段、手法、手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76808"/>
          <p:cNvSpPr/>
          <p:nvPr/>
        </p:nvSpPr>
        <p:spPr>
          <a:xfrm>
            <a:off x="2590920" y="3568680"/>
            <a:ext cx="6051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量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留一手、有一手、一手好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76809"/>
          <p:cNvSpPr/>
          <p:nvPr/>
        </p:nvSpPr>
        <p:spPr>
          <a:xfrm>
            <a:off x="2538360" y="4976640"/>
            <a:ext cx="57373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宋体"/>
              </a:rPr>
              <a:t>指名词，表示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：能手、对手、枪手、炮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611280" y="2671920"/>
            <a:ext cx="84596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读通读顺课文，不认识的字想办法解决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思考课文讲了一件什么事？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15370"/>
          <p:cNvGrpSpPr/>
          <p:nvPr/>
        </p:nvGrpSpPr>
        <p:grpSpPr>
          <a:xfrm>
            <a:off x="0" y="1413000"/>
            <a:ext cx="3492000" cy="1152360"/>
            <a:chOff x="0" y="1413000"/>
            <a:chExt cx="3492000" cy="1152360"/>
          </a:xfrm>
        </p:grpSpPr>
        <p:pic>
          <p:nvPicPr>
            <p:cNvPr id="429" name="图片 21515" descr="20160324204605_b387918835e54b0e132161f337ffd55e_1"/>
            <p:cNvPicPr/>
            <p:nvPr/>
          </p:nvPicPr>
          <p:blipFill>
            <a:blip r:embed="rId1"/>
            <a:srcRect l="6816" t="0" r="18191" b="8435"/>
            <a:stretch/>
          </p:blipFill>
          <p:spPr>
            <a:xfrm>
              <a:off x="0" y="1413000"/>
              <a:ext cx="10922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矩形 15367"/>
            <p:cNvSpPr txBox="1"/>
            <p:nvPr/>
          </p:nvSpPr>
          <p:spPr>
            <a:xfrm>
              <a:off x="1290600" y="1413000"/>
              <a:ext cx="1837080" cy="83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50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0000ff"/>
                  </a:solidFill>
                  <a:latin typeface="宋体"/>
                </a:rPr>
                <a:t>自读要求</a:t>
              </a:r>
              <a:endParaRPr b="1" lang="en-US" sz="4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0000ff"/>
                </a:solidFill>
                <a:latin typeface="宋体"/>
                <a:ea typeface="宋体"/>
              </a:endParaRPr>
            </a:p>
          </p:txBody>
        </p:sp>
        <p:sp>
          <p:nvSpPr>
            <p:cNvPr id="431" name="矩形 15368"/>
            <p:cNvSpPr/>
            <p:nvPr/>
          </p:nvSpPr>
          <p:spPr>
            <a:xfrm>
              <a:off x="515520" y="2276640"/>
              <a:ext cx="2612160" cy="72720"/>
            </a:xfrm>
            <a:prstGeom prst="rect">
              <a:avLst/>
            </a:prstGeom>
            <a:solidFill>
              <a:srgbClr val="ff6600">
                <a:alpha val="4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369"/>
            <p:cNvSpPr/>
            <p:nvPr/>
          </p:nvSpPr>
          <p:spPr>
            <a:xfrm>
              <a:off x="1183320" y="2494080"/>
              <a:ext cx="2308680" cy="7128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2"/>
          <p:cNvSpPr/>
          <p:nvPr/>
        </p:nvSpPr>
        <p:spPr>
          <a:xfrm>
            <a:off x="1204920" y="1387440"/>
            <a:ext cx="16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侵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"/>
          <p:cNvSpPr/>
          <p:nvPr/>
        </p:nvSpPr>
        <p:spPr>
          <a:xfrm>
            <a:off x="1403280" y="5610240"/>
            <a:ext cx="13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苍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9"/>
          <p:cNvSpPr/>
          <p:nvPr/>
        </p:nvSpPr>
        <p:spPr>
          <a:xfrm>
            <a:off x="3546360" y="5610240"/>
            <a:ext cx="13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煞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0"/>
          <p:cNvSpPr/>
          <p:nvPr/>
        </p:nvSpPr>
        <p:spPr>
          <a:xfrm>
            <a:off x="5427720" y="56102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惨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3"/>
          <p:cNvSpPr/>
          <p:nvPr/>
        </p:nvSpPr>
        <p:spPr>
          <a:xfrm>
            <a:off x="3914640" y="138744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瞭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望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3"/>
          <p:cNvSpPr/>
          <p:nvPr/>
        </p:nvSpPr>
        <p:spPr>
          <a:xfrm>
            <a:off x="6392880" y="13874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打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颤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2"/>
          <p:cNvSpPr/>
          <p:nvPr/>
        </p:nvSpPr>
        <p:spPr>
          <a:xfrm>
            <a:off x="1297080" y="2475000"/>
            <a:ext cx="9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0"/>
          <p:cNvSpPr/>
          <p:nvPr/>
        </p:nvSpPr>
        <p:spPr>
          <a:xfrm>
            <a:off x="1204920" y="277020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"/>
          <p:cNvSpPr/>
          <p:nvPr/>
        </p:nvSpPr>
        <p:spPr>
          <a:xfrm>
            <a:off x="3621240" y="279864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2"/>
          <p:cNvSpPr/>
          <p:nvPr/>
        </p:nvSpPr>
        <p:spPr>
          <a:xfrm>
            <a:off x="3693960" y="2475000"/>
            <a:ext cx="9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7432"/>
          <p:cNvSpPr/>
          <p:nvPr/>
        </p:nvSpPr>
        <p:spPr>
          <a:xfrm>
            <a:off x="193680" y="3500280"/>
            <a:ext cx="8577360" cy="2044800"/>
          </a:xfrm>
          <a:prstGeom prst="rect">
            <a:avLst/>
          </a:prstGeom>
          <a:solidFill>
            <a:srgbClr val="ccffc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武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大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声：“快拿酒来！我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十二碗。”博得众食客一阵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喝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6401"/>
          <p:cNvGrpSpPr/>
          <p:nvPr/>
        </p:nvGrpSpPr>
        <p:grpSpPr>
          <a:xfrm>
            <a:off x="2597040" y="3471840"/>
            <a:ext cx="6174000" cy="1436040"/>
            <a:chOff x="2597040" y="3471840"/>
            <a:chExt cx="6174000" cy="1436040"/>
          </a:xfrm>
        </p:grpSpPr>
        <p:sp>
          <p:nvSpPr>
            <p:cNvPr id="445" name="文本框 12"/>
            <p:cNvSpPr/>
            <p:nvPr/>
          </p:nvSpPr>
          <p:spPr>
            <a:xfrm>
              <a:off x="2597040" y="3471840"/>
              <a:ext cx="73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文本框 12"/>
            <p:cNvSpPr/>
            <p:nvPr/>
          </p:nvSpPr>
          <p:spPr>
            <a:xfrm>
              <a:off x="8121600" y="34718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ē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12"/>
            <p:cNvSpPr/>
            <p:nvPr/>
          </p:nvSpPr>
          <p:spPr>
            <a:xfrm>
              <a:off x="5867280" y="444816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hè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69640"/>
          <p:cNvSpPr/>
          <p:nvPr/>
        </p:nvSpPr>
        <p:spPr>
          <a:xfrm>
            <a:off x="1476360" y="3068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5"/>
          <p:cNvSpPr/>
          <p:nvPr/>
        </p:nvSpPr>
        <p:spPr>
          <a:xfrm>
            <a:off x="2590920" y="2057400"/>
            <a:ext cx="5029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"/>
          <p:cNvSpPr/>
          <p:nvPr/>
        </p:nvSpPr>
        <p:spPr>
          <a:xfrm>
            <a:off x="419040" y="26049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请孩子们默读课文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到第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10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自然段，用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“——”</a:t>
            </a: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划出表现炮手神态的句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文本框 73735"/>
          <p:cNvSpPr/>
          <p:nvPr/>
        </p:nvSpPr>
        <p:spPr>
          <a:xfrm>
            <a:off x="3348000" y="2924280"/>
            <a:ext cx="309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1332000" y="1689120"/>
            <a:ext cx="774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是，将军！”一个脸色苍白的士兵应道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73737"/>
          <p:cNvSpPr/>
          <p:nvPr/>
        </p:nvSpPr>
        <p:spPr>
          <a:xfrm>
            <a:off x="1332000" y="3510000"/>
            <a:ext cx="74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士兵脸色煞白：“我看到了，将军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73738"/>
          <p:cNvSpPr/>
          <p:nvPr/>
        </p:nvSpPr>
        <p:spPr>
          <a:xfrm>
            <a:off x="1332000" y="4905360"/>
            <a:ext cx="61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炮手的脸色更加惨白了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太阳形 73751"/>
          <p:cNvSpPr/>
          <p:nvPr/>
        </p:nvSpPr>
        <p:spPr>
          <a:xfrm>
            <a:off x="539640" y="1955880"/>
            <a:ext cx="360360" cy="3477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太阳形 73753"/>
          <p:cNvSpPr/>
          <p:nvPr/>
        </p:nvSpPr>
        <p:spPr>
          <a:xfrm>
            <a:off x="539640" y="369108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太阳形 73754"/>
          <p:cNvSpPr/>
          <p:nvPr/>
        </p:nvSpPr>
        <p:spPr>
          <a:xfrm>
            <a:off x="539640" y="5076720"/>
            <a:ext cx="360360" cy="3603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53:51Z</dcterms:created>
  <dc:creator>微软用户</dc:creator>
  <dc:description/>
  <dc:language>en-US</dc:language>
  <cp:lastModifiedBy>Lenovo</cp:lastModifiedBy>
  <dcterms:modified xsi:type="dcterms:W3CDTF">2017-04-19T07:30:16Z</dcterms:modified>
  <cp:revision>266</cp:revision>
  <dc:subject/>
  <dc:title>黑孩子罗伯特                        【美国】 玛丽·雷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