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875D-69C0-4D65-B40B-653232BB0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8170-9111-4DB5-B212-988C0D80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15F56-EE9C-4282-BA28-9308B692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E0796-95F3-4789-8E63-B5B828EA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A6442-979E-406A-9234-D9FE390D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7D2C1-D21B-4D99-A214-5F7DDAD2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934A8A-5E58-4D3F-824A-48D53C8A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9B792-E2C9-4993-9137-9FF2642C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8CAD3B-1E1B-45A9-ADB0-0EBCFF68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197C5-5885-439A-9425-F99702772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3181F-F79F-4C67-98F6-34FD85755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8D449A-2557-4C87-AB92-A4F6F3347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EEEC-63E2-48BE-80BB-D65EE4B01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26CF3D-52C9-4540-9573-DB30D29A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8E32C-1350-4EFA-B796-65FAEE42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9F7ED-9FB9-4D16-B9D6-9D28301D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034D9-46A5-48ED-B010-75AC268A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97F1A-33E3-456F-BB2F-AD596526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F59CA-5B25-4547-A4A5-ED981205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D143F4-578C-4790-A85C-38E35147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C7311D-E984-4414-A9E0-C455D4EB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14A49F-A734-4554-A8F6-84BF5010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688DCD-91B1-4A5C-92CC-93C1F9A22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FF4C-5E06-4848-83C7-5D57FA258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71B1F-7C5F-455D-BC96-6644C069F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C9E8-2647-4D3D-86B2-6F50F8D46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B772-8D80-4D49-8BF1-C58F7744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74CB-8FAA-4A7A-8FCC-7F53D09B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8FFC-4A2F-4AA4-8105-B68BCA68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D6B1-4709-4C5E-AFAC-90235B94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CC48-17DA-45DC-8CF2-74F682B2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D4CC-12B5-48D0-A87A-9F93E72A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5BA3-F1D0-4F52-9273-4251D7EF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8A4D-92E7-4687-A25B-CBC02536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3BA0-5EE5-465E-9CDE-0D97F622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9026-0350-4CF9-B9E3-DA4D7443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61F5-16A3-49F0-9014-8EE6FECDC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D845-7F98-4740-A4BF-B047CA075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AD8F8-80EB-488B-91EB-A801E7804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D9AB6-E1AF-492B-A487-0A7732A8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E97BE-0945-4AC7-830E-FD098492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26B2B-4ABA-4F08-BE2C-D4E7A14E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0EC22-12EC-4D16-BF75-9E9A6176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8197-D963-4D77-AEAA-55C04761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3DAFD-DA10-4D39-91E7-95A275CA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686E6-2B9A-4B29-8407-6E385BCB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72D55-670F-4A9B-A3AB-301284D7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20D52-57DC-40DD-B43A-E6BDA40E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96F05-34D9-41F1-A8AB-FB7BC5D8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B5080-1858-423D-B4DF-0FEDEC87F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5CF11-4BED-4233-A447-7FDD53E9D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B1B6E-D764-43B6-BA00-9456C6841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3C047-DFEA-4CFE-B50F-3F868433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29180-827D-4705-9A4D-C0034DE4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A1CB-26D1-41FA-8CEB-BB5B0DDD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A9663-9669-4F62-ACB1-8BA7316A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B2281-5686-4C76-8507-D516E884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952DF-636C-45FD-B120-433BCEDC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5DC9D-58BC-46A3-BB3F-27783CB5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94A28-6D95-40DC-AFEE-AA40AECA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EDB19-A318-41DC-B911-198B9318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B87C1-6A4C-489B-B123-545ED0D4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4E2E7-20FD-40FA-BAAC-80AD767D7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0C364-F821-41FD-9401-1DEA31D4C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24F90-EBF5-4853-B6F1-462E7AA6B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1468-A167-413F-8AE1-2840822B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1AA84-D898-4188-831C-FA55325E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94F97-A6AD-4D2C-8FCC-9143DADE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1F1F3-6296-43B6-839C-D977D039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519CB-B4D5-410B-B208-66474AAE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1DF44-BB15-4F9B-BFE9-2E4B5EFA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4755B-CEDB-4DE4-9DBE-40B1D173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F3D2F-691A-49ED-A299-B147A13F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AE10E-9F33-46AA-9BB5-A5FDF679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08DB8-B8E8-402C-9E54-CD36A47F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3BBBF-8396-4259-B0A2-3553591F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2D22-6D71-4CA0-909B-6064B25D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8B667-35C1-4CCE-A527-CBF5F6DF3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3D80F-943E-49D3-9B12-7D30408A1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26BD7-4F72-49D1-8102-EB00B37C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3BC01-FB80-4EB4-BFF5-EC6531B0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32ADF-1E44-40C2-8BBC-3F06A9AA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2C5DB-F4A1-4878-8319-18F9FFF1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1C22E-63BF-4359-994F-804EA08B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1A51E-65AB-4263-852C-A7CFD2EA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70562-6646-452B-8B62-19072623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D5B4B-7E1D-4497-9B5B-6DD059E2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A22A-12CE-4D24-8F8B-8E4D86C9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D0AF1-FDD7-483C-9EC8-5FFF8DEE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13931-E7E4-4250-91B6-A42A3FB9B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90B39-220B-49E6-83BF-D2174380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1974E-818E-41EB-8CBA-B64F628FD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72B22-5056-4F4C-B126-F6987BA7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B8275-E903-4697-8987-75D77D0B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5F6EE-6703-4F78-B885-24531FFC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97766-0E87-4370-8BD2-633B058C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3F004-3166-4C20-953B-22D633B8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77EA5-1F2C-4607-A0C1-1EEF18D6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1772-B2D3-4036-85AD-E3CB3BB0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65703-D6A8-4DF0-BAED-1FD0020F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AA0F7-8608-4F1E-BFFB-E000EA6C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99C04-6B21-4A2F-9095-18AA5889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A4EAA-CFFE-49AC-9B0A-75C05FE89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66969-9B0A-45B8-A98F-54C641F0B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13ABF-BC40-4B65-A79C-86A3172BB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011C8-B0EE-4183-924E-AC6663BB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FB7E8-F799-48D5-8B2C-350A92DC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516D0-61B0-49EE-8D72-0E0197CB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7DC96-E37C-4704-9813-D64D6EAA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F91D-6513-4435-BE2D-E141829D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E2F77-5C7E-46D7-8E95-242D5664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97A1B-0C18-4D42-AE73-C373DAB0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C7D1E-F3CC-45A9-ACC0-830075D2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E6FE9-99D5-4D43-BA22-95F8FCDB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6BFC6-F753-4D97-A69D-BE511BB8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D4BEB-577A-4483-81EE-09CC5FFF4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C066F-88E4-41BD-A46E-1B1F3352A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9D3E5-6216-49FB-B6E4-01F6D8685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407D3E-4455-47C5-8C20-10D0B216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D30B1-E41E-4CE1-9D0D-F8DE8E97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824C-878C-4C54-9485-1FE6C16B43A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59FE-3290-430D-989C-301FA47D0D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8189-5573-4B10-8DB8-1AF6FD099C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EB2D-1655-448D-884C-1266D3A452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2E3D-7F6E-42A6-9C70-E1CBDD07F4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8BA3-6E07-4834-9BEC-16EC9FE172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1A27-B916-44A5-9174-EEC732B4E4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9B70-77E2-4720-842B-2D8F8AD44B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843C-7988-42C2-A0DE-4454EC677D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6509-A9ED-4140-ABE4-31E3B84312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2B58-657E-43B0-94F7-F8B4021489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5"/>
          <p:cNvSpPr/>
          <p:nvPr/>
        </p:nvSpPr>
        <p:spPr>
          <a:xfrm>
            <a:off x="0" y="5589720"/>
            <a:ext cx="9144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双流县东升迎春小学     蒋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13318"/>
          <p:cNvSpPr txBox="1"/>
          <p:nvPr/>
        </p:nvSpPr>
        <p:spPr>
          <a:xfrm>
            <a:off x="1116000" y="1628640"/>
            <a:ext cx="685800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北师大版教材小学语文三年级下册</a:t>
            </a:r>
            <a:endParaRPr b="1" lang="en-US" sz="1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12" name="矩形 13319"/>
          <p:cNvSpPr txBox="1"/>
          <p:nvPr/>
        </p:nvSpPr>
        <p:spPr>
          <a:xfrm>
            <a:off x="2484360" y="2421000"/>
            <a:ext cx="1440000" cy="151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楷体_GB2312"/>
              </a:rPr>
              <a:t>炮</a:t>
            </a:r>
            <a:endParaRPr b="1" lang="en-US" sz="3200" spc="-1" strike="noStrike">
              <a:ln w="0">
                <a:noFill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楷体_GB2312"/>
              <a:ea typeface="楷体_GB2312"/>
            </a:endParaRPr>
          </a:p>
        </p:txBody>
      </p:sp>
      <p:sp>
        <p:nvSpPr>
          <p:cNvPr id="413" name="矩形 13321"/>
          <p:cNvSpPr txBox="1"/>
          <p:nvPr/>
        </p:nvSpPr>
        <p:spPr>
          <a:xfrm>
            <a:off x="5533920" y="2327400"/>
            <a:ext cx="1416240" cy="180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0">
                  <a:noFill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楷体_GB2312"/>
              </a:rPr>
              <a:t>手</a:t>
            </a:r>
            <a:endParaRPr b="1" lang="en-US" sz="5400" spc="-1" strike="noStrike">
              <a:ln w="0">
                <a:noFill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楷体_GB2312"/>
              <a:ea typeface="楷体_GB2312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6"/>
          <p:cNvSpPr/>
          <p:nvPr/>
        </p:nvSpPr>
        <p:spPr>
          <a:xfrm>
            <a:off x="276120" y="1290600"/>
            <a:ext cx="8724960" cy="28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将军用望远镜仔细地瞭望着河对岸的小村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喂，炮手！”将军没有回头，高声叫道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④“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是，将军！”一个脸色    的士兵应道。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26638"/>
          <p:cNvSpPr txBox="1"/>
          <p:nvPr/>
        </p:nvSpPr>
        <p:spPr>
          <a:xfrm rot="20925600">
            <a:off x="3492360" y="5911920"/>
            <a:ext cx="648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latin typeface="宋体"/>
              </a:rPr>
              <a:t> </a:t>
            </a:r>
            <a:endParaRPr b="1" lang="en-US" sz="1600" spc="1" strike="noStrike">
              <a:ln w="9360">
                <a:solidFill>
                  <a:srgbClr val="ff6600"/>
                </a:solidFill>
                <a:round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461" name="矩形 26639"/>
          <p:cNvSpPr txBox="1"/>
          <p:nvPr/>
        </p:nvSpPr>
        <p:spPr>
          <a:xfrm rot="21469200">
            <a:off x="1116000" y="5950080"/>
            <a:ext cx="647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latin typeface="宋体"/>
              </a:rPr>
              <a:t> </a:t>
            </a:r>
            <a:endParaRPr b="1" lang="en-US" sz="1600" spc="1" strike="noStrike">
              <a:ln w="9360">
                <a:solidFill>
                  <a:srgbClr val="ff6600"/>
                </a:solidFill>
                <a:round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462" name="矩形 20489"/>
          <p:cNvSpPr/>
          <p:nvPr/>
        </p:nvSpPr>
        <p:spPr>
          <a:xfrm>
            <a:off x="6847920" y="4935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苍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1370160" y="3887640"/>
            <a:ext cx="6403680" cy="17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4" descr="图片1"/>
          <p:cNvPicPr/>
          <p:nvPr/>
        </p:nvPicPr>
        <p:blipFill>
          <a:blip r:embed="rId1"/>
          <a:stretch/>
        </p:blipFill>
        <p:spPr>
          <a:xfrm>
            <a:off x="-32400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5"/>
          <p:cNvSpPr/>
          <p:nvPr/>
        </p:nvSpPr>
        <p:spPr>
          <a:xfrm>
            <a:off x="2590920" y="2057400"/>
            <a:ext cx="5029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6"/>
          <p:cNvSpPr/>
          <p:nvPr/>
        </p:nvSpPr>
        <p:spPr>
          <a:xfrm>
            <a:off x="324000" y="1557360"/>
            <a:ext cx="8640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7"/>
          <p:cNvSpPr/>
          <p:nvPr/>
        </p:nvSpPr>
        <p:spPr>
          <a:xfrm>
            <a:off x="-9360" y="1557360"/>
            <a:ext cx="882936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⑤“</a:t>
            </a: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你看到那座桥了吗？”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⑥“</a:t>
            </a: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看得很清楚，将军。”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⑦“</a:t>
            </a: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看到左边的农舍了吗？就在丛林后面，那座红瓦白墙的房子。”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⑧</a:t>
            </a: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士兵脸色     </a:t>
            </a:r>
            <a:r>
              <a:rPr b="1" lang="zh-CN" sz="3800" spc="-1" strike="noStrike">
                <a:solidFill>
                  <a:srgbClr val="000000"/>
                </a:solidFill>
                <a:latin typeface="楷体"/>
                <a:ea typeface="楷体"/>
              </a:rPr>
              <a:t>：“我看到了，将军。” 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21511"/>
          <p:cNvSpPr/>
          <p:nvPr/>
        </p:nvSpPr>
        <p:spPr>
          <a:xfrm>
            <a:off x="2590920" y="5321160"/>
            <a:ext cx="129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煞白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7"/>
          <p:cNvSpPr/>
          <p:nvPr/>
        </p:nvSpPr>
        <p:spPr>
          <a:xfrm>
            <a:off x="225360" y="1274760"/>
            <a:ext cx="8629560" cy="32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⑨“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这是德军的一个驻地，伙计，给它一炮！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炮手的脸色更加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 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这时，裹着大衣的军官们在凛冽的寒风中打颤，可炮手的前额却滚下了大粒的汗珠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他服从了命令，仔细瞄准目标，开了一炮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28680"/>
          <p:cNvSpPr/>
          <p:nvPr/>
        </p:nvSpPr>
        <p:spPr>
          <a:xfrm>
            <a:off x="755640" y="3559320"/>
            <a:ext cx="54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框 3"/>
          <p:cNvSpPr/>
          <p:nvPr/>
        </p:nvSpPr>
        <p:spPr>
          <a:xfrm>
            <a:off x="5129280" y="1908000"/>
            <a:ext cx="33368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面如土色      面如死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面无血色      血色全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文本框 5"/>
          <p:cNvSpPr/>
          <p:nvPr/>
        </p:nvSpPr>
        <p:spPr>
          <a:xfrm>
            <a:off x="4351320" y="30160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惨白</a:t>
            </a:r>
            <a:r>
              <a:rPr b="1" lang="en-US" sz="2800" spc="-1" strike="noStrike">
                <a:solidFill>
                  <a:srgbClr val="ff3300"/>
                </a:solidFill>
                <a:latin typeface="楷体"/>
                <a:ea typeface="楷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7"/>
          <p:cNvSpPr/>
          <p:nvPr/>
        </p:nvSpPr>
        <p:spPr>
          <a:xfrm>
            <a:off x="225360" y="1274760"/>
            <a:ext cx="8629560" cy="32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⑨“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这是德军的一个驻地，伙计，给它一炮！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炮手的脸色更加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惨白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这时，裹着大衣的军官们在凛冽的寒风中打颤，可炮手的前额却滚下了大粒的汗珠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。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他服从了命令，仔细瞄准目标，开了一炮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28680"/>
          <p:cNvSpPr/>
          <p:nvPr/>
        </p:nvSpPr>
        <p:spPr>
          <a:xfrm>
            <a:off x="755640" y="3559320"/>
            <a:ext cx="54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7"/>
          <p:cNvSpPr/>
          <p:nvPr/>
        </p:nvSpPr>
        <p:spPr>
          <a:xfrm>
            <a:off x="225360" y="1274760"/>
            <a:ext cx="865836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ff"/>
                </a:solidFill>
                <a:latin typeface="楷体"/>
                <a:ea typeface="楷体"/>
              </a:rPr>
              <a:t>炮手的脸色更加</a:t>
            </a: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     了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楷体"/>
                <a:ea typeface="楷体"/>
              </a:rPr>
              <a:t>这时，裹着大衣的军官们在凛冽的寒风中打颤，可炮手的前额却滚下了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大粒的汗珠</a:t>
            </a: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28680"/>
          <p:cNvSpPr/>
          <p:nvPr/>
        </p:nvSpPr>
        <p:spPr>
          <a:xfrm>
            <a:off x="755640" y="3559320"/>
            <a:ext cx="54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文本框 5"/>
          <p:cNvSpPr/>
          <p:nvPr/>
        </p:nvSpPr>
        <p:spPr>
          <a:xfrm>
            <a:off x="5102280" y="2403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惨白</a:t>
            </a:r>
            <a:r>
              <a:rPr b="1" lang="en-US" sz="2800" spc="-1" strike="noStrike">
                <a:solidFill>
                  <a:srgbClr val="ff3300"/>
                </a:solidFill>
                <a:latin typeface="楷体"/>
                <a:ea typeface="楷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矩形 75779"/>
          <p:cNvSpPr/>
          <p:nvPr/>
        </p:nvSpPr>
        <p:spPr>
          <a:xfrm>
            <a:off x="826920" y="2924280"/>
            <a:ext cx="792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他服从了命令，仔细瞄准目标，开了一炮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圆角矩形 44045"/>
          <p:cNvSpPr/>
          <p:nvPr/>
        </p:nvSpPr>
        <p:spPr>
          <a:xfrm>
            <a:off x="1476360" y="1916280"/>
            <a:ext cx="5832360" cy="396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"/>
          <p:cNvSpPr/>
          <p:nvPr/>
        </p:nvSpPr>
        <p:spPr>
          <a:xfrm>
            <a:off x="2590920" y="2057400"/>
            <a:ext cx="5029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图片 44044" descr="jf13116ahc99538"/>
          <p:cNvPicPr/>
          <p:nvPr/>
        </p:nvPicPr>
        <p:blipFill>
          <a:blip r:embed="rId1"/>
          <a:srcRect l="0" t="0" r="0" b="12000"/>
          <a:stretch/>
        </p:blipFill>
        <p:spPr>
          <a:xfrm>
            <a:off x="2627280" y="2276640"/>
            <a:ext cx="3600360" cy="3168360"/>
          </a:xfrm>
          <a:prstGeom prst="rect">
            <a:avLst/>
          </a:prstGeom>
          <a:ln w="0">
            <a:noFill/>
          </a:ln>
        </p:spPr>
      </p:pic>
      <p:sp>
        <p:nvSpPr>
          <p:cNvPr id="417" name="矩形 44046"/>
          <p:cNvSpPr txBox="1"/>
          <p:nvPr/>
        </p:nvSpPr>
        <p:spPr>
          <a:xfrm>
            <a:off x="1763640" y="2060640"/>
            <a:ext cx="14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cc99ff"/>
                    </a:gs>
                    <a:gs pos="50000">
                      <a:srgbClr val="ffffff"/>
                    </a:gs>
                    <a:gs pos="100000">
                      <a:srgbClr val="cc99ff"/>
                    </a:gs>
                  </a:gsLst>
                  <a:lin ang="5400000"/>
                </a:gradFill>
                <a:latin typeface="黑体"/>
              </a:rPr>
              <a:t>猜一猜</a:t>
            </a:r>
            <a:endParaRPr b="1" lang="en-US" sz="16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cc99ff"/>
                  </a:gs>
                  <a:gs pos="50000">
                    <a:srgbClr val="ffffff"/>
                  </a:gs>
                  <a:gs pos="100000">
                    <a:srgbClr val="cc99ff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圆角矩形 77825"/>
          <p:cNvSpPr/>
          <p:nvPr/>
        </p:nvSpPr>
        <p:spPr>
          <a:xfrm>
            <a:off x="1332000" y="1916280"/>
            <a:ext cx="5976720" cy="4033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图片 77829" descr="t013e3a0aaf8e425269"/>
          <p:cNvPicPr/>
          <p:nvPr/>
        </p:nvPicPr>
        <p:blipFill>
          <a:blip r:embed="rId1">
            <a:lum contrast="72000"/>
          </a:blip>
          <a:stretch/>
        </p:blipFill>
        <p:spPr>
          <a:xfrm>
            <a:off x="3132000" y="2133720"/>
            <a:ext cx="28576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圆角矩形 76803"/>
          <p:cNvSpPr/>
          <p:nvPr/>
        </p:nvSpPr>
        <p:spPr>
          <a:xfrm>
            <a:off x="162000" y="563400"/>
            <a:ext cx="8820000" cy="57312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图片 76804" descr="t013e3a0aaf8e425269"/>
          <p:cNvPicPr/>
          <p:nvPr/>
        </p:nvPicPr>
        <p:blipFill>
          <a:blip r:embed="rId1">
            <a:lum contrast="72000"/>
          </a:blip>
          <a:stretch/>
        </p:blipFill>
        <p:spPr>
          <a:xfrm>
            <a:off x="422280" y="2467080"/>
            <a:ext cx="1728720" cy="2087280"/>
          </a:xfrm>
          <a:prstGeom prst="rect">
            <a:avLst/>
          </a:prstGeom>
          <a:ln w="0">
            <a:noFill/>
          </a:ln>
        </p:spPr>
      </p:pic>
      <p:sp>
        <p:nvSpPr>
          <p:cNvPr id="422" name="文本框 76805"/>
          <p:cNvSpPr/>
          <p:nvPr/>
        </p:nvSpPr>
        <p:spPr>
          <a:xfrm>
            <a:off x="2538360" y="946080"/>
            <a:ext cx="6156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指人的前肢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如：手脚、挥手、左手、手掌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76807"/>
          <p:cNvSpPr/>
          <p:nvPr/>
        </p:nvSpPr>
        <p:spPr>
          <a:xfrm>
            <a:off x="2644920" y="2257560"/>
            <a:ext cx="594504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2.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指招式、方法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如：手段、手法、手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文本框 76808"/>
          <p:cNvSpPr/>
          <p:nvPr/>
        </p:nvSpPr>
        <p:spPr>
          <a:xfrm>
            <a:off x="2590920" y="3568680"/>
            <a:ext cx="6051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指量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如：留一手、有一手、一手好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76809"/>
          <p:cNvSpPr/>
          <p:nvPr/>
        </p:nvSpPr>
        <p:spPr>
          <a:xfrm>
            <a:off x="2538360" y="4976640"/>
            <a:ext cx="57373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  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指名词，表示人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如：能手、对手、枪手、炮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5"/>
          <p:cNvSpPr/>
          <p:nvPr/>
        </p:nvSpPr>
        <p:spPr>
          <a:xfrm>
            <a:off x="2590920" y="2057400"/>
            <a:ext cx="5029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7"/>
          <p:cNvSpPr/>
          <p:nvPr/>
        </p:nvSpPr>
        <p:spPr>
          <a:xfrm>
            <a:off x="611280" y="2671920"/>
            <a:ext cx="845964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读通读顺课文，不认识的字想办法解决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思考课文讲了一件什么事？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组合 15370"/>
          <p:cNvGrpSpPr/>
          <p:nvPr/>
        </p:nvGrpSpPr>
        <p:grpSpPr>
          <a:xfrm>
            <a:off x="0" y="1413000"/>
            <a:ext cx="3492000" cy="1152360"/>
            <a:chOff x="0" y="1413000"/>
            <a:chExt cx="3492000" cy="1152360"/>
          </a:xfrm>
        </p:grpSpPr>
        <p:pic>
          <p:nvPicPr>
            <p:cNvPr id="429" name="图片 21515" descr="20160324204605_b387918835e54b0e132161f337ffd55e_1"/>
            <p:cNvPicPr/>
            <p:nvPr/>
          </p:nvPicPr>
          <p:blipFill>
            <a:blip r:embed="rId1"/>
            <a:srcRect l="6816" t="0" r="18191" b="8435"/>
            <a:stretch/>
          </p:blipFill>
          <p:spPr>
            <a:xfrm>
              <a:off x="0" y="1413000"/>
              <a:ext cx="109224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矩形 15367"/>
            <p:cNvSpPr txBox="1"/>
            <p:nvPr/>
          </p:nvSpPr>
          <p:spPr>
            <a:xfrm>
              <a:off x="1290600" y="1413000"/>
              <a:ext cx="1837080" cy="833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50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0000ff"/>
                  </a:solidFill>
                  <a:latin typeface="宋体"/>
                </a:rPr>
                <a:t>自读要求</a:t>
              </a:r>
              <a:endParaRPr b="1" lang="en-US" sz="40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0000ff"/>
                </a:solidFill>
                <a:latin typeface="宋体"/>
                <a:ea typeface="宋体"/>
              </a:endParaRPr>
            </a:p>
          </p:txBody>
        </p:sp>
        <p:sp>
          <p:nvSpPr>
            <p:cNvPr id="431" name="矩形 15368"/>
            <p:cNvSpPr/>
            <p:nvPr/>
          </p:nvSpPr>
          <p:spPr>
            <a:xfrm>
              <a:off x="515520" y="2276640"/>
              <a:ext cx="2612160" cy="72720"/>
            </a:xfrm>
            <a:prstGeom prst="rect">
              <a:avLst/>
            </a:prstGeom>
            <a:solidFill>
              <a:srgbClr val="ff6600">
                <a:alpha val="4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矩形 15369"/>
            <p:cNvSpPr/>
            <p:nvPr/>
          </p:nvSpPr>
          <p:spPr>
            <a:xfrm>
              <a:off x="1183320" y="2494080"/>
              <a:ext cx="2308680" cy="71280"/>
            </a:xfrm>
            <a:prstGeom prst="rect">
              <a:avLst/>
            </a:prstGeom>
            <a:solidFill>
              <a:srgbClr val="ffcc00">
                <a:alpha val="7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文本框 2"/>
          <p:cNvSpPr/>
          <p:nvPr/>
        </p:nvSpPr>
        <p:spPr>
          <a:xfrm>
            <a:off x="1204920" y="1387440"/>
            <a:ext cx="168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侵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入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8"/>
          <p:cNvSpPr/>
          <p:nvPr/>
        </p:nvSpPr>
        <p:spPr>
          <a:xfrm>
            <a:off x="1403280" y="5610240"/>
            <a:ext cx="130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苍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9"/>
          <p:cNvSpPr/>
          <p:nvPr/>
        </p:nvSpPr>
        <p:spPr>
          <a:xfrm>
            <a:off x="3546360" y="5610240"/>
            <a:ext cx="131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煞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10"/>
          <p:cNvSpPr/>
          <p:nvPr/>
        </p:nvSpPr>
        <p:spPr>
          <a:xfrm>
            <a:off x="5427720" y="5610240"/>
            <a:ext cx="131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惨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13"/>
          <p:cNvSpPr/>
          <p:nvPr/>
        </p:nvSpPr>
        <p:spPr>
          <a:xfrm>
            <a:off x="3914640" y="1387440"/>
            <a:ext cx="16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瞭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望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13"/>
          <p:cNvSpPr/>
          <p:nvPr/>
        </p:nvSpPr>
        <p:spPr>
          <a:xfrm>
            <a:off x="6392880" y="1387440"/>
            <a:ext cx="17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打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颤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12"/>
          <p:cNvSpPr/>
          <p:nvPr/>
        </p:nvSpPr>
        <p:spPr>
          <a:xfrm>
            <a:off x="1297080" y="2475000"/>
            <a:ext cx="9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10"/>
          <p:cNvSpPr/>
          <p:nvPr/>
        </p:nvSpPr>
        <p:spPr>
          <a:xfrm>
            <a:off x="1204920" y="2770200"/>
            <a:ext cx="131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喝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彩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10"/>
          <p:cNvSpPr/>
          <p:nvPr/>
        </p:nvSpPr>
        <p:spPr>
          <a:xfrm>
            <a:off x="3621240" y="2798640"/>
            <a:ext cx="131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喝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水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12"/>
          <p:cNvSpPr/>
          <p:nvPr/>
        </p:nvSpPr>
        <p:spPr>
          <a:xfrm>
            <a:off x="3693960" y="2475000"/>
            <a:ext cx="94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17432"/>
          <p:cNvSpPr/>
          <p:nvPr/>
        </p:nvSpPr>
        <p:spPr>
          <a:xfrm>
            <a:off x="193680" y="3500280"/>
            <a:ext cx="8577360" cy="2044800"/>
          </a:xfrm>
          <a:prstGeom prst="rect">
            <a:avLst/>
          </a:prstGeom>
          <a:solidFill>
            <a:srgbClr val="ccffcc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武松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大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一声：“快拿酒来！我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十二碗。”博得众食客一阵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喝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组合 16401"/>
          <p:cNvGrpSpPr/>
          <p:nvPr/>
        </p:nvGrpSpPr>
        <p:grpSpPr>
          <a:xfrm>
            <a:off x="2597040" y="3471840"/>
            <a:ext cx="6174000" cy="1436040"/>
            <a:chOff x="2597040" y="3471840"/>
            <a:chExt cx="6174000" cy="1436040"/>
          </a:xfrm>
        </p:grpSpPr>
        <p:sp>
          <p:nvSpPr>
            <p:cNvPr id="445" name="文本框 12"/>
            <p:cNvSpPr/>
            <p:nvPr/>
          </p:nvSpPr>
          <p:spPr>
            <a:xfrm>
              <a:off x="2597040" y="3471840"/>
              <a:ext cx="73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hè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文本框 12"/>
            <p:cNvSpPr/>
            <p:nvPr/>
          </p:nvSpPr>
          <p:spPr>
            <a:xfrm>
              <a:off x="8121600" y="3471840"/>
              <a:ext cx="6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ē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文本框 12"/>
            <p:cNvSpPr/>
            <p:nvPr/>
          </p:nvSpPr>
          <p:spPr>
            <a:xfrm>
              <a:off x="5867280" y="4448160"/>
              <a:ext cx="6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hè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5"/>
          <p:cNvSpPr/>
          <p:nvPr/>
        </p:nvSpPr>
        <p:spPr>
          <a:xfrm>
            <a:off x="2590920" y="2057400"/>
            <a:ext cx="5029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69640"/>
          <p:cNvSpPr/>
          <p:nvPr/>
        </p:nvSpPr>
        <p:spPr>
          <a:xfrm>
            <a:off x="1476360" y="3068640"/>
            <a:ext cx="61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课文讲了一件什么事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5"/>
          <p:cNvSpPr/>
          <p:nvPr/>
        </p:nvSpPr>
        <p:spPr>
          <a:xfrm>
            <a:off x="2590920" y="2057400"/>
            <a:ext cx="5029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3"/>
          <p:cNvSpPr/>
          <p:nvPr/>
        </p:nvSpPr>
        <p:spPr>
          <a:xfrm>
            <a:off x="419040" y="260496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请孩子们默读课文第</a:t>
            </a:r>
            <a:r>
              <a:rPr b="1" lang="en-US" sz="4800" spc="-1" strike="noStrike">
                <a:solidFill>
                  <a:srgbClr val="0000ff"/>
                </a:solidFill>
                <a:latin typeface="楷体"/>
                <a:ea typeface="楷体"/>
              </a:rPr>
              <a:t>2</a:t>
            </a: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自然段到第</a:t>
            </a:r>
            <a:r>
              <a:rPr b="1" lang="en-US" sz="4800" spc="-1" strike="noStrike">
                <a:solidFill>
                  <a:srgbClr val="0000ff"/>
                </a:solidFill>
                <a:latin typeface="楷体"/>
                <a:ea typeface="楷体"/>
              </a:rPr>
              <a:t>10</a:t>
            </a: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自然段，用</a:t>
            </a:r>
            <a:r>
              <a:rPr b="1" lang="en-US" sz="4800" spc="-1" strike="noStrike">
                <a:solidFill>
                  <a:srgbClr val="0000ff"/>
                </a:solidFill>
                <a:latin typeface="楷体"/>
                <a:ea typeface="楷体"/>
              </a:rPr>
              <a:t>“——”</a:t>
            </a: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划出表现炮手神态的句子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文本框 73735"/>
          <p:cNvSpPr/>
          <p:nvPr/>
        </p:nvSpPr>
        <p:spPr>
          <a:xfrm>
            <a:off x="3348000" y="2924280"/>
            <a:ext cx="3095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7"/>
          <p:cNvSpPr/>
          <p:nvPr/>
        </p:nvSpPr>
        <p:spPr>
          <a:xfrm>
            <a:off x="1332000" y="1689120"/>
            <a:ext cx="7743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是，将军！”一个脸色苍白的士兵应道 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73737"/>
          <p:cNvSpPr/>
          <p:nvPr/>
        </p:nvSpPr>
        <p:spPr>
          <a:xfrm>
            <a:off x="1332000" y="3510000"/>
            <a:ext cx="749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士兵脸色煞白：“我看到了，将军。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73738"/>
          <p:cNvSpPr/>
          <p:nvPr/>
        </p:nvSpPr>
        <p:spPr>
          <a:xfrm>
            <a:off x="1332000" y="4905360"/>
            <a:ext cx="618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炮手的脸色更加惨白了 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太阳形 73751"/>
          <p:cNvSpPr/>
          <p:nvPr/>
        </p:nvSpPr>
        <p:spPr>
          <a:xfrm>
            <a:off x="539640" y="1955880"/>
            <a:ext cx="360360" cy="3477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太阳形 73753"/>
          <p:cNvSpPr/>
          <p:nvPr/>
        </p:nvSpPr>
        <p:spPr>
          <a:xfrm>
            <a:off x="539640" y="3691080"/>
            <a:ext cx="360360" cy="3603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太阳形 73754"/>
          <p:cNvSpPr/>
          <p:nvPr/>
        </p:nvSpPr>
        <p:spPr>
          <a:xfrm>
            <a:off x="539640" y="5076720"/>
            <a:ext cx="360360" cy="3603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13:53:51Z</dcterms:created>
  <dc:creator>微软用户</dc:creator>
  <dc:description/>
  <dc:language>en-US</dc:language>
  <cp:lastModifiedBy>Lenovo</cp:lastModifiedBy>
  <dcterms:modified xsi:type="dcterms:W3CDTF">2017-04-19T07:30:16Z</dcterms:modified>
  <cp:revision>266</cp:revision>
  <dc:subject/>
  <dc:title>黑孩子罗伯特                        【美国】 玛丽·雷蒙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93</vt:lpwstr>
  </property>
</Properties>
</file>