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EE4-564A-44BA-918C-0E9FF7F3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DC3-F12A-44A4-85CE-949FD623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02F-EABC-47AF-BC11-23367E8C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05B-C207-427F-9BF1-7EA7F091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DAF7-DF02-4007-9FAD-DA759548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6BF9-7F1E-4205-8689-92DC25B0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4F8F-8EB2-49B2-9CFD-C4BAC0D8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5C3C-77FE-4B86-8708-4F07A06C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4EB9-B4CD-49AC-9CFF-2BDA281F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E873-9F62-4E09-ABC7-DF65E116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200E-8809-41C5-8E75-17A2B0F1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456-0FCB-43E0-A115-A82B7E6D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F093-5EDC-4FF4-AFA5-43F64A87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3E3A-F8EE-4BE2-9FD9-5F3F19BB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0C9D-3418-46E0-8FF1-A4ACBE3A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24F5-84E2-4193-99FE-4DC54E52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AFAC-D3C6-46EF-8D50-EE456F83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C3D-4AF5-4737-9033-3A7D5BD1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2D1-C8BB-4FD3-BC68-3B777645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809-5839-4313-ACDE-9387F3E5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CC8-3C98-4CBB-92CB-20B16486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495-AFB8-4F57-BFD0-3F8E2CFE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DED-7FD5-422C-BE71-D822C74C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FFF-639A-4146-8336-95A3AC37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145E-291B-4A9C-8D73-64305332A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026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1027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1028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1029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1030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1031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1032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1033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34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035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036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037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038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039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040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041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042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043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1044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1045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1046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1047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1048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1049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1050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1051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1052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24DD-C95D-4E77-96BD-539B10A42F2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矩形 1" descr=""/>
          <p:cNvPicPr/>
          <p:nvPr/>
        </p:nvPicPr>
        <p:blipFill>
          <a:blip r:embed="rId2"/>
          <a:stretch/>
        </p:blipFill>
        <p:spPr>
          <a:xfrm>
            <a:off x="390600" y="2109960"/>
            <a:ext cx="79912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469960" y="976320"/>
            <a:ext cx="4204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过风的声音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清风掠过明月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微风拂过树梢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寒风呼啸着穿过田野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狂风卷起巨浪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185920" y="1324080"/>
            <a:ext cx="5667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过水声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山间的清泉奔向溪流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哗啦啦的大雨砸向屋顶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小水滴清脆地落到盛水的盆里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3623760" y="5013360"/>
            <a:ext cx="667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、你听过春天柳树梳头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、你听过鸟儿唱歌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7524720" y="6021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304360" y="549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仿照课文说一说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135160" y="1117440"/>
            <a:ext cx="513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你总听过（   ）的声音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639720" y="134136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听过春天柳树梳头的声音吗？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春风轻轻地拂过，她的头发变成了绿色；当夏风快步走过，她用头发演奏着“哗哗哗”地乐章；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秋风跑过时，她美丽的秀发开始轻轻地飘落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br>
              <a:rPr sz="4000"/>
            </a:b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228600" y="166068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听过鸟儿唱歌的声音吗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914400" y="20606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你一天天长大，当你熟悉了许多声音后，不知不觉中，你却逐渐失去了听的兴趣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322640" y="692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42202"/>
                </a:solidFill>
                <a:latin typeface="华文楷体"/>
                <a:ea typeface="华文楷体"/>
              </a:rPr>
              <a:t>为什么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457200" y="1676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不再像小时候那样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周围的各种声音了。一些声音你没有听见，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好像它们发出时，你的耳朵正好关闭了似的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连花294_200524112858734_S"/>
          <p:cNvPicPr/>
          <p:nvPr/>
        </p:nvPicPr>
        <p:blipFill>
          <a:blip r:embed="rId1"/>
          <a:stretch/>
        </p:blipFill>
        <p:spPr>
          <a:xfrm>
            <a:off x="0" y="320040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06dycx36-1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3"/>
          <a:stretch/>
        </p:blipFill>
        <p:spPr>
          <a:xfrm>
            <a:off x="7010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4"/>
          <a:stretch/>
        </p:blipFill>
        <p:spPr>
          <a:xfrm>
            <a:off x="6705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5"/>
          <a:stretch/>
        </p:blipFill>
        <p:spPr>
          <a:xfrm>
            <a:off x="64008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6"/>
          <a:stretch/>
        </p:blipFill>
        <p:spPr>
          <a:xfrm>
            <a:off x="7238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7"/>
          <a:stretch/>
        </p:blipFill>
        <p:spPr>
          <a:xfrm>
            <a:off x="6095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雷声.mp3" descr=""/>
          <p:cNvPicPr/>
          <p:nvPr/>
        </p:nvPicPr>
        <p:blipFill>
          <a:blip r:embed="rId8"/>
          <a:stretch/>
        </p:blipFill>
        <p:spPr>
          <a:xfrm>
            <a:off x="57913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草叶上的露水图11131691"/>
          <p:cNvPicPr/>
          <p:nvPr/>
        </p:nvPicPr>
        <p:blipFill>
          <a:blip r:embed="rId9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蝴蝶"/>
          <p:cNvPicPr/>
          <p:nvPr/>
        </p:nvPicPr>
        <p:blipFill>
          <a:blip r:embed="rId10"/>
          <a:srcRect l="0" t="0" r="0" b="-67"/>
          <a:stretch/>
        </p:blipFill>
        <p:spPr>
          <a:xfrm>
            <a:off x="4267080" y="-27000"/>
            <a:ext cx="4876920" cy="324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图片1"/>
          <p:cNvPicPr/>
          <p:nvPr/>
        </p:nvPicPr>
        <p:blipFill>
          <a:blip r:embed="rId1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3"/>
          <p:cNvSpPr/>
          <p:nvPr/>
        </p:nvSpPr>
        <p:spPr>
          <a:xfrm>
            <a:off x="2384640" y="135252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听吧，你一定会听见的，然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后你会微笑：我们这个世界的声音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是多么丰富，多么美妙！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815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815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3232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47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210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9257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3309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566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4256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6822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14" name="Picture 4" descr="图片1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826920" y="54936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美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发现美的眼睛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音乐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捕捉音乐的耳朵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爱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感受爱的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心灵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眼睛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耳朵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心灵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让我们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去感悟生活吧！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.wmv" descr=""/>
          <p:cNvPicPr/>
          <p:nvPr/>
        </p:nvPicPr>
        <p:blipFill>
          <a:blip r:embed="rId1"/>
          <a:stretch/>
        </p:blipFill>
        <p:spPr>
          <a:xfrm>
            <a:off x="-108000" y="6764400"/>
            <a:ext cx="108000" cy="93600"/>
          </a:xfrm>
          <a:prstGeom prst="rect">
            <a:avLst/>
          </a:prstGeom>
          <a:ln w="0">
            <a:noFill/>
          </a:ln>
        </p:spPr>
      </p:pic>
      <p:pic>
        <p:nvPicPr>
          <p:cNvPr id="138" name="矩形 1" descr=""/>
          <p:cNvPicPr/>
          <p:nvPr/>
        </p:nvPicPr>
        <p:blipFill>
          <a:blip r:embed="rId2"/>
          <a:stretch/>
        </p:blipFill>
        <p:spPr>
          <a:xfrm>
            <a:off x="1620720" y="2279520"/>
            <a:ext cx="6132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219320" y="698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自读提示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699280" y="1884240"/>
            <a:ext cx="40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  <a:ea typeface="黑体"/>
              </a:rPr>
              <a:t>自己试着读读课文，画出生字新词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  <a:ea typeface="黑体"/>
              </a:rPr>
              <a:t>用以前学过的方法解决不认识的字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楷体"/>
              <a:ea typeface="楷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楷体"/>
              <a:ea typeface="楷体"/>
            </a:endParaRPr>
          </a:p>
        </p:txBody>
      </p:sp>
      <p:pic>
        <p:nvPicPr>
          <p:cNvPr id="1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037600" y="907920"/>
            <a:ext cx="6124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拨水   清泉   懂得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熟悉   丰富   闲暇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     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似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的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文本框 1"/>
          <p:cNvSpPr/>
          <p:nvPr/>
        </p:nvSpPr>
        <p:spPr>
          <a:xfrm>
            <a:off x="2251080" y="460044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0000"/>
                </a:solidFill>
                <a:latin typeface="楷体"/>
                <a:ea typeface="楷体"/>
              </a:rPr>
              <a:t>shì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3788280" y="565776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好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似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文本框 10"/>
          <p:cNvSpPr/>
          <p:nvPr/>
        </p:nvSpPr>
        <p:spPr>
          <a:xfrm>
            <a:off x="2251080" y="55548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0000"/>
                </a:solidFill>
                <a:latin typeface="楷体"/>
                <a:ea typeface="楷体"/>
              </a:rPr>
              <a:t>sì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96360" cy="7389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1712880" y="836640"/>
            <a:ext cx="6124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麻雀   卷起 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盛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水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能够   楼梯   敲打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杯子   盘子   美妙</a:t>
            </a:r>
            <a:r>
              <a:rPr b="0" lang="zh-CN" sz="2400" spc="-1" strike="noStrike">
                <a:solidFill>
                  <a:srgbClr val="545472"/>
                </a:solidFill>
                <a:latin typeface="楷体"/>
                <a:ea typeface="楷体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6276960" y="3636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chénɡ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069920" y="1341360"/>
            <a:ext cx="749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听  唱  啃  吵  啄  吃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呼啸  哗啦啦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988200" y="47973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楷体"/>
                <a:ea typeface="楷体"/>
              </a:rPr>
              <a:t>吗    呢   吧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17160" y="84312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楷体"/>
                <a:ea typeface="楷体"/>
              </a:rPr>
              <a:t>寂静      闲暇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47680" y="2852640"/>
            <a:ext cx="100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"/>
                <a:ea typeface="楷体"/>
              </a:rPr>
              <a:t>在（     ）的夜里，听一听外面有什么声音传来；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"/>
                <a:ea typeface="楷体"/>
              </a:rPr>
              <a:t>在（     ）的时候，听一首从来没有听过的歌曲或乐曲</a:t>
            </a:r>
            <a:r>
              <a:rPr b="1" lang="en-US" sz="2800" spc="-1" strike="noStrike">
                <a:solidFill>
                  <a:srgbClr val="04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1162440" y="2800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寂静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1162440" y="3600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闲暇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111760" y="857160"/>
            <a:ext cx="4539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过动物的声音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当小金鱼用尾巴拨水，麻雀在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窗沿唱歌，当一只小狗忙着啃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骨头，两只老猫在墙头吵架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三只老母鸡在啄米吃，你总听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到些什么了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457360" y="1557360"/>
            <a:ext cx="38689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过动物的声音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小金鱼用尾巴拨水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麻雀在窗沿唱歌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一只小狗忙着啃骨头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两只老猫在墙头吵架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三只老母鸡在啄米吃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到些什么了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3" name="矩形 4" descr=""/>
          <p:cNvPicPr/>
          <p:nvPr/>
        </p:nvPicPr>
        <p:blipFill>
          <a:blip r:embed="rId2"/>
          <a:stretch/>
        </p:blipFill>
        <p:spPr>
          <a:xfrm>
            <a:off x="682560" y="353880"/>
            <a:ext cx="20368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04Z</dcterms:created>
  <dc:creator>新课标第一网xkb1.com; 微软用户</dc:creator>
  <dc:description>新课标第一网xkb1.com</dc:description>
  <cp:keywords>新课标第一网xkb1.com</cp:keywords>
  <dc:language>en-US</dc:language>
  <cp:lastModifiedBy>lenovo</cp:lastModifiedBy>
  <dcterms:modified xsi:type="dcterms:W3CDTF">2017-08-27T02:35:03Z</dcterms:modified>
  <cp:revision>205</cp:revision>
  <dc:subject/>
  <dc:title>幻灯片 1</dc:title>
</cp:coreProperties>
</file>