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8CF-569F-440F-B1C9-7BA00EAD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117-2340-4606-98BA-35D9AB2B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780-9D72-4FA7-B6B2-F3A15F63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1B8-234F-48D6-AB1B-AB5FD88B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4944-F9FF-495C-87AB-D6940719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E717-01E4-42BE-8944-3B93F460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8E18-585A-4B4D-92E4-22199CE8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F632-3008-41EB-8096-E7B772D3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12CE-DEF6-4615-B1F0-8971E71E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5742-B040-4F16-9AE6-FD3D0B23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8F4E-23E8-472D-83F1-9656F657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DA0-F0BB-48B2-BBD0-924915CC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CB68-0A8F-4651-9DC0-E7F0368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78CA-9C7F-4170-AB8B-2FC94596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533B-ECA5-41F4-945A-B85C1F14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16DE-821A-41FF-B6BE-ECEA1BE2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0782-A945-4090-8253-9B5A2F92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549-45BB-4F56-ABBB-E73BCC1B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1F2-2698-4A3E-AED4-AD7C793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75B-3DAB-4D25-95FA-3536E2E9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48C-389F-4D3D-9A4E-A29B95C2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9A6-DB67-4BB3-8145-F563027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74A-CF92-4A65-9D89-E807C261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27F-28D5-4681-AE78-1C453C0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5845-5381-4B95-BB89-E255E43E7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C63-65F9-4782-BA0C-DB18508A2A9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矩形 1" descr=""/>
          <p:cNvPicPr/>
          <p:nvPr/>
        </p:nvPicPr>
        <p:blipFill>
          <a:blip r:embed="rId2"/>
          <a:stretch/>
        </p:blipFill>
        <p:spPr>
          <a:xfrm>
            <a:off x="390600" y="2109960"/>
            <a:ext cx="7991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469960" y="976320"/>
            <a:ext cx="420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风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清风掠过明月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微风拂过树梢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寒风呼啸着穿过田野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狂风卷起巨浪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185920" y="1324080"/>
            <a:ext cx="566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水声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山间的清泉奔向溪流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哗啦啦的大雨砸向屋顶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小水滴清脆地落到盛水的盆里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23760" y="5013360"/>
            <a:ext cx="667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春天柳树梳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鸟儿唱歌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24720" y="6021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304360" y="54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仿照课文说一说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135160" y="1117440"/>
            <a:ext cx="513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过（   ）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39720" y="13413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春天柳树梳头的声音吗？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风轻轻地拂过，她的头发变成了绿色；当夏风快步走过，她用头发演奏着“哗哗哗”地乐章；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秋风跑过时，她美丽的秀发开始轻轻地飘落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28600" y="16606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鸟儿唱歌的声音吗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914400" y="2060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你一天天长大，当你熟悉了许多声音后，不知不觉中，你却逐渐失去了听的兴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322640" y="69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42202"/>
                </a:solidFill>
                <a:latin typeface="华文楷体"/>
                <a:ea typeface="华文楷体"/>
              </a:rPr>
              <a:t>为什么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57200" y="1676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不再像小时候那样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周围的各种声音了。一些声音你没有听见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好像它们发出时，你的耳朵正好关闭了似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连花294_200524112858734_S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06dycx36-1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7010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6705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6400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7238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6095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雷声.mp3" descr=""/>
          <p:cNvPicPr/>
          <p:nvPr/>
        </p:nvPicPr>
        <p:blipFill>
          <a:blip r:embed="rId8"/>
          <a:stretch/>
        </p:blipFill>
        <p:spPr>
          <a:xfrm>
            <a:off x="5791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草叶上的露水图11131691"/>
          <p:cNvPicPr/>
          <p:nvPr/>
        </p:nvPicPr>
        <p:blipFill>
          <a:blip r:embed="rId9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蝴蝶"/>
          <p:cNvPicPr/>
          <p:nvPr/>
        </p:nvPicPr>
        <p:blipFill>
          <a:blip r:embed="rId10"/>
          <a:srcRect l="0" t="0" r="0" b="-67"/>
          <a:stretch/>
        </p:blipFill>
        <p:spPr>
          <a:xfrm>
            <a:off x="4267080" y="-27000"/>
            <a:ext cx="4876920" cy="32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图片1"/>
          <p:cNvPicPr/>
          <p:nvPr/>
        </p:nvPicPr>
        <p:blipFill>
          <a:blip r:embed="rId1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3"/>
          <p:cNvSpPr/>
          <p:nvPr/>
        </p:nvSpPr>
        <p:spPr>
          <a:xfrm>
            <a:off x="2384640" y="135252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听吧，你一定会听见的，然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你会微笑：我们这个世界的声音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多么丰富，多么美妙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81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15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323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47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21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257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30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566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256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6822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4" name="Picture 4" descr="图片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826920" y="54936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美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发现美的眼睛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音乐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捕捉音乐的耳朵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爱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感受爱的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心灵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眼睛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耳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心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让我们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去感悟生活吧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.wmv" descr=""/>
          <p:cNvPicPr/>
          <p:nvPr/>
        </p:nvPicPr>
        <p:blipFill>
          <a:blip r:embed="rId1"/>
          <a:stretch/>
        </p:blipFill>
        <p:spPr>
          <a:xfrm>
            <a:off x="-108000" y="6764400"/>
            <a:ext cx="108000" cy="9360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1" descr=""/>
          <p:cNvPicPr/>
          <p:nvPr/>
        </p:nvPicPr>
        <p:blipFill>
          <a:blip r:embed="rId2"/>
          <a:stretch/>
        </p:blipFill>
        <p:spPr>
          <a:xfrm>
            <a:off x="1620720" y="2279520"/>
            <a:ext cx="613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19320" y="698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自读提示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699280" y="18842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自己试着读读课文，画出生字新词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用以前学过的方法解决不认识的字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楷体"/>
              <a:ea typeface="楷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楷体"/>
              <a:ea typeface="楷体"/>
            </a:endParaRPr>
          </a:p>
        </p:txBody>
      </p:sp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37600" y="90792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拨水   清泉   懂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熟悉   丰富   闲暇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的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2251080" y="46004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h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3788280" y="565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好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文本框 10"/>
          <p:cNvSpPr/>
          <p:nvPr/>
        </p:nvSpPr>
        <p:spPr>
          <a:xfrm>
            <a:off x="2251080" y="555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712880" y="83664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麻雀   卷起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盛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水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能够   楼梯   敲打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杯子   盘子   美妙</a:t>
            </a:r>
            <a:r>
              <a:rPr b="0" lang="zh-CN" sz="2400" spc="-1" strike="noStrike">
                <a:solidFill>
                  <a:srgbClr val="545472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6276960" y="363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chén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069920" y="1341360"/>
            <a:ext cx="74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听  唱  啃  吵  啄  吃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呼啸  哗啦啦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88200" y="4797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"/>
                <a:ea typeface="楷体"/>
              </a:rPr>
              <a:t>吗    呢   吧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17160" y="8431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楷体"/>
                <a:ea typeface="楷体"/>
              </a:rPr>
              <a:t>寂静      闲暇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7680" y="2852640"/>
            <a:ext cx="100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夜里，听一听外面有什么声音传来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时候，听一首从来没有听过的歌曲或乐曲</a:t>
            </a:r>
            <a:r>
              <a:rPr b="1" lang="en-US" sz="2800" spc="-1" strike="noStrike">
                <a:solidFill>
                  <a:srgbClr val="04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1162440" y="280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寂静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162440" y="360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闲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111760" y="857160"/>
            <a:ext cx="453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当小金鱼用尾巴拨水，麻雀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窗沿唱歌，当一只小狗忙着啃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骨头，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你总听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457360" y="1557360"/>
            <a:ext cx="3868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小金鱼用尾巴拨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麻雀在窗沿唱歌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一只小狗忙着啃骨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3" name="矩形 4" descr=""/>
          <p:cNvPicPr/>
          <p:nvPr/>
        </p:nvPicPr>
        <p:blipFill>
          <a:blip r:embed="rId2"/>
          <a:stretch/>
        </p:blipFill>
        <p:spPr>
          <a:xfrm>
            <a:off x="682560" y="353880"/>
            <a:ext cx="2036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04Z</dcterms:created>
  <dc:creator>新课标第一网xkb1.com; 微软用户</dc:creator>
  <dc:description>新课标第一网xkb1.com</dc:description>
  <cp:keywords>新课标第一网xkb1.com</cp:keywords>
  <dc:language>en-US</dc:language>
  <cp:lastModifiedBy>lenovo</cp:lastModifiedBy>
  <dcterms:modified xsi:type="dcterms:W3CDTF">2017-08-27T02:35:03Z</dcterms:modified>
  <cp:revision>205</cp:revision>
  <dc:subject/>
  <dc:title>幻灯片 1</dc:title>
</cp:coreProperties>
</file>