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9B8-1F12-47CF-8B1B-F2CACBF6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7900-2E52-45A8-97FE-0E5646FA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0B2C-71B0-4AB8-9D9F-77C58DB0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D9C-CFFB-4CE8-92AF-430C51D3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5574-1120-4EF9-BF0E-7166ADBA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682A-B72A-4DAF-A781-1B77EBDB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33A6-980F-41C0-AF30-1F45ED06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E3BE-6C24-4DA8-A55E-93427CE3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4AA8-05CB-4ADC-93D6-810FDEFD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2C14-3234-445E-844D-5BFF6B54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CAC2-7129-4E57-B02B-F2865D58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4A2-3E6D-46CB-B78C-71D951C8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644C-7717-4D84-9BBC-DD72D545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D0C3-75E0-4E30-8D38-379C6F56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392E-12AE-4546-90F7-4FAA3D5C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6B07-DB7F-4A6A-9E46-9DCB17AC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A66F-1251-45D6-9129-EC1C80C8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BB3-F5F7-4E96-8F6F-B768F8B6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DB0-378C-4795-9017-2E12A773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BB1A-E677-4FB2-B9DE-BC00F0C7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841-2805-4605-B65E-6EE5778C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D63-7F4C-46FA-A8ED-A2D0ACCF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9560-4B79-4559-8777-BCFBED5C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30F7-EE94-4DD4-B039-7414B9F0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8A83-F01C-4975-98A4-80745F9A8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026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1027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1028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1029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1030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1031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1032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1033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34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035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036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037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038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039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040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041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042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043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1044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1045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1046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1047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1048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1049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1050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1051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1052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B6E7-C20E-4DE7-9201-56F3B050B215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矩形 1" descr=""/>
          <p:cNvPicPr/>
          <p:nvPr/>
        </p:nvPicPr>
        <p:blipFill>
          <a:blip r:embed="rId2"/>
          <a:stretch/>
        </p:blipFill>
        <p:spPr>
          <a:xfrm>
            <a:off x="390600" y="2109960"/>
            <a:ext cx="79912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469960" y="976320"/>
            <a:ext cx="4204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过风的声音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清风掠过明月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微风拂过树梢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寒风呼啸着穿过田野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狂风卷起巨浪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185920" y="1324080"/>
            <a:ext cx="5667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过水声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山间的清泉奔向溪流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哗啦啦的大雨砸向屋顶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小水滴清脆地落到盛水的盆里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3623760" y="5013360"/>
            <a:ext cx="667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、你听过春天柳树梳头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、你听过鸟儿唱歌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7524720" y="6021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304360" y="549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仿照课文说一说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135160" y="1117440"/>
            <a:ext cx="513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你总听过（   ）的声音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639720" y="134136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听过春天柳树梳头的声音吗？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春风轻轻地拂过，她的头发变成了绿色；当夏风快步走过，她用头发演奏着“哗哗哗”地乐章；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秋风跑过时，她美丽的秀发开始轻轻地飘落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br>
              <a:rPr sz="4000"/>
            </a:b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228600" y="166068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听过鸟儿唱歌的声音吗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914400" y="20606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你一天天长大，当你熟悉了许多声音后，不知不觉中，你却逐渐失去了听的兴趣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322640" y="692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42202"/>
                </a:solidFill>
                <a:latin typeface="华文楷体"/>
                <a:ea typeface="华文楷体"/>
              </a:rPr>
              <a:t>为什么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457200" y="1676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不再像小时候那样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听周围的各种声音了。一些声音你没有听见，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好像它们发出时，你的耳朵正好关闭了似的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连花294_200524112858734_S"/>
          <p:cNvPicPr/>
          <p:nvPr/>
        </p:nvPicPr>
        <p:blipFill>
          <a:blip r:embed="rId1"/>
          <a:stretch/>
        </p:blipFill>
        <p:spPr>
          <a:xfrm>
            <a:off x="0" y="3200400"/>
            <a:ext cx="4267080" cy="3657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06dycx36-1"/>
          <p:cNvPicPr/>
          <p:nvPr/>
        </p:nvPicPr>
        <p:blipFill>
          <a:blip r:embed="rId2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3"/>
          <a:stretch/>
        </p:blipFill>
        <p:spPr>
          <a:xfrm>
            <a:off x="7010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4"/>
          <a:stretch/>
        </p:blipFill>
        <p:spPr>
          <a:xfrm>
            <a:off x="6705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5"/>
          <a:stretch/>
        </p:blipFill>
        <p:spPr>
          <a:xfrm>
            <a:off x="64008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6"/>
          <a:stretch/>
        </p:blipFill>
        <p:spPr>
          <a:xfrm>
            <a:off x="72388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7"/>
          <a:stretch/>
        </p:blipFill>
        <p:spPr>
          <a:xfrm>
            <a:off x="60958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雷声.mp3" descr=""/>
          <p:cNvPicPr/>
          <p:nvPr/>
        </p:nvPicPr>
        <p:blipFill>
          <a:blip r:embed="rId8"/>
          <a:stretch/>
        </p:blipFill>
        <p:spPr>
          <a:xfrm>
            <a:off x="57913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草叶上的露水图11131691"/>
          <p:cNvPicPr/>
          <p:nvPr/>
        </p:nvPicPr>
        <p:blipFill>
          <a:blip r:embed="rId9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蝴蝶"/>
          <p:cNvPicPr/>
          <p:nvPr/>
        </p:nvPicPr>
        <p:blipFill>
          <a:blip r:embed="rId10"/>
          <a:srcRect l="0" t="0" r="0" b="-67"/>
          <a:stretch/>
        </p:blipFill>
        <p:spPr>
          <a:xfrm>
            <a:off x="4267080" y="-27000"/>
            <a:ext cx="4876920" cy="3240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图片1"/>
          <p:cNvPicPr/>
          <p:nvPr/>
        </p:nvPicPr>
        <p:blipFill>
          <a:blip r:embed="rId1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3"/>
          <p:cNvSpPr/>
          <p:nvPr/>
        </p:nvSpPr>
        <p:spPr>
          <a:xfrm>
            <a:off x="2384640" y="1352520"/>
            <a:ext cx="47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听吧，你一定会听见的，然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后你会微笑：我们这个世界的声音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是多么丰富，多么美妙！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815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815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3232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47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210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9257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3309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566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4256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6822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14" name="Picture 4" descr="图片1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826920" y="549360"/>
            <a:ext cx="74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美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发现美的眼睛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音乐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捕捉音乐的耳朵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爱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感受爱的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心灵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眼睛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耳朵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心灵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让我们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去感悟生活吧！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1.wmv" descr=""/>
          <p:cNvPicPr/>
          <p:nvPr/>
        </p:nvPicPr>
        <p:blipFill>
          <a:blip r:embed="rId1"/>
          <a:stretch/>
        </p:blipFill>
        <p:spPr>
          <a:xfrm>
            <a:off x="-108000" y="6764400"/>
            <a:ext cx="108000" cy="93600"/>
          </a:xfrm>
          <a:prstGeom prst="rect">
            <a:avLst/>
          </a:prstGeom>
          <a:ln w="0">
            <a:noFill/>
          </a:ln>
        </p:spPr>
      </p:pic>
      <p:pic>
        <p:nvPicPr>
          <p:cNvPr id="138" name="矩形 1" descr=""/>
          <p:cNvPicPr/>
          <p:nvPr/>
        </p:nvPicPr>
        <p:blipFill>
          <a:blip r:embed="rId2"/>
          <a:stretch/>
        </p:blipFill>
        <p:spPr>
          <a:xfrm>
            <a:off x="1620720" y="2279520"/>
            <a:ext cx="6132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219320" y="698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自读提示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699280" y="1884240"/>
            <a:ext cx="40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  <a:ea typeface="黑体"/>
              </a:rPr>
              <a:t>自己试着读读课文，画出生字新词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  <a:ea typeface="黑体"/>
              </a:rPr>
              <a:t>用以前学过的方法解决不认识的字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楷体"/>
              <a:ea typeface="楷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楷体"/>
              <a:ea typeface="楷体"/>
            </a:endParaRPr>
          </a:p>
        </p:txBody>
      </p:sp>
      <p:pic>
        <p:nvPicPr>
          <p:cNvPr id="14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037600" y="907920"/>
            <a:ext cx="6124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拨水   清泉   懂得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熟悉   丰富   闲暇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      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似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的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文本框 1"/>
          <p:cNvSpPr/>
          <p:nvPr/>
        </p:nvSpPr>
        <p:spPr>
          <a:xfrm>
            <a:off x="2251080" y="460044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0000"/>
                </a:solidFill>
                <a:latin typeface="楷体"/>
                <a:ea typeface="楷体"/>
              </a:rPr>
              <a:t>shì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3788280" y="565776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好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似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文本框 10"/>
          <p:cNvSpPr/>
          <p:nvPr/>
        </p:nvSpPr>
        <p:spPr>
          <a:xfrm>
            <a:off x="2251080" y="55548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0000"/>
                </a:solidFill>
                <a:latin typeface="楷体"/>
                <a:ea typeface="楷体"/>
              </a:rPr>
              <a:t>sì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96360" cy="7389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1712880" y="836640"/>
            <a:ext cx="6124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麻雀   卷起  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盛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水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能够   楼梯   敲打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杯子   盘子   美妙</a:t>
            </a:r>
            <a:r>
              <a:rPr b="0" lang="zh-CN" sz="2400" spc="-1" strike="noStrike">
                <a:solidFill>
                  <a:srgbClr val="545472"/>
                </a:solidFill>
                <a:latin typeface="楷体"/>
                <a:ea typeface="楷体"/>
              </a:rPr>
              <a:t>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6276960" y="3636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chénɡ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069920" y="1341360"/>
            <a:ext cx="749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听  唱  啃  吵  啄  吃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呼啸  哗啦啦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988200" y="479736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楷体"/>
                <a:ea typeface="楷体"/>
              </a:rPr>
              <a:t>吗    呢   吧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117160" y="84312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楷体"/>
                <a:ea typeface="楷体"/>
              </a:rPr>
              <a:t>寂静      闲暇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47680" y="2852640"/>
            <a:ext cx="100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楷体"/>
                <a:ea typeface="楷体"/>
              </a:rPr>
              <a:t>在（     ）的夜里，听一听外面有什么声音传来；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楷体"/>
                <a:ea typeface="楷体"/>
              </a:rPr>
              <a:t>在（     ）的时候，听一首从来没有听过的歌曲或乐曲</a:t>
            </a:r>
            <a:r>
              <a:rPr b="1" lang="en-US" sz="2800" spc="-1" strike="noStrike">
                <a:solidFill>
                  <a:srgbClr val="04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1162440" y="2800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"/>
                <a:ea typeface="楷体"/>
              </a:rPr>
              <a:t>寂静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矩形 3"/>
          <p:cNvSpPr/>
          <p:nvPr/>
        </p:nvSpPr>
        <p:spPr>
          <a:xfrm>
            <a:off x="1162440" y="3600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"/>
                <a:ea typeface="楷体"/>
              </a:rPr>
              <a:t>闲暇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111760" y="857160"/>
            <a:ext cx="4539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过动物的声音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当小金鱼用尾巴拨水，麻雀在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窗沿唱歌，当一只小狗忙着啃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骨头，两只老猫在墙头吵架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三只老母鸡在啄米吃，你总听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到些什么了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457360" y="1557360"/>
            <a:ext cx="38689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过动物的声音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小金鱼用尾巴拨水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麻雀在窗沿唱歌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一只小狗忙着啃骨头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两只老猫在墙头吵架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三只老母鸡在啄米吃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到些什么了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3" name="矩形 4" descr=""/>
          <p:cNvPicPr/>
          <p:nvPr/>
        </p:nvPicPr>
        <p:blipFill>
          <a:blip r:embed="rId2"/>
          <a:stretch/>
        </p:blipFill>
        <p:spPr>
          <a:xfrm>
            <a:off x="682560" y="353880"/>
            <a:ext cx="20368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04Z</dcterms:created>
  <dc:creator>新课标第一网xkb1.com; 微软用户</dc:creator>
  <dc:description>新课标第一网xkb1.com</dc:description>
  <cp:keywords>新课标第一网xkb1.com</cp:keywords>
  <dc:language>en-US</dc:language>
  <cp:lastModifiedBy>lenovo</cp:lastModifiedBy>
  <dcterms:modified xsi:type="dcterms:W3CDTF">2017-08-27T02:35:03Z</dcterms:modified>
  <cp:revision>205</cp:revision>
  <dc:subject/>
  <dc:title>幻灯片 1</dc:title>
</cp:coreProperties>
</file>