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6F8-7E30-405A-BBF0-16A05517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4E5-D2A8-4E05-BE3D-8E1C19A4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22C-00DB-474C-AFA2-4C627111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122-2493-461C-A79D-F2F61F65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00FF-2D53-4F4C-869E-98219A4A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FF47-1F7A-4DA4-97FF-5E7BB83F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C386-8129-4E3E-80DB-0263CB0B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0F29-7F96-409B-A295-60ED23AE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E3E0-2FBF-4F1A-9209-C2795127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4E7E-8759-415F-B14E-A5CA73D3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4FEA-ECCA-4234-9290-8FD9A66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620-8D2E-4A23-95CA-F3F07C12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FDDF-B9EC-4625-B8C7-973E0D77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1013-DBB1-44AA-B52C-A8592D6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F173-3946-4B73-BB5B-E528D323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C3E2-E1D9-41D2-B8ED-0CAFE279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88E8-8BBD-4D30-AC8F-2D5E4099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091E-6338-4811-97DE-D3DFBC68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3951-2428-4331-887A-9F5524C1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49D8-8865-493F-A006-ACEF87F1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9658-6CEB-438A-834F-E31C0FB0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4EF3-A921-48BA-9FC4-81343508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6FF-76FB-4CC9-9469-C4D6F59C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3B16-E68F-473E-9777-149C7A7F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74C4-3F20-41AE-8B70-F21F473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9FB6-BDBC-41BE-9C51-3922A85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32E6-93DA-4E3B-8192-5E1E475A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030F-574E-4D89-998D-982C9C80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9120-4A1D-4E42-8C1C-BDFE3692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616CD-4F9E-4770-9BE9-244E1CC4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D57E-E776-4A89-A743-A22C31E9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815E-4AB0-47AE-B0F0-14DDE8E1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4F53-ACB0-42EC-A19C-EC182F64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E02-D8E8-4C6B-8660-B33ED7E8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AF9B-5D67-43C1-8787-BB4D0164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E158D-7CBF-487E-B886-85350D01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AE53-3358-4A99-B683-33C54F14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4B8F-5D20-428B-B7C6-77D3C0C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A16BF-C4D7-445D-A535-1B33B832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E66F-FA87-44DF-9298-E28B1051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1D61-FEDE-4865-B9C2-B576A7A0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1BC5B-52C0-450A-A28F-EA4BEB28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9C7B-4EFB-4EFC-B367-16CF678B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92A-F6F7-48C8-9238-779FC776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1C5-40CF-4167-A574-F939D2C7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9FF-B447-4B49-BDAA-CEC2C2DF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B8C-76FA-4D79-B524-F2FB2CD5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8ED-EB7E-4F8B-9FE3-EF2EC2E7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66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7563-0F85-4158-8E51-2B70ACA97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8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1874-5DFE-4D28-B368-2D4A62EFAD5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6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1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2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3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4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5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6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7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48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34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50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1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2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3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4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5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6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7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8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59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0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2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3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4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5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6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7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8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69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0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1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2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4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5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6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7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8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79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0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1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2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3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4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6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7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8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89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0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1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2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3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4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5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6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8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399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0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1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2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3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4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5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6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7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8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0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1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2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3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4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5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6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7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8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19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0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2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3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4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5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6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7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8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29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0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1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2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4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5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6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7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8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39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0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1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2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3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4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6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7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8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49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0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1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2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3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4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5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6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8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59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0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1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2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3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4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5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6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7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8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6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0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1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2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3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4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5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6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7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8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79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0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2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3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4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5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6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7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8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89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0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1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2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4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grpSp>
        <p:nvGrpSpPr>
          <p:cNvPr id="49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6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7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8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499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0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1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2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3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4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5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6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7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08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9A96-9E27-4C0A-BAAE-FF0E2A213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5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6600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8B66-97B6-4255-AAF5-C82FBD9FB82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9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9"/>
          <p:cNvGrpSpPr/>
          <p:nvPr/>
        </p:nvGrpSpPr>
        <p:grpSpPr>
          <a:xfrm>
            <a:off x="0" y="34920"/>
            <a:ext cx="9144000" cy="6823080"/>
            <a:chOff x="0" y="34920"/>
            <a:chExt cx="9144000" cy="6823080"/>
          </a:xfrm>
        </p:grpSpPr>
        <p:pic>
          <p:nvPicPr>
            <p:cNvPr id="638" name="Picture 8" descr="dhbk21801"/>
            <p:cNvPicPr/>
            <p:nvPr/>
          </p:nvPicPr>
          <p:blipFill>
            <a:blip r:embed="rId1"/>
            <a:srcRect l="0" t="0" r="17150" b="0"/>
            <a:stretch/>
          </p:blipFill>
          <p:spPr>
            <a:xfrm>
              <a:off x="0" y="34920"/>
              <a:ext cx="9144000" cy="68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5"/>
            <p:cNvSpPr/>
            <p:nvPr/>
          </p:nvSpPr>
          <p:spPr>
            <a:xfrm>
              <a:off x="1332000" y="1638360"/>
              <a:ext cx="691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白鲸是怎么得救的。请小组合作学习，尝试用上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“首先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然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接着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最后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……</a:t>
              </a:r>
              <a:r>
                <a:rPr b="0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”</a:t>
              </a:r>
              <a:r>
                <a:rPr b="0" lang="en-US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这样表示先后顺序的词把白鲸被救的过程说一说。</a:t>
              </a:r>
              <a:endParaRPr b="0" lang="en-US" sz="3600" spc="-1" strike="noStrike">
                <a:solidFill>
                  <a:srgbClr val="ff6600"/>
                </a:solidFill>
                <a:latin typeface="Arial"/>
              </a:endParaRPr>
            </a:p>
          </p:txBody>
        </p:sp>
        <p:sp>
          <p:nvSpPr>
            <p:cNvPr id="640" name="WordArt 7"/>
            <p:cNvSpPr txBox="1"/>
            <p:nvPr/>
          </p:nvSpPr>
          <p:spPr>
            <a:xfrm>
              <a:off x="1332000" y="836640"/>
              <a:ext cx="1887480" cy="80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自学提示</a:t>
              </a:r>
              <a:endPara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" descr=""/>
          <p:cNvPicPr/>
          <p:nvPr/>
        </p:nvPicPr>
        <p:blipFill>
          <a:blip r:embed="rId2"/>
          <a:srcRect l="3674" t="4558" r="3345" b="5320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4"/>
          <p:cNvSpPr/>
          <p:nvPr/>
        </p:nvSpPr>
        <p:spPr>
          <a:xfrm>
            <a:off x="2424240" y="1128600"/>
            <a:ext cx="429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正巧一个猎人发现了这群遇险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的白鲸，马上向附近的村庄报了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信。白鲸是珍奇的动物，人们一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听到这个消息，纷纷赶来凿冰抢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救白鲸，还给它们带来好吃的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可是天气太冷了，刚凿开的冰马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上又冻上了。人们没有办法，只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楷体"/>
                <a:ea typeface="华文楷体"/>
              </a:rPr>
              <a:t>好向当地政府发电报，请求援助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490680" y="890640"/>
            <a:ext cx="81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直升飞机和破冰船来了。在飞机的指挥下，破冰船开出了一条二十多米长的通道。可是，白鲸却一动不动地挤在一起，它们害怕这艘高大的破冰船。一个船员大声说：“白鲸喜欢唱歌，是海上的百灵鸟。放放音乐试试，把它们引出去！”于是，船上响起了优雅的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蓝色的多瑙河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乐曲。啊，奇迹发生了！白鲸成群结队地跟着破冰船游动起来。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4"/>
          <p:cNvSpPr/>
          <p:nvPr/>
        </p:nvSpPr>
        <p:spPr>
          <a:xfrm>
            <a:off x="593640" y="1905120"/>
            <a:ext cx="855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一个船员大声说：“白鲸喜欢唱歌，是海上的百灵鸟。放放音乐试试，把它们引出去！”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3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3"/>
          <p:cNvPicPr/>
          <p:nvPr/>
        </p:nvPicPr>
        <p:blipFill>
          <a:blip r:embed="rId1"/>
          <a:stretch/>
        </p:blipFill>
        <p:spPr>
          <a:xfrm>
            <a:off x="-380880" y="0"/>
            <a:ext cx="977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5"/>
          <p:cNvPicPr/>
          <p:nvPr/>
        </p:nvPicPr>
        <p:blipFill>
          <a:blip r:embed="rId1"/>
          <a:stretch/>
        </p:blipFill>
        <p:spPr>
          <a:xfrm>
            <a:off x="-5868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1" descr="白鲸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2700360" y="9079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5" name="WordArt 9"/>
          <p:cNvSpPr txBox="1"/>
          <p:nvPr/>
        </p:nvSpPr>
        <p:spPr>
          <a:xfrm>
            <a:off x="1476360" y="1130400"/>
            <a:ext cx="61912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喜爱音乐的白鲸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4"/>
          <p:cNvSpPr/>
          <p:nvPr/>
        </p:nvSpPr>
        <p:spPr>
          <a:xfrm>
            <a:off x="2302920" y="1035000"/>
            <a:ext cx="47286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召唤   一群   北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极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惊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慌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拥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挤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冰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区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成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群结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队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246760" y="3236760"/>
            <a:ext cx="4533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鲸   顽皮   坚硬   政府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援助   指挥   优雅   奇迹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妙   脊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9" name="文本框 2"/>
          <p:cNvSpPr/>
          <p:nvPr/>
        </p:nvSpPr>
        <p:spPr>
          <a:xfrm>
            <a:off x="1095480" y="866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ào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0" name="文本框 10"/>
          <p:cNvSpPr/>
          <p:nvPr/>
        </p:nvSpPr>
        <p:spPr>
          <a:xfrm>
            <a:off x="3133800" y="522288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ǐ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857160" y="114300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452600" y="11732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两天以后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772800" y="1154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突然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6523200" y="1173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来了一股寒流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64872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海面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1810800" y="2144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转眼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2863800" y="2087640"/>
            <a:ext cx="628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变成了冰雪的世界，白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396680" y="2944800"/>
            <a:ext cx="7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鲸回去的路被冰层堵住了。白鲸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2134080" y="366876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们着了慌，拼命用脊背撞冰层，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726920" y="44496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但是冰层太坚硬了，它们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7468560" y="4487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绝望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1814760" y="52498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地叫起来。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0:25:25Z</dcterms:created>
  <dc:creator>新课标第一网</dc:creator>
  <dc:description>新课标第一网不用注册，免费下载！</dc:description>
  <dc:language>en-US</dc:language>
  <cp:lastModifiedBy>lenovo</cp:lastModifiedBy>
  <dcterms:modified xsi:type="dcterms:W3CDTF">2017-08-27T03:28:54Z</dcterms:modified>
  <cp:revision>107</cp:revision>
  <dc:subject/>
  <dc:title>幻灯片 1</dc:title>
</cp:coreProperties>
</file>