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4F3-6ABB-4B02-A8E8-BC7D830A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E22-9C03-4858-BF59-9D72D03C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920-5841-43D7-AB5B-6CE548A1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9D8-70DB-4DF2-A087-CE943CAF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33DF-6D7F-444E-A301-C4BF8C03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5D3E-3D44-43F0-B449-01AFAFBC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D28D-C6E5-4040-8430-97FD2EA7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D4B5-4097-4208-AD3C-D739444C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263D-8C3E-40FA-B80C-8016CD4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8AFB-2399-41F4-8626-3E8CB8B5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C833-F9C6-4870-A5C2-37B424F5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97C-1A49-40D6-A1B2-3F1BA1C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8C33-7CB9-4F71-8926-7CCDED4F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240F-CA8C-4EA4-9709-612FB7A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94A7-4CC8-4D39-8AFB-2F95BA8E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4A27-843C-430B-A9FB-DE132A1E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D17A-23CA-4503-A6FB-77D7B9D0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5ABC-FF36-4F37-94E1-AF7D6ACE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3BD9-FA9D-4C43-AABD-D95C4507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FBE2-2D75-4D98-AD7E-9605BCD5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795B-42E2-49A5-B257-5191BEE8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C4D8-63D8-4C4F-9D7F-7996B514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9C6-D3B6-4068-958C-BF1B7695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401B-948E-407A-A64B-9418F20C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A240-B8AB-4186-9AAD-5C398425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79EFA-45E4-4456-9BA5-04E267E0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C044-0233-488C-A494-DBD212E9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636E-BFE9-40F1-8D7B-61826B73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13AD-7FEB-42F5-B267-D72F3B81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D3A4-9A8E-4359-B882-A27EAE47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FA18E-00F0-4AD8-8D50-77D76519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F823-532F-4C5A-B12C-2D3AE4A5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A44E5-5158-4F3E-963E-0E2C977D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8F3-4425-4004-9CED-27531009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16286-E9E6-4381-8FAC-A313FB44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DBCC-6F92-4643-BFD9-9195A077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8B62-1139-48DD-A1CE-D37F299C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64DC2-10C9-4995-ACB6-1ABADABE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8589C-FF3C-4877-8556-DE50CCB6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6C2F-DD66-4676-B91E-0D081D03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9110-2E47-4D6E-A52E-8607EC67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A0EDF-7A5D-4145-BAD5-90BC1CF7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538DB-FC3F-4E01-9F94-0EB946A0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F8F-15DD-4D00-B3D6-1123899E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022-4F73-43D5-A4D1-60E01E03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8AE-D6AD-47BF-8B85-8ED76157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630-BDCF-4726-871C-36B085C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226-9F83-4B5A-983B-2C10D268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7E04-7A91-4DF7-BD27-B1BDC56DA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D60B-4CCB-47ED-ACA9-C5C5CE469E9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6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7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8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9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0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1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2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3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4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5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6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7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8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34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50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1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2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3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4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5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6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7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8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9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0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2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3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4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5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6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7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8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9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0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1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2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4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5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6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7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8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9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0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1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2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3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4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6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7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8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9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0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1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2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3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4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5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6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8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9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0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1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2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3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4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5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6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7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8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0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1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2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3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4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5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6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7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8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9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0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2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3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4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5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6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7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8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9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0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1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2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4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5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6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7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8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9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0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1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2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3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4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6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7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8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9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0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1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2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3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4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5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6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8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9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0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1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2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3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4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5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6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7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8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0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1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2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3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4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5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6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7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8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9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0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2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3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4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5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6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7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8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9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0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1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2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4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49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6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7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8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9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0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1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2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3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4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5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6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7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8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FE23-6C85-402C-B29F-080DC97C4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51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3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4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C954-6F69-4361-90A4-BB3F73E0B20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79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9"/>
          <p:cNvGrpSpPr/>
          <p:nvPr/>
        </p:nvGrpSpPr>
        <p:grpSpPr>
          <a:xfrm>
            <a:off x="0" y="34920"/>
            <a:ext cx="9144000" cy="6823080"/>
            <a:chOff x="0" y="34920"/>
            <a:chExt cx="9144000" cy="6823080"/>
          </a:xfrm>
        </p:grpSpPr>
        <p:pic>
          <p:nvPicPr>
            <p:cNvPr id="638" name="Picture 8" descr="dhbk21801"/>
            <p:cNvPicPr/>
            <p:nvPr/>
          </p:nvPicPr>
          <p:blipFill>
            <a:blip r:embed="rId1"/>
            <a:srcRect l="0" t="0" r="17150" b="0"/>
            <a:stretch/>
          </p:blipFill>
          <p:spPr>
            <a:xfrm>
              <a:off x="0" y="34920"/>
              <a:ext cx="9144000" cy="68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5"/>
            <p:cNvSpPr/>
            <p:nvPr/>
          </p:nvSpPr>
          <p:spPr>
            <a:xfrm>
              <a:off x="1332000" y="1638360"/>
              <a:ext cx="691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白鲸是怎么得救的。请小组合作学习，尝试用上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“首先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然后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接着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最后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”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这样表示先后顺序的词把白鲸被救的过程说一说。</a:t>
              </a:r>
              <a:endParaRPr b="0" lang="en-US" sz="36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40" name="WordArt 7"/>
            <p:cNvSpPr txBox="1"/>
            <p:nvPr/>
          </p:nvSpPr>
          <p:spPr>
            <a:xfrm>
              <a:off x="1332000" y="836640"/>
              <a:ext cx="1887480" cy="80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自学提示</a:t>
              </a:r>
              <a:endPara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" descr=""/>
          <p:cNvPicPr/>
          <p:nvPr/>
        </p:nvPicPr>
        <p:blipFill>
          <a:blip r:embed="rId2"/>
          <a:srcRect l="3674" t="4558" r="3345" b="5320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4"/>
          <p:cNvSpPr/>
          <p:nvPr/>
        </p:nvSpPr>
        <p:spPr>
          <a:xfrm>
            <a:off x="2424240" y="1128600"/>
            <a:ext cx="429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正巧一个猎人发现了这群遇险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的白鲸，马上向附近的村庄报了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信。白鲸是珍奇的动物，人们一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听到这个消息，纷纷赶来凿冰抢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救白鲸，还给它们带来好吃的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可是天气太冷了，刚凿开的冰马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上又冻上了。人们没有办法，只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好向当地政府发电报，请求援助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4"/>
          <p:cNvSpPr/>
          <p:nvPr/>
        </p:nvSpPr>
        <p:spPr>
          <a:xfrm>
            <a:off x="490680" y="890640"/>
            <a:ext cx="81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直升飞机和破冰船来了。在飞机的指挥下，破冰船开出了一条二十多米长的通道。可是，白鲸却一动不动地挤在一起，它们害怕这艘高大的破冰船。一个船员大声说：“白鲸喜欢唱歌，是海上的百灵鸟。放放音乐试试，把它们引出去！”于是，船上响起了优雅的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蓝色的多瑙河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乐曲。啊，奇迹发生了！白鲸成群结队地跟着破冰船游动起来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4"/>
          <p:cNvSpPr/>
          <p:nvPr/>
        </p:nvSpPr>
        <p:spPr>
          <a:xfrm>
            <a:off x="593640" y="1905120"/>
            <a:ext cx="855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一个船员大声说：“白鲸喜欢唱歌，是海上的百灵鸟。放放音乐试试，把它们引出去！”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白鲸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3"/>
          <p:cNvSpPr/>
          <p:nvPr/>
        </p:nvSpPr>
        <p:spPr>
          <a:xfrm>
            <a:off x="2700360" y="9079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3"/>
          <p:cNvPicPr/>
          <p:nvPr/>
        </p:nvPicPr>
        <p:blipFill>
          <a:blip r:embed="rId1"/>
          <a:stretch/>
        </p:blipFill>
        <p:spPr>
          <a:xfrm>
            <a:off x="-380880" y="0"/>
            <a:ext cx="977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81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5"/>
          <p:cNvPicPr/>
          <p:nvPr/>
        </p:nvPicPr>
        <p:blipFill>
          <a:blip r:embed="rId1"/>
          <a:stretch/>
        </p:blipFill>
        <p:spPr>
          <a:xfrm>
            <a:off x="-58680" y="0"/>
            <a:ext cx="925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1" descr="白鲸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2700360" y="9079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5" name="WordArt 9"/>
          <p:cNvSpPr txBox="1"/>
          <p:nvPr/>
        </p:nvSpPr>
        <p:spPr>
          <a:xfrm>
            <a:off x="1476360" y="1130400"/>
            <a:ext cx="61912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喜爱音乐的白鲸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4"/>
          <p:cNvSpPr/>
          <p:nvPr/>
        </p:nvSpPr>
        <p:spPr>
          <a:xfrm>
            <a:off x="2302920" y="1035000"/>
            <a:ext cx="47286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召唤   一群   北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极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惊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慌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拥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挤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冰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区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成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群结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队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246760" y="3236760"/>
            <a:ext cx="4533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鲸   顽皮   坚硬   政府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援助   指挥   优雅   奇迹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妙   脊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9" name="文本框 2"/>
          <p:cNvSpPr/>
          <p:nvPr/>
        </p:nvSpPr>
        <p:spPr>
          <a:xfrm>
            <a:off x="1095480" y="8668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ào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0" name="文本框 10"/>
          <p:cNvSpPr/>
          <p:nvPr/>
        </p:nvSpPr>
        <p:spPr>
          <a:xfrm>
            <a:off x="3133800" y="52228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ǐ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857160" y="1143000"/>
            <a:ext cx="742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452600" y="11732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两天以后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772800" y="1154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突然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6523200" y="11732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来了一股寒流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648720" y="214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海面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1810800" y="214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转眼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2863800" y="2087640"/>
            <a:ext cx="628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变成了冰雪的世界，白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4396680" y="2944800"/>
            <a:ext cx="7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鲸回去的路被冰层堵住了。白鲸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2134080" y="366876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们着了慌，拼命用脊背撞冰层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726920" y="444960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但是冰层太坚硬了，它们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7468560" y="4487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绝望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1814760" y="52498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地叫起来。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0:25:25Z</dcterms:created>
  <dc:creator>新课标第一网</dc:creator>
  <dc:description>新课标第一网不用注册，免费下载！</dc:description>
  <dc:language>en-US</dc:language>
  <cp:lastModifiedBy>lenovo</cp:lastModifiedBy>
  <dcterms:modified xsi:type="dcterms:W3CDTF">2017-08-27T03:28:54Z</dcterms:modified>
  <cp:revision>107</cp:revision>
  <dc:subject/>
  <dc:title>幻灯片 1</dc:title>
</cp:coreProperties>
</file>