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6B3-73C9-4C5A-B87D-FCDB4972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68B-F621-41FD-B31D-2590752D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A5B-A52E-4F2F-9DA8-272AB7B0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613-E096-4A8C-BCC9-0DFC6740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916F-B7EE-4F50-B986-25930F5A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5A8A-03F2-4EED-9D1F-3EECC70A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4D5B-B694-4516-B782-EB54BC4D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BFAC-8A1E-4CEF-B544-7329CFCD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47B0-8CE8-4E64-8323-EBDB5264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6F1-FE5E-4246-BB48-B170548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13EB-2886-4EC8-ACFD-78324610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21A-3133-4CA0-960B-D91E0DC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E0C7-37AB-44E8-9B4E-E3D1EAC3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6422-495C-49CA-A8DB-A6D3F603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8C3E-AC52-49CE-8C9C-B01C4E07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8D8-A99C-4267-9168-E7708A69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8BB4-F582-4A46-BA1E-E5F67CB8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4B3D-8BE2-4217-869F-8E7A5983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A1E1-8ACE-438A-B597-EAA5BAFF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C380-D136-478B-9681-1B22BF07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5635-7950-4672-B435-41832F86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D1F9-8ABA-4D64-98F2-7466F777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1F8-5FBB-4486-A3D6-5776B0A8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DF49-7650-4CFB-A301-20BBD711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5B1A-0287-4E4B-A03E-1432624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4488-6543-4624-8E72-21381BF9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CE3EF-848D-44A1-904D-FE5CC032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7AD1-D735-4B47-A562-A7466949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C29E-4A0F-415C-8FFB-B70888CA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2DB1-5B6F-460F-AA8C-0D7F9A4D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3ABA0-E88F-4E8B-A80B-84D047EF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AF73-814B-4B25-9314-BF5700BA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28BD-2FDB-4BC4-AEA5-A5E1B4A9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C46-8953-4F55-8278-225FF791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7990-A789-43BE-81FE-008D1F6F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4EBB-F50E-43BF-A218-CACF8F00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BBD5-72FE-490D-B653-0361E7B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3391-B67B-45E2-9B6D-9B5FB65E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B2A4A-083A-46CC-A89F-E8C456C0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0EF6-2842-4E04-96B2-20D48C76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2034-62DD-4327-BFEF-794C6152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DF47-FC44-4972-BB72-CAB22D3C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5DA1-8A2A-458A-95BE-4CF5D430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F8F-0F41-4A7D-9CFC-81A06B4B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9B6-4E15-45C4-8ADE-E83E0703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3DA-2003-4474-A3FD-EF2F3DE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B90-DF09-4EC8-B837-5B5084A0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B98-A2AB-48CC-80DE-C26988E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D0E0-5BB3-4FE6-940C-C995814DD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5BA-D274-469B-8D8B-05474302D16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6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1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2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3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4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5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6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7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8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34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50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1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2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3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4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5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6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7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8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9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0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2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3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4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5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6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7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8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9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0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1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2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4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5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6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7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8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9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0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1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2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3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4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6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7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8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9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0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1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2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3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4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5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6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8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9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0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1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2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3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4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5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6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7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8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1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2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3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4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5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6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7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8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9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0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2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3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4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5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6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7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8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9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0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1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2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4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5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6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7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8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9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0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1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2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3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4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6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7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8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9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0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1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3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4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5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6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8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9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0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1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2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3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4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5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6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7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8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0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1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2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3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4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5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6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7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8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9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0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2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3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4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5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6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7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8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9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0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1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2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4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49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6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7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8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9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0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1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2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3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4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5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6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7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8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BA37-966B-448E-993A-DDB3DE2E9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5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D490-5D0A-40BE-92C5-DA00923AF60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9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9"/>
          <p:cNvGrpSpPr/>
          <p:nvPr/>
        </p:nvGrpSpPr>
        <p:grpSpPr>
          <a:xfrm>
            <a:off x="0" y="34920"/>
            <a:ext cx="9144000" cy="6823080"/>
            <a:chOff x="0" y="34920"/>
            <a:chExt cx="9144000" cy="6823080"/>
          </a:xfrm>
        </p:grpSpPr>
        <p:pic>
          <p:nvPicPr>
            <p:cNvPr id="638" name="Picture 8" descr="dhbk21801"/>
            <p:cNvPicPr/>
            <p:nvPr/>
          </p:nvPicPr>
          <p:blipFill>
            <a:blip r:embed="rId1"/>
            <a:srcRect l="0" t="0" r="17150" b="0"/>
            <a:stretch/>
          </p:blipFill>
          <p:spPr>
            <a:xfrm>
              <a:off x="0" y="34920"/>
              <a:ext cx="9144000" cy="68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5"/>
            <p:cNvSpPr/>
            <p:nvPr/>
          </p:nvSpPr>
          <p:spPr>
            <a:xfrm>
              <a:off x="1332000" y="1638360"/>
              <a:ext cx="691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白鲸是怎么得救的。请小组合作学习，尝试用上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“首先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然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接着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最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”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这样表示先后顺序的词把白鲸被救的过程说一说。</a:t>
              </a:r>
              <a:endParaRPr b="0" lang="en-US" sz="36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0" name="WordArt 7"/>
            <p:cNvSpPr txBox="1"/>
            <p:nvPr/>
          </p:nvSpPr>
          <p:spPr>
            <a:xfrm>
              <a:off x="1332000" y="836640"/>
              <a:ext cx="1887480" cy="80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自学提示</a:t>
              </a:r>
              <a:endPara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" descr=""/>
          <p:cNvPicPr/>
          <p:nvPr/>
        </p:nvPicPr>
        <p:blipFill>
          <a:blip r:embed="rId2"/>
          <a:srcRect l="3674" t="4558" r="3345" b="5320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4"/>
          <p:cNvSpPr/>
          <p:nvPr/>
        </p:nvSpPr>
        <p:spPr>
          <a:xfrm>
            <a:off x="2424240" y="1128600"/>
            <a:ext cx="42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正巧一个猎人发现了这群遇险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的白鲸，马上向附近的村庄报了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信。白鲸是珍奇的动物，人们一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听到这个消息，纷纷赶来凿冰抢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救白鲸，还给它们带来好吃的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可是天气太冷了，刚凿开的冰马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上又冻上了。人们没有办法，只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好向当地政府发电报，请求援助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490680" y="890640"/>
            <a:ext cx="81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直升飞机和破冰船来了。在飞机的指挥下，破冰船开出了一条二十多米长的通道。可是，白鲸却一动不动地挤在一起，它们害怕这艘高大的破冰船。一个船员大声说：“白鲸喜欢唱歌，是海上的百灵鸟。放放音乐试试，把它们引出去！”于是，船上响起了优雅的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蓝色的多瑙河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乐曲。啊，奇迹发生了！白鲸成群结队地跟着破冰船游动起来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4"/>
          <p:cNvSpPr/>
          <p:nvPr/>
        </p:nvSpPr>
        <p:spPr>
          <a:xfrm>
            <a:off x="593640" y="1905120"/>
            <a:ext cx="855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一个船员大声说：“白鲸喜欢唱歌，是海上的百灵鸟。放放音乐试试，把它们引出去！”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3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3"/>
          <p:cNvPicPr/>
          <p:nvPr/>
        </p:nvPicPr>
        <p:blipFill>
          <a:blip r:embed="rId1"/>
          <a:stretch/>
        </p:blipFill>
        <p:spPr>
          <a:xfrm>
            <a:off x="-380880" y="0"/>
            <a:ext cx="977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5"/>
          <p:cNvPicPr/>
          <p:nvPr/>
        </p:nvPicPr>
        <p:blipFill>
          <a:blip r:embed="rId1"/>
          <a:stretch/>
        </p:blipFill>
        <p:spPr>
          <a:xfrm>
            <a:off x="-5868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1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5" name="WordArt 9"/>
          <p:cNvSpPr txBox="1"/>
          <p:nvPr/>
        </p:nvSpPr>
        <p:spPr>
          <a:xfrm>
            <a:off x="1476360" y="1130400"/>
            <a:ext cx="61912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喜爱音乐的白鲸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4"/>
          <p:cNvSpPr/>
          <p:nvPr/>
        </p:nvSpPr>
        <p:spPr>
          <a:xfrm>
            <a:off x="2302920" y="1035000"/>
            <a:ext cx="47286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召唤   一群   北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极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惊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慌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拥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挤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冰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区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成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群结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队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246760" y="3236760"/>
            <a:ext cx="4533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鲸   顽皮   坚硬   政府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援助   指挥   优雅   奇迹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妙   脊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9" name="文本框 2"/>
          <p:cNvSpPr/>
          <p:nvPr/>
        </p:nvSpPr>
        <p:spPr>
          <a:xfrm>
            <a:off x="1095480" y="866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ào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0" name="文本框 10"/>
          <p:cNvSpPr/>
          <p:nvPr/>
        </p:nvSpPr>
        <p:spPr>
          <a:xfrm>
            <a:off x="3133800" y="5222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ǐ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857160" y="114300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452600" y="11732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两天以后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772800" y="1154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突然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6523200" y="1173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来了一股寒流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64872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海面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181080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转眼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2863800" y="2087640"/>
            <a:ext cx="628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变成了冰雪的世界，白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396680" y="2944800"/>
            <a:ext cx="7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鲸回去的路被冰层堵住了。白鲸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2134080" y="366876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们着了慌，拼命用脊背撞冰层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726920" y="44496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但是冰层太坚硬了，它们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7468560" y="4487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绝望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1814760" y="52498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地叫起来。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0:25:25Z</dcterms:created>
  <dc:creator>新课标第一网</dc:creator>
  <dc:description>新课标第一网不用注册，免费下载！</dc:description>
  <dc:language>en-US</dc:language>
  <cp:lastModifiedBy>lenovo</cp:lastModifiedBy>
  <dcterms:modified xsi:type="dcterms:W3CDTF">2017-08-27T03:28:54Z</dcterms:modified>
  <cp:revision>107</cp:revision>
  <dc:subject/>
  <dc:title>幻灯片 1</dc:title>
</cp:coreProperties>
</file>