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6E6-B95D-4037-89B9-5D83736E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28D-6982-44B0-A6DC-F4A0F61F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4B8-4E83-41F9-BC09-BEC77163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88F-B132-4AE3-BCF5-F47FD55B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38C-C789-4913-99D1-095F50F9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7138-66A2-4602-983B-439901B2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0A3-D151-42C3-BA0F-2BA89C02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DF4-9C69-416A-AC49-1F92080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D19-AD15-4DB6-B37D-18634D9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CEE-D051-4F26-9BBE-0C19F889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F9B-681D-43B0-95D5-CF19FFD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FD0-7D98-46A0-8670-A42E976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1B92-0AFB-4112-8100-BA729A4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A510-423A-4043-BCBD-9BEDFBC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42D8-5447-476E-A7EE-A544D727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1A84-58FB-41F3-941B-F9CA65EA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6900-1C02-4028-A7BC-357C5C94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B461-6906-4DC8-8ECE-ABF2B728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2308-C894-4B39-8898-2A8A0FFB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2E8D-02E7-4B06-AEDB-DA794E66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5B1A-B002-4CA7-BDCF-778B0F8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A120-739F-4238-BA62-FD839C7C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D54-E0EF-4964-8F08-2A135DA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AECA-2BA6-4327-A5F9-CF13C794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E731-C50F-4840-ABB2-2956ACB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EF21-8AA6-41F7-A93D-4DAB8FF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EF48-DE80-4AA3-855F-16A79A0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753A-8C36-47EE-81D6-4DE6D8F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4479-0DEF-48BB-BB2C-E15C3E7F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C466-373B-4CFC-9157-6AA027B3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EC00-D2D0-4D22-8B72-4C683208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48A5-4547-4972-B8AC-BB2D0A2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0E9E-338A-4544-A496-E142378D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40A-C3DE-44B5-A4DA-2CEB740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9F22-9DA9-4692-A81E-5A2A7487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6B4C-57EA-4467-8C79-F604BC2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6162-5E85-487D-8AAE-C0612AC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C315-83F4-4A1F-8993-D7F30AD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CFFB-FA20-4F92-9590-38B9CDA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1BDF-9FCC-446C-ABFF-E20781A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12AE-983E-4778-BD2A-E7F6C2F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53B4-2B6B-471D-9DAF-FC65A72B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7C09-2820-407D-9823-68B0A9EE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1E9-7D43-4586-AAA6-105F4DD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84E-3156-449E-A713-61FDE85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71E-B3F0-431B-9124-5AF6CC9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6CA-7B92-4D3B-9921-7E712F1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5C8-A937-4F30-A35A-A0FD5EC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E03-7271-4551-8D19-5DF9089B3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32B4-7FE8-423E-836F-8DF90612C34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4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ABE6-85E7-4800-9C75-4C744DE0B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8C1-B6B1-431D-A231-B67A52449C7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9"/>
          <p:cNvGrpSpPr/>
          <p:nvPr/>
        </p:nvGrpSpPr>
        <p:grpSpPr>
          <a:xfrm>
            <a:off x="0" y="34920"/>
            <a:ext cx="9144000" cy="6823080"/>
            <a:chOff x="0" y="34920"/>
            <a:chExt cx="9144000" cy="6823080"/>
          </a:xfrm>
        </p:grpSpPr>
        <p:pic>
          <p:nvPicPr>
            <p:cNvPr id="638" name="Picture 8" descr="dhbk21801"/>
            <p:cNvPicPr/>
            <p:nvPr/>
          </p:nvPicPr>
          <p:blipFill>
            <a:blip r:embed="rId1"/>
            <a:srcRect l="0" t="0" r="17150" b="0"/>
            <a:stretch/>
          </p:blipFill>
          <p:spPr>
            <a:xfrm>
              <a:off x="0" y="3492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1332000" y="1638360"/>
              <a:ext cx="691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白鲸是怎么得救的。请小组合作学习，尝试用上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“首先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然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接着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最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”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样表示先后顺序的词把白鲸被救的过程说一说。</a:t>
              </a:r>
              <a:endParaRPr b="0" lang="en-US" sz="36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0" name="WordArt 7"/>
            <p:cNvSpPr txBox="1"/>
            <p:nvPr/>
          </p:nvSpPr>
          <p:spPr>
            <a:xfrm>
              <a:off x="1332000" y="836640"/>
              <a:ext cx="188748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自学提示</a:t>
              </a:r>
              <a:endPara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2"/>
          <a:srcRect l="3674" t="4558" r="3345" b="532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2424240" y="112860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正巧一个猎人发现了这群遇险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的白鲸，马上向附近的村庄报了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信。白鲸是珍奇的动物，人们一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听到这个消息，纷纷赶来凿冰抢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救白鲸，还给它们带来好吃的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可是天气太冷了，刚凿开的冰马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上又冻上了。人们没有办法，只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好向当地政府发电报，请求援助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490680" y="89064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升飞机和破冰船来了。在飞机的指挥下，破冰船开出了一条二十多米长的通道。可是，白鲸却一动不动地挤在一起，它们害怕这艘高大的破冰船。一个船员大声说：“白鲸喜欢唱歌，是海上的百灵鸟。放放音乐试试，把它们引出去！”于是，船上响起了优雅的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蓝色的多瑙河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乐曲。啊，奇迹发生了！白鲸成群结队地跟着破冰船游动起来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593640" y="1905120"/>
            <a:ext cx="855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个船员大声说：“白鲸喜欢唱歌，是海上的百灵鸟。放放音乐试试，把它们引出去！”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3"/>
          <p:cNvPicPr/>
          <p:nvPr/>
        </p:nvPicPr>
        <p:blipFill>
          <a:blip r:embed="rId1"/>
          <a:stretch/>
        </p:blipFill>
        <p:spPr>
          <a:xfrm>
            <a:off x="-380880" y="0"/>
            <a:ext cx="977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5"/>
          <p:cNvPicPr/>
          <p:nvPr/>
        </p:nvPicPr>
        <p:blipFill>
          <a:blip r:embed="rId1"/>
          <a:stretch/>
        </p:blipFill>
        <p:spPr>
          <a:xfrm>
            <a:off x="-5868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1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5" name="WordArt 9"/>
          <p:cNvSpPr txBox="1"/>
          <p:nvPr/>
        </p:nvSpPr>
        <p:spPr>
          <a:xfrm>
            <a:off x="1476360" y="1130400"/>
            <a:ext cx="6191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喜爱音乐的白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4"/>
          <p:cNvSpPr/>
          <p:nvPr/>
        </p:nvSpPr>
        <p:spPr>
          <a:xfrm>
            <a:off x="2302920" y="1035000"/>
            <a:ext cx="4728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召唤   一群   北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极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惊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慌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拥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挤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冰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区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成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群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246760" y="3236760"/>
            <a:ext cx="453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  顽皮   坚硬   政府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援助   指挥   优雅   奇迹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妙   脊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1095480" y="866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0" name="文本框 10"/>
          <p:cNvSpPr/>
          <p:nvPr/>
        </p:nvSpPr>
        <p:spPr>
          <a:xfrm>
            <a:off x="3133800" y="5222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57160" y="114300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52600" y="1173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两天以后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772800" y="1154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突然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6523200" y="1173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来了一股寒流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64872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海面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81080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转眼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2863800" y="20876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变成了冰雪的世界，白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396680" y="294480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鲸回去的路被冰层堵住了。白鲸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2134080" y="36687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们着了慌，拼命用脊背撞冰层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726920" y="44496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但是冰层太坚硬了，它们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7468560" y="448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绝望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814760" y="5249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地叫起来。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0:25:25Z</dcterms:created>
  <dc:creator>新课标第一网</dc:creator>
  <dc:description>新课标第一网不用注册，免费下载！</dc:description>
  <dc:language>en-US</dc:language>
  <cp:lastModifiedBy>lenovo</cp:lastModifiedBy>
  <dcterms:modified xsi:type="dcterms:W3CDTF">2017-08-27T03:28:54Z</dcterms:modified>
  <cp:revision>107</cp:revision>
  <dc:subject/>
  <dc:title>幻灯片 1</dc:title>
</cp:coreProperties>
</file>