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407-7BE4-49DA-8CC1-D61C5D74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0AB-2AA1-431C-9544-F60B9CC9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DB1-5CBD-4553-8829-8CF5C26B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290-701B-42A9-A855-E05C1471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8E56-9C90-4F24-8FCB-42270542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4B43-417C-497C-AD39-D639FC66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ABAE-59AA-4BB3-BCF9-909B7DCF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113A-DE56-4149-ACE0-69AF0219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BD1B-CB99-453F-BD49-8420BC33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7202-7282-41A7-AFFD-468AFFC0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D7FE-4146-46BA-AB59-827C5A8C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06F-C53B-4C94-A19E-C68CFE21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6367-3968-490C-AE2A-9138572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E7B4-7ABF-49D9-B4B5-5D867CA5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AD85-F4A8-42D3-8502-CFA97E1B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F67A-FEA4-45E5-9BBB-42C682FC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A0DB-9A53-4EC0-8AD4-5B3FCD18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E0939-1E07-42CC-A139-B73F73FC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BFF0-BDE4-4148-BECA-F1175029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B844-BD31-42E2-A5B6-AA0ED784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097E0-CFF8-4E47-90BC-A5BE117F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7042-894D-4C30-BBEF-1EB44A11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1DA-A0B4-4E49-A3F0-040B9643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794E-B7A9-42BE-A6E5-927FA472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3548-5D61-493D-9D4F-DECA6837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F0AF-4DF9-4CA4-ADAC-5FF44F5C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62B78-17D2-45E1-9FE3-06CE89F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A47D8-B89A-4A99-A212-1405BD86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9EF1-32B4-474A-98F8-99A20119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7BE7-901F-46CD-AA98-6FA3E06E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CE1E-B8D2-4E77-8D89-C6AC0FAA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E613-1C1C-4AC3-9DA6-7C79AFD1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3F93-0A52-42FD-9030-64CD035D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C97-E8CE-40C6-BA53-6C03D7E4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3E5C-A6EE-4380-B2AF-F255737C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5944C-C8BE-4A5C-A406-7425CCF2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EB1B5-B0C0-45AF-A660-05628C6F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8568-3B01-49F8-9E72-50CBF8F7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21E6-F3AC-4BFE-9C85-0DD28D0A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E0194-707D-4206-809A-D9D75C4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C60C-870B-46EB-B738-6FF308A0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2B49-0BC1-40A1-BA27-851662D4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FB3F7-D12E-4031-B4DD-B47A094E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DBF-8B95-43D0-B15A-F68C2917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4F0-7171-457A-BF18-158F86F8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8AD-55D8-4038-BF67-57E6DD93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C1F-D577-4B4C-98E7-A71C6EF4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088-2843-40B0-8AC7-7FC1A46D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0203-BAC0-439E-9FF0-9BFBC3F2A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BE09-C012-459A-BC34-B56C3E87986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6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7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8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9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0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1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2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3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4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5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6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7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8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34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50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1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2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3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4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5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6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7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8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9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0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2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3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4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5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6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7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8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9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0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1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2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4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5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6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7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8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9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0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1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2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3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4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6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7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8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9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0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1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2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3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4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5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6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8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9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0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1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2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3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4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5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6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7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8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0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1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2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3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4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5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6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7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8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9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0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2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3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4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5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6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7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8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9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0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1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2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4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5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6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7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8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9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0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1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2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3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4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6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7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8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9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0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1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2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3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4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5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6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8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9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0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1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2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3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4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5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6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7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8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0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1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2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3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4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5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6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7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8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9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0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2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3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4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5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6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7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8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9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0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1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2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4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49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6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7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8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9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0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1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2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3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4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5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6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7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8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4D3F-7FAB-49BF-BC09-F429C55E3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51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3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4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7DC6-4F03-4004-B96C-FE6FF64199F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79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9"/>
          <p:cNvGrpSpPr/>
          <p:nvPr/>
        </p:nvGrpSpPr>
        <p:grpSpPr>
          <a:xfrm>
            <a:off x="0" y="34920"/>
            <a:ext cx="9144000" cy="6823080"/>
            <a:chOff x="0" y="34920"/>
            <a:chExt cx="9144000" cy="6823080"/>
          </a:xfrm>
        </p:grpSpPr>
        <p:pic>
          <p:nvPicPr>
            <p:cNvPr id="638" name="Picture 8" descr="dhbk21801"/>
            <p:cNvPicPr/>
            <p:nvPr/>
          </p:nvPicPr>
          <p:blipFill>
            <a:blip r:embed="rId1"/>
            <a:srcRect l="0" t="0" r="17150" b="0"/>
            <a:stretch/>
          </p:blipFill>
          <p:spPr>
            <a:xfrm>
              <a:off x="0" y="34920"/>
              <a:ext cx="9144000" cy="68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5"/>
            <p:cNvSpPr/>
            <p:nvPr/>
          </p:nvSpPr>
          <p:spPr>
            <a:xfrm>
              <a:off x="1332000" y="1638360"/>
              <a:ext cx="691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白鲸是怎么得救的。请小组合作学习，尝试用上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“首先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然后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接着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最后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”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这样表示先后顺序的词把白鲸被救的过程说一说。</a:t>
              </a:r>
              <a:endParaRPr b="0" lang="en-US" sz="36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40" name="WordArt 7"/>
            <p:cNvSpPr txBox="1"/>
            <p:nvPr/>
          </p:nvSpPr>
          <p:spPr>
            <a:xfrm>
              <a:off x="1332000" y="836640"/>
              <a:ext cx="1887480" cy="80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自学提示</a:t>
              </a:r>
              <a:endPara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" descr=""/>
          <p:cNvPicPr/>
          <p:nvPr/>
        </p:nvPicPr>
        <p:blipFill>
          <a:blip r:embed="rId2"/>
          <a:srcRect l="3674" t="4558" r="3345" b="5320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4"/>
          <p:cNvSpPr/>
          <p:nvPr/>
        </p:nvSpPr>
        <p:spPr>
          <a:xfrm>
            <a:off x="2424240" y="1128600"/>
            <a:ext cx="429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正巧一个猎人发现了这群遇险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的白鲸，马上向附近的村庄报了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信。白鲸是珍奇的动物，人们一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听到这个消息，纷纷赶来凿冰抢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救白鲸，还给它们带来好吃的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可是天气太冷了，刚凿开的冰马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上又冻上了。人们没有办法，只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好向当地政府发电报，请求援助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4"/>
          <p:cNvSpPr/>
          <p:nvPr/>
        </p:nvSpPr>
        <p:spPr>
          <a:xfrm>
            <a:off x="490680" y="890640"/>
            <a:ext cx="81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直升飞机和破冰船来了。在飞机的指挥下，破冰船开出了一条二十多米长的通道。可是，白鲸却一动不动地挤在一起，它们害怕这艘高大的破冰船。一个船员大声说：“白鲸喜欢唱歌，是海上的百灵鸟。放放音乐试试，把它们引出去！”于是，船上响起了优雅的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蓝色的多瑙河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乐曲。啊，奇迹发生了！白鲸成群结队地跟着破冰船游动起来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4"/>
          <p:cNvSpPr/>
          <p:nvPr/>
        </p:nvSpPr>
        <p:spPr>
          <a:xfrm>
            <a:off x="593640" y="1905120"/>
            <a:ext cx="855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一个船员大声说：“白鲸喜欢唱歌，是海上的百灵鸟。放放音乐试试，把它们引出去！”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白鲸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3"/>
          <p:cNvSpPr/>
          <p:nvPr/>
        </p:nvSpPr>
        <p:spPr>
          <a:xfrm>
            <a:off x="2700360" y="9079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3"/>
          <p:cNvPicPr/>
          <p:nvPr/>
        </p:nvPicPr>
        <p:blipFill>
          <a:blip r:embed="rId1"/>
          <a:stretch/>
        </p:blipFill>
        <p:spPr>
          <a:xfrm>
            <a:off x="-380880" y="0"/>
            <a:ext cx="977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81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5"/>
          <p:cNvPicPr/>
          <p:nvPr/>
        </p:nvPicPr>
        <p:blipFill>
          <a:blip r:embed="rId1"/>
          <a:stretch/>
        </p:blipFill>
        <p:spPr>
          <a:xfrm>
            <a:off x="-58680" y="0"/>
            <a:ext cx="925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1" descr="白鲸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2700360" y="9079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5" name="WordArt 9"/>
          <p:cNvSpPr txBox="1"/>
          <p:nvPr/>
        </p:nvSpPr>
        <p:spPr>
          <a:xfrm>
            <a:off x="1476360" y="1130400"/>
            <a:ext cx="61912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喜爱音乐的白鲸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4"/>
          <p:cNvSpPr/>
          <p:nvPr/>
        </p:nvSpPr>
        <p:spPr>
          <a:xfrm>
            <a:off x="2302920" y="1035000"/>
            <a:ext cx="47286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召唤   一群   北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极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惊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慌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拥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挤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冰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区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成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群结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队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246760" y="3236760"/>
            <a:ext cx="4533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鲸   顽皮   坚硬   政府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援助   指挥   优雅   奇迹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妙   脊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9" name="文本框 2"/>
          <p:cNvSpPr/>
          <p:nvPr/>
        </p:nvSpPr>
        <p:spPr>
          <a:xfrm>
            <a:off x="1095480" y="8668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ào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0" name="文本框 10"/>
          <p:cNvSpPr/>
          <p:nvPr/>
        </p:nvSpPr>
        <p:spPr>
          <a:xfrm>
            <a:off x="3133800" y="52228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ǐ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857160" y="1143000"/>
            <a:ext cx="742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452600" y="11732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两天以后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772800" y="1154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突然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6523200" y="11732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来了一股寒流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648720" y="214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海面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1810800" y="214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转眼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2863800" y="2087640"/>
            <a:ext cx="628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变成了冰雪的世界，白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4396680" y="2944800"/>
            <a:ext cx="7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鲸回去的路被冰层堵住了。白鲸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2134080" y="366876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们着了慌，拼命用脊背撞冰层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726920" y="444960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但是冰层太坚硬了，它们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7468560" y="4487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绝望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1814760" y="52498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地叫起来。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0:25:25Z</dcterms:created>
  <dc:creator>新课标第一网</dc:creator>
  <dc:description>新课标第一网不用注册，免费下载！</dc:description>
  <dc:language>en-US</dc:language>
  <cp:lastModifiedBy>lenovo</cp:lastModifiedBy>
  <dcterms:modified xsi:type="dcterms:W3CDTF">2017-08-27T03:28:54Z</dcterms:modified>
  <cp:revision>107</cp:revision>
  <dc:subject/>
  <dc:title>幻灯片 1</dc:title>
</cp:coreProperties>
</file>