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type.wav" ContentType="audio/x-wav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B8C-1F9E-47B3-AD6D-8C8776B9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942-CB44-4C15-900D-37C4D7B3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F42-F5CA-4D62-85E1-2E3CD181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952-D7A4-4E80-9384-6B10D948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3A8-BDE6-48E2-8A18-E1E49E95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0FC-5C5D-4579-BADF-70ED1453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569-1D7D-4B8A-BA2A-D73142FF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388-A3CA-4A51-9FE0-C33FEE39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658-1789-48BD-A6C8-F94CAD15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C39-2A6A-4D47-AFBC-2AF6F0C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6B6-2704-4926-86DE-204E71F0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262-0A23-4F88-9CED-01CD2B7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D3AA-27A3-4B30-A380-F94B1CBEA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2552760" y="2133720"/>
            <a:ext cx="4343400" cy="4125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56240" y="1752480"/>
            <a:ext cx="373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华文楷体"/>
                <a:ea typeface="华文楷体"/>
              </a:rPr>
              <a:t>滥 竽 充 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38934"/>
          <p:cNvPicPr/>
          <p:nvPr/>
        </p:nvPicPr>
        <p:blipFill>
          <a:blip r:embed="rId2"/>
          <a:stretch/>
        </p:blipFill>
        <p:spPr>
          <a:xfrm>
            <a:off x="1219320" y="685800"/>
            <a:ext cx="4114800" cy="3695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109480" y="2133720"/>
            <a:ext cx="33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竽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981080" y="3962520"/>
            <a:ext cx="6400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竽是用竹做的，是古代的一种乐器。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_imgloadCA3F66SO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5080" y="519120"/>
            <a:ext cx="891540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滥竽充数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整齐    排场    继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鼓着腮帮   编排    溜走    改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装腔作势    演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213307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105520" y="26542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 rot="5400000">
            <a:off x="37800" y="270504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14600" y="2533680"/>
            <a:ext cx="4419720" cy="1847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南郭先生滥竽充数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是怎样假装会吹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滥竽充数的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滥竽充数[20110531-1238122]"/>
          <p:cNvPicPr/>
          <p:nvPr/>
        </p:nvPicPr>
        <p:blipFill>
          <a:blip r:embed="rId1"/>
          <a:stretch/>
        </p:blipFill>
        <p:spPr>
          <a:xfrm>
            <a:off x="0" y="3432240"/>
            <a:ext cx="4724280" cy="3425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-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个南郭先生到齐宣王那里，请求参加吹竽队。齐宣王给他很高的待遇，把他编在吹竽队里。其实，南郭先生不会吹竽。演奏的时候，他就鼓着腮帮捂着竽眼儿，装腔作势，混在队里充数。他混过了一次又一次，都没有被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80880" y="1981080"/>
            <a:ext cx="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4100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572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334120" y="16002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1981080" y="22860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85800" y="290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装腔作势：故意做作想引起人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20090216_e18237cb3cf1e70664e6LtvEfQ0VBEhj[1]"/>
          <p:cNvPicPr/>
          <p:nvPr/>
        </p:nvPicPr>
        <p:blipFill>
          <a:blip r:embed="rId2"/>
          <a:stretch/>
        </p:blipFill>
        <p:spPr>
          <a:xfrm>
            <a:off x="4578480" y="3481560"/>
            <a:ext cx="4572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Z]7VV@CRY][6H%AMO`Z3CPB"/>
          <p:cNvPicPr/>
          <p:nvPr/>
        </p:nvPicPr>
        <p:blipFill>
          <a:blip r:embed="rId1"/>
          <a:stretch/>
        </p:blipFill>
        <p:spPr>
          <a:xfrm>
            <a:off x="152280" y="1908000"/>
            <a:ext cx="3889440" cy="35053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4067280" y="1066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来，齐宣王死了，他的儿子齐湣王继承了王位。齐湣王也爱听吹竽，但他不喜欢听大家一起吹，改成一个一个地吹给他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{8E5C568E-9022-400A-AED3-22A019088DAA}"/>
          <p:cNvPicPr/>
          <p:nvPr/>
        </p:nvPicPr>
        <p:blipFill>
          <a:blip r:embed="rId1"/>
          <a:stretch/>
        </p:blipFill>
        <p:spPr>
          <a:xfrm>
            <a:off x="2212920" y="2590920"/>
            <a:ext cx="4584600" cy="3547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54040" y="609480"/>
            <a:ext cx="731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南郭先生听到这个消息，简直吓坏了，他吓得＿＿＿＿＿＿＿＿。他心想：＿＿＿＿＿＿＿＿＿＿＿＿＿＿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QVMB@BOC2GGGJQ1(N8606{S"/>
          <p:cNvPicPr/>
          <p:nvPr/>
        </p:nvPicPr>
        <p:blipFill>
          <a:blip r:embed="rId1"/>
          <a:stretch/>
        </p:blipFill>
        <p:spPr>
          <a:xfrm>
            <a:off x="3581280" y="839880"/>
            <a:ext cx="5562720" cy="60181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1828800" y="198108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533520" y="1219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到这个消息，南郭先生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好偷偷地溜走了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37280" y="2057400"/>
            <a:ext cx="66780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寓    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676520" y="2111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则寓言讽刺了那些没有真才实学，混在行家里充数，蒙混度日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寓言告诉我们：做人要老老实实，要有真才实学才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7-08-27T04:34:4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