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media/image9.png" ContentType="image/png"/>
  <Override PartName="/ppt/media/image6.png" ContentType="image/png"/>
  <Override PartName="/ppt/media/image7.png" ContentType="image/png"/>
  <Override PartName="/ppt/media/type.wav" ContentType="audio/x-wav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2891-638F-4EFC-905A-972B0210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9BB9-816A-4937-8A95-0B2169AA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A7DB-473B-4AE3-A23D-EE653704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601F-C4CC-4B26-97B9-775F8B20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F178-B6BB-4449-AD07-D184391A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0870-73FF-4343-9667-A0D00029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ABCA-B6E5-4888-8AC8-0FE658A5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1B4A-31C5-4683-988F-0F9C26C0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0184-C3D2-430F-8ABF-A84998C8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4F68-7A98-4227-AC10-8E1EF077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335-C77C-4BC3-9192-41CE00CC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9B4B-750F-4DAF-AB40-B013D2FF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435C-AF45-411D-BE6B-DF5FFD356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2552760" y="2133720"/>
            <a:ext cx="4343400" cy="41259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2856240" y="1752480"/>
            <a:ext cx="373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99"/>
                </a:solidFill>
                <a:latin typeface="华文楷体"/>
                <a:ea typeface="华文楷体"/>
              </a:rPr>
              <a:t>滥 竽 充 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238934"/>
          <p:cNvPicPr/>
          <p:nvPr/>
        </p:nvPicPr>
        <p:blipFill>
          <a:blip r:embed="rId2"/>
          <a:stretch/>
        </p:blipFill>
        <p:spPr>
          <a:xfrm>
            <a:off x="1219320" y="685800"/>
            <a:ext cx="4114800" cy="3695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5109480" y="2133720"/>
            <a:ext cx="330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竽（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yú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7"/>
          <p:cNvSpPr txBox="1"/>
          <p:nvPr/>
        </p:nvSpPr>
        <p:spPr>
          <a:xfrm>
            <a:off x="1981080" y="3962520"/>
            <a:ext cx="64008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竽是用竹做的，是古代的一种乐器。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http_imgloadCA3F66SO"/>
          <p:cNvPicPr/>
          <p:nvPr/>
        </p:nvPicPr>
        <p:blipFill>
          <a:blip r:embed="rId1"/>
          <a:stretch/>
        </p:blipFill>
        <p:spPr>
          <a:xfrm>
            <a:off x="0" y="0"/>
            <a:ext cx="9144000" cy="7696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35080" y="519120"/>
            <a:ext cx="8915400" cy="57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3300"/>
                </a:solidFill>
                <a:latin typeface="华文楷体"/>
                <a:ea typeface="华文楷体"/>
              </a:rPr>
              <a:t>读一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滥竽充数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整齐    排场    继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鼓着腮帮   编排    溜走    改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装腔作势    演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12133071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5105520" y="265428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 rot="5400000">
            <a:off x="37800" y="2705040"/>
            <a:ext cx="274320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想一想</a:t>
            </a:r>
            <a:endParaRPr b="1" i="1" lang="en-US" sz="7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514600" y="2533680"/>
            <a:ext cx="4419720" cy="18478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</a:rPr>
              <a:t>、南郭先生滥竽充数的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</a:rPr>
              <a:t>、他是怎样假装会吹竽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</a:rPr>
              <a:t>、他滥竽充数的结果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滥竽充数[20110531-1238122]"/>
          <p:cNvPicPr/>
          <p:nvPr/>
        </p:nvPicPr>
        <p:blipFill>
          <a:blip r:embed="rId1"/>
          <a:stretch/>
        </p:blipFill>
        <p:spPr>
          <a:xfrm>
            <a:off x="0" y="3432240"/>
            <a:ext cx="4724280" cy="34257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0" y="-228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个南郭先生到齐宣王那里，请求参加吹竽队。齐宣王给他很高的待遇，把他编在吹竽队里。其实，南郭先生不会吹竽。演奏的时候，他就鼓着腮帮捂着竽眼儿，装腔作势，混在队里充数。他混过了一次又一次，都没有被人发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380880" y="1981080"/>
            <a:ext cx="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5410080" y="152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4572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5334120" y="1600200"/>
            <a:ext cx="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5"/>
          <p:cNvSpPr/>
          <p:nvPr/>
        </p:nvSpPr>
        <p:spPr>
          <a:xfrm>
            <a:off x="1981080" y="228600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685800" y="2903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装腔作势：故意做作想引起人注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20090216_e18237cb3cf1e70664e6LtvEfQ0VBEhj[1]"/>
          <p:cNvPicPr/>
          <p:nvPr/>
        </p:nvPicPr>
        <p:blipFill>
          <a:blip r:embed="rId2"/>
          <a:stretch/>
        </p:blipFill>
        <p:spPr>
          <a:xfrm>
            <a:off x="4578480" y="3481560"/>
            <a:ext cx="457200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Z]7VV@CRY][6H%AMO`Z3CPB"/>
          <p:cNvPicPr/>
          <p:nvPr/>
        </p:nvPicPr>
        <p:blipFill>
          <a:blip r:embed="rId1"/>
          <a:stretch/>
        </p:blipFill>
        <p:spPr>
          <a:xfrm>
            <a:off x="152280" y="1908000"/>
            <a:ext cx="3889440" cy="3505320"/>
          </a:xfrm>
          <a:prstGeom prst="rect">
            <a:avLst/>
          </a:prstGeom>
          <a:ln w="0">
            <a:noFill/>
          </a:ln>
        </p:spPr>
      </p:pic>
      <p:sp>
        <p:nvSpPr>
          <p:cNvPr id="64" name="矩形 1"/>
          <p:cNvSpPr/>
          <p:nvPr/>
        </p:nvSpPr>
        <p:spPr>
          <a:xfrm>
            <a:off x="4067280" y="10666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后来，齐宣王死了，他的儿子齐湣王继承了王位。齐湣王也爱听吹竽，但他不喜欢听大家一起吹，改成一个一个地吹给他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{8E5C568E-9022-400A-AED3-22A019088DAA}"/>
          <p:cNvPicPr/>
          <p:nvPr/>
        </p:nvPicPr>
        <p:blipFill>
          <a:blip r:embed="rId1"/>
          <a:stretch/>
        </p:blipFill>
        <p:spPr>
          <a:xfrm>
            <a:off x="2212920" y="2590920"/>
            <a:ext cx="4584600" cy="35478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554040" y="609480"/>
            <a:ext cx="73152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南郭先生听到这个消息，简直吓坏了，他吓得＿＿＿＿＿＿＿＿。他心想：＿＿＿＿＿＿＿＿＿＿＿＿＿＿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QVMB@BOC2GGGJQ1(N8606{S"/>
          <p:cNvPicPr/>
          <p:nvPr/>
        </p:nvPicPr>
        <p:blipFill>
          <a:blip r:embed="rId1"/>
          <a:stretch/>
        </p:blipFill>
        <p:spPr>
          <a:xfrm>
            <a:off x="3581280" y="839880"/>
            <a:ext cx="5562720" cy="6018120"/>
          </a:xfrm>
          <a:prstGeom prst="rect">
            <a:avLst/>
          </a:prstGeom>
          <a:ln w="0">
            <a:noFill/>
          </a:ln>
        </p:spPr>
      </p:pic>
      <p:sp>
        <p:nvSpPr>
          <p:cNvPr id="68" name="Line 5"/>
          <p:cNvSpPr/>
          <p:nvPr/>
        </p:nvSpPr>
        <p:spPr>
          <a:xfrm>
            <a:off x="1828800" y="1981080"/>
            <a:ext cx="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"/>
          <p:cNvSpPr/>
          <p:nvPr/>
        </p:nvSpPr>
        <p:spPr>
          <a:xfrm>
            <a:off x="533520" y="12193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听到这个消息，南郭先生</a:t>
            </a:r>
            <a:r>
              <a:rPr b="0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只好偷偷地溜走了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737280" y="2057400"/>
            <a:ext cx="667800" cy="297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寓    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1676520" y="21114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则寓言讽刺了那些没有真才实学，混在行家里充数，蒙混度日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寓言告诉我们：做人要老老实实，要有真才实学才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17-08-27T04:34:41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