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gif" ContentType="image/gif"/>
  <Override PartName="/ppt/media/image9.png" ContentType="image/png"/>
  <Override PartName="/ppt/media/image6.png" ContentType="image/png"/>
  <Override PartName="/ppt/media/image7.png" ContentType="image/png"/>
  <Override PartName="/ppt/media/type.wav" ContentType="audio/x-wav"/>
  <Override PartName="/ppt/media/image8.png" ContentType="image/png"/>
  <Override PartName="/ppt/media/image11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B672-50F2-4CCA-AB64-487A01152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D1E1-675C-424A-9292-7CD5BB4CE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E316-3979-40CF-91E9-80013C803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A836-36CF-40C9-93BC-A9A191BF5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22FC-DC61-4D7A-B3D8-A7842A7C9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D9AB-DEAB-46EC-A082-B0AD4B03B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4384-554E-42BC-8BCC-7E6782E9E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1973-38D3-498D-82DD-3ABE87AA3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993E-11A6-4D2A-9312-66C1F30A3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66C6-5779-42B0-9394-B41138A4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25E8-9BA1-4922-B758-E716C2850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0218-A5CB-4355-8285-7648D388C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827C3-44C9-424F-9904-F7306ECFD4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2"/>
          <a:stretch/>
        </p:blipFill>
        <p:spPr>
          <a:xfrm>
            <a:off x="2552760" y="2133720"/>
            <a:ext cx="4343400" cy="412596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2856240" y="1752480"/>
            <a:ext cx="3736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cc0099"/>
                </a:solidFill>
                <a:latin typeface="华文楷体"/>
                <a:ea typeface="华文楷体"/>
              </a:rPr>
              <a:t>滥 竽 充 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238934"/>
          <p:cNvPicPr/>
          <p:nvPr/>
        </p:nvPicPr>
        <p:blipFill>
          <a:blip r:embed="rId2"/>
          <a:stretch/>
        </p:blipFill>
        <p:spPr>
          <a:xfrm>
            <a:off x="1219320" y="685800"/>
            <a:ext cx="4114800" cy="36957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5109480" y="2133720"/>
            <a:ext cx="330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竽（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yú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7"/>
          <p:cNvSpPr txBox="1"/>
          <p:nvPr/>
        </p:nvSpPr>
        <p:spPr>
          <a:xfrm>
            <a:off x="1981080" y="3962520"/>
            <a:ext cx="64008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竽是用竹做的，是古代的一种乐器。</a:t>
            </a:r>
            <a:endParaRPr b="1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http_imgloadCA3F66SO"/>
          <p:cNvPicPr/>
          <p:nvPr/>
        </p:nvPicPr>
        <p:blipFill>
          <a:blip r:embed="rId1"/>
          <a:stretch/>
        </p:blipFill>
        <p:spPr>
          <a:xfrm>
            <a:off x="0" y="0"/>
            <a:ext cx="9144000" cy="76960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235080" y="519120"/>
            <a:ext cx="8915400" cy="57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ff3300"/>
                </a:solidFill>
                <a:latin typeface="华文楷体"/>
                <a:ea typeface="华文楷体"/>
              </a:rPr>
              <a:t>读一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滥竽充数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整齐    排场    继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鼓着腮帮   编排    溜走    改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装腔作势    演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121330718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5105520" y="2654280"/>
            <a:ext cx="1839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4"/>
          <p:cNvSpPr txBox="1"/>
          <p:nvPr/>
        </p:nvSpPr>
        <p:spPr>
          <a:xfrm rot="5400000">
            <a:off x="37800" y="2705040"/>
            <a:ext cx="2743200" cy="1295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2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黑体"/>
              </a:rPr>
              <a:t>想一想</a:t>
            </a:r>
            <a:endParaRPr b="1" i="1" lang="en-US" sz="72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2514600" y="2533680"/>
            <a:ext cx="4419720" cy="184788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99ff"/>
                </a:solidFill>
                <a:latin typeface="Arial"/>
              </a:rPr>
              <a:t>、南郭先生滥竽充数的原因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99ff"/>
                </a:solidFill>
                <a:latin typeface="Arial"/>
              </a:rPr>
              <a:t>、他是怎样假装会吹竽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99ff"/>
                </a:solidFill>
                <a:latin typeface="Arial"/>
              </a:rPr>
              <a:t>、他滥竽充数的结果怎么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滥竽充数[20110531-1238122]"/>
          <p:cNvPicPr/>
          <p:nvPr/>
        </p:nvPicPr>
        <p:blipFill>
          <a:blip r:embed="rId1"/>
          <a:stretch/>
        </p:blipFill>
        <p:spPr>
          <a:xfrm>
            <a:off x="0" y="3432240"/>
            <a:ext cx="4724280" cy="34257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4"/>
          <p:cNvSpPr/>
          <p:nvPr/>
        </p:nvSpPr>
        <p:spPr>
          <a:xfrm>
            <a:off x="0" y="-2286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有个南郭先生到齐宣王那里，请求参加吹竽队。齐宣王给他很高的待遇，把他编在吹竽队里。其实，南郭先生不会吹竽。演奏的时候，他就鼓着腮帮捂着竽眼儿，装腔作势，混在队里充数。他混过了一次又一次，都没有被人发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380880" y="1981080"/>
            <a:ext cx="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0"/>
          <p:cNvSpPr/>
          <p:nvPr/>
        </p:nvSpPr>
        <p:spPr>
          <a:xfrm>
            <a:off x="5410080" y="1523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1"/>
          <p:cNvSpPr/>
          <p:nvPr/>
        </p:nvSpPr>
        <p:spPr>
          <a:xfrm>
            <a:off x="457200" y="20574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5"/>
          <p:cNvSpPr/>
          <p:nvPr/>
        </p:nvSpPr>
        <p:spPr>
          <a:xfrm>
            <a:off x="5334120" y="1600200"/>
            <a:ext cx="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5"/>
          <p:cNvSpPr/>
          <p:nvPr/>
        </p:nvSpPr>
        <p:spPr>
          <a:xfrm>
            <a:off x="1981080" y="228600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9"/>
          <p:cNvSpPr/>
          <p:nvPr/>
        </p:nvSpPr>
        <p:spPr>
          <a:xfrm>
            <a:off x="685800" y="29034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Arial"/>
              </a:rPr>
              <a:t>装腔作势：故意做作想引起人注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9" descr="20090216_e18237cb3cf1e70664e6LtvEfQ0VBEhj[1]"/>
          <p:cNvPicPr/>
          <p:nvPr/>
        </p:nvPicPr>
        <p:blipFill>
          <a:blip r:embed="rId2"/>
          <a:stretch/>
        </p:blipFill>
        <p:spPr>
          <a:xfrm>
            <a:off x="4578480" y="3481560"/>
            <a:ext cx="4572000" cy="33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2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2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2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"/>
                            </p:stCondLst>
                            <p:childTnLst>
                              <p:par>
                                <p:cTn id="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2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2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2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Z]7VV@CRY][6H%AMO`Z3CPB"/>
          <p:cNvPicPr/>
          <p:nvPr/>
        </p:nvPicPr>
        <p:blipFill>
          <a:blip r:embed="rId1"/>
          <a:stretch/>
        </p:blipFill>
        <p:spPr>
          <a:xfrm>
            <a:off x="152280" y="1908000"/>
            <a:ext cx="3889440" cy="3505320"/>
          </a:xfrm>
          <a:prstGeom prst="rect">
            <a:avLst/>
          </a:prstGeom>
          <a:ln w="0">
            <a:noFill/>
          </a:ln>
        </p:spPr>
      </p:pic>
      <p:sp>
        <p:nvSpPr>
          <p:cNvPr id="64" name="矩形 1"/>
          <p:cNvSpPr/>
          <p:nvPr/>
        </p:nvSpPr>
        <p:spPr>
          <a:xfrm>
            <a:off x="4067280" y="106668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后来，齐宣王死了，他的儿子齐湣王继承了王位。齐湣王也爱听吹竽，但他不喜欢听大家一起吹，改成一个一个地吹给他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8" descr="{8E5C568E-9022-400A-AED3-22A019088DAA}"/>
          <p:cNvPicPr/>
          <p:nvPr/>
        </p:nvPicPr>
        <p:blipFill>
          <a:blip r:embed="rId1"/>
          <a:stretch/>
        </p:blipFill>
        <p:spPr>
          <a:xfrm>
            <a:off x="2212920" y="2590920"/>
            <a:ext cx="4584600" cy="35478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9"/>
          <p:cNvSpPr/>
          <p:nvPr/>
        </p:nvSpPr>
        <p:spPr>
          <a:xfrm>
            <a:off x="554040" y="609480"/>
            <a:ext cx="73152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南郭先生听到这个消息，简直吓坏了，他吓得＿＿＿＿＿＿＿＿。他心想：＿＿＿＿＿＿＿＿＿＿＿＿＿＿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QVMB@BOC2GGGJQ1(N8606{S"/>
          <p:cNvPicPr/>
          <p:nvPr/>
        </p:nvPicPr>
        <p:blipFill>
          <a:blip r:embed="rId1"/>
          <a:stretch/>
        </p:blipFill>
        <p:spPr>
          <a:xfrm>
            <a:off x="3581280" y="839880"/>
            <a:ext cx="5562720" cy="6018120"/>
          </a:xfrm>
          <a:prstGeom prst="rect">
            <a:avLst/>
          </a:prstGeom>
          <a:ln w="0">
            <a:noFill/>
          </a:ln>
        </p:spPr>
      </p:pic>
      <p:sp>
        <p:nvSpPr>
          <p:cNvPr id="68" name="Line 5"/>
          <p:cNvSpPr/>
          <p:nvPr/>
        </p:nvSpPr>
        <p:spPr>
          <a:xfrm>
            <a:off x="1828800" y="1981080"/>
            <a:ext cx="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3"/>
          <p:cNvSpPr/>
          <p:nvPr/>
        </p:nvSpPr>
        <p:spPr>
          <a:xfrm>
            <a:off x="533520" y="121932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听到这个消息，南郭先生</a:t>
            </a:r>
            <a:r>
              <a:rPr b="0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只好偷偷地溜走了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737280" y="2057400"/>
            <a:ext cx="667800" cy="2971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寓    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2"/>
          <p:cNvSpPr/>
          <p:nvPr/>
        </p:nvSpPr>
        <p:spPr>
          <a:xfrm>
            <a:off x="1676520" y="211140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这则寓言讽刺了那些没有真才实学，混在行家里充数，蒙混度日的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寓言告诉我们：做人要老老实实，要有真才实学才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novo</cp:lastModifiedBy>
  <dcterms:modified xsi:type="dcterms:W3CDTF">2017-08-27T04:34:41Z</dcterms:modified>
  <cp:revision>7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