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764C-AE72-4576-9F54-6A94A50F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13B-3784-4358-B6D1-FD7D039F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00C-982C-4BA7-9E19-2C16AA83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5E5-B7E9-43F0-857E-23BE9EE8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FD7-D2A5-4A73-AF7B-D08FEBC4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7AA-E668-4BB1-B085-D41C31E6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EED-A26B-41DB-874A-7FA86E2C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98F-0FA7-45D0-9A87-3FEE785E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00B-1F73-4E26-A0CD-46FBDD60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20D-4F8F-44FD-9F51-4A8959B9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6D6-6CBD-429E-B20B-229A6EFC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A3A-0D9C-4750-AF89-0EFAC33F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0F82-86DA-4297-BBB7-F0014A00A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2" descr=""/>
          <p:cNvPicPr/>
          <p:nvPr/>
        </p:nvPicPr>
        <p:blipFill>
          <a:blip r:embed="rId2"/>
          <a:stretch/>
        </p:blipFill>
        <p:spPr>
          <a:xfrm>
            <a:off x="2120760" y="938160"/>
            <a:ext cx="5121360" cy="1567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"/>
          <p:cNvPicPr/>
          <p:nvPr/>
        </p:nvPicPr>
        <p:blipFill>
          <a:blip r:embed="rId3"/>
          <a:stretch/>
        </p:blipFill>
        <p:spPr>
          <a:xfrm>
            <a:off x="0" y="2884320"/>
            <a:ext cx="6012000" cy="3969000"/>
          </a:xfrm>
          <a:prstGeom prst="rect">
            <a:avLst/>
          </a:prstGeom>
          <a:ln w="0">
            <a:noFill/>
          </a:ln>
        </p:spPr>
      </p:pic>
      <p:sp>
        <p:nvSpPr>
          <p:cNvPr id="43" name="矩形 7"/>
          <p:cNvSpPr/>
          <p:nvPr/>
        </p:nvSpPr>
        <p:spPr>
          <a:xfrm>
            <a:off x="6500160" y="2882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掩：掩着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矩形 10"/>
          <p:cNvSpPr/>
          <p:nvPr/>
        </p:nvSpPr>
        <p:spPr>
          <a:xfrm>
            <a:off x="6373440" y="40305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盗：偷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5" name="矩形 8" descr=""/>
          <p:cNvPicPr/>
          <p:nvPr/>
        </p:nvPicPr>
        <p:blipFill>
          <a:blip r:embed="rId4"/>
          <a:stretch/>
        </p:blipFill>
        <p:spPr>
          <a:xfrm>
            <a:off x="609480" y="549360"/>
            <a:ext cx="13161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WordArt 4"/>
          <p:cNvSpPr txBox="1"/>
          <p:nvPr/>
        </p:nvSpPr>
        <p:spPr>
          <a:xfrm>
            <a:off x="1258920" y="907920"/>
            <a:ext cx="2521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自学提示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26920" y="2349360"/>
            <a:ext cx="749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、自学课文生字词。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、找出点明故事结果的语句读一读。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00611200801525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203640" y="3860640"/>
            <a:ext cx="32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掩耳盗铃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276720" y="184464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发觉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276720" y="285264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偷走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755640" y="765000"/>
            <a:ext cx="2664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ffcc66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我会读</a:t>
            </a:r>
            <a:endParaRPr b="0" lang="en-US" sz="4400" spc="1" strike="noStrike">
              <a:ln w="12600">
                <a:solidFill>
                  <a:srgbClr val="ffcc66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753720" y="4724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丁零丁零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116000" y="2205000"/>
            <a:ext cx="6975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知道，那个铃铛只要用手一碰，就会丁零丁零地响起来。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1258920" y="907920"/>
            <a:ext cx="2160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读一读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6" descr="acby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15843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11280" y="2133720"/>
            <a:ext cx="66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个人为什么用掩耳的方式去盗铃呢？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WordArt 17"/>
          <p:cNvSpPr txBox="1"/>
          <p:nvPr/>
        </p:nvSpPr>
        <p:spPr>
          <a:xfrm>
            <a:off x="1116000" y="765000"/>
            <a:ext cx="25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思考交流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900000" y="3860640"/>
            <a:ext cx="74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小提示：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默读课文，想一想，想好后在学习小组交流。小组成员交流时，同学们要注意听他说完后，本组成员再做补充。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116000" y="2205000"/>
            <a:ext cx="697536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想：“响声要用耳朵才能听见，如果把耳朵掩起来，不是就听不见了吗？”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1258920" y="907920"/>
            <a:ext cx="2160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读一读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483280" y="1341360"/>
            <a:ext cx="4618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讨论：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个故事可笑在哪里？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20050501051017459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611280" y="2205000"/>
            <a:ext cx="7488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华文楷体"/>
                <a:ea typeface="华文楷体"/>
              </a:rPr>
              <a:t>做了坏事，想叫别人不知道是不可能的，自作聪明的结果是自己害自己。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人们常用“掩耳盗铃”来比喻愚蠢的人自己欺骗自己的行为。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476360" y="765000"/>
            <a:ext cx="1727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寓意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7:09:08Z</dcterms:created>
  <dc:creator>Billgates</dc:creator>
  <dc:description/>
  <dc:language>en-US</dc:language>
  <cp:lastModifiedBy>lenovo</cp:lastModifiedBy>
  <dcterms:modified xsi:type="dcterms:W3CDTF">2017-08-27T04:54:45Z</dcterms:modified>
  <cp:revision>66</cp:revision>
  <dc:subject/>
  <dc:title>PowerPoint 演示文稿</dc:title>
</cp:coreProperties>
</file>