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type.wav" ContentType="audio/x-wav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98A-3221-476E-9576-8A5ABBFE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894-B66C-4249-902D-6B04767D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C85-D5E3-457B-9162-A489510D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E99-5F07-4FCB-9D17-5885550E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A2D-401B-454B-BCA4-0B9C2D0F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815-870D-4FDD-8140-29AE349C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B03-901D-4600-93C2-DEFECED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21A-AF62-4202-91DA-DB83DF02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D1A-6EA8-4AE2-B6A7-17372A59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0EA-A1FB-4F90-B02B-EAF808D8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F39-0AAA-4EF6-9825-B6CF8A68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3FA-71D4-4681-9F84-7C05156C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CE30-D131-4BC8-9468-16D20563B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2552760" y="2133720"/>
            <a:ext cx="4343400" cy="4125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56240" y="1752480"/>
            <a:ext cx="373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华文楷体"/>
                <a:ea typeface="华文楷体"/>
              </a:rPr>
              <a:t>滥 竽 充 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38934"/>
          <p:cNvPicPr/>
          <p:nvPr/>
        </p:nvPicPr>
        <p:blipFill>
          <a:blip r:embed="rId2"/>
          <a:stretch/>
        </p:blipFill>
        <p:spPr>
          <a:xfrm>
            <a:off x="1219320" y="685800"/>
            <a:ext cx="4114800" cy="3695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109480" y="2133720"/>
            <a:ext cx="33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竽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981080" y="3962520"/>
            <a:ext cx="6400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竽是用竹做的，是古代的一种乐器。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_imgloadCA3F66SO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5080" y="519120"/>
            <a:ext cx="891540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滥竽充数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整齐    排场    继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鼓着腮帮   编排    溜走    改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装腔作势    演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213307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105520" y="26542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 rot="5400000">
            <a:off x="37800" y="270504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14600" y="2533680"/>
            <a:ext cx="4419720" cy="1847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南郭先生滥竽充数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是怎样假装会吹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滥竽充数的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滥竽充数[20110531-1238122]"/>
          <p:cNvPicPr/>
          <p:nvPr/>
        </p:nvPicPr>
        <p:blipFill>
          <a:blip r:embed="rId1"/>
          <a:stretch/>
        </p:blipFill>
        <p:spPr>
          <a:xfrm>
            <a:off x="0" y="3432240"/>
            <a:ext cx="4724280" cy="3425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-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个南郭先生到齐宣王那里，请求参加吹竽队。齐宣王给他很高的待遇，把他编在吹竽队里。其实，南郭先生不会吹竽。演奏的时候，他就鼓着腮帮捂着竽眼儿，装腔作势，混在队里充数。他混过了一次又一次，都没有被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80880" y="1981080"/>
            <a:ext cx="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4100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572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334120" y="16002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1981080" y="22860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85800" y="290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装腔作势：故意做作想引起人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20090216_e18237cb3cf1e70664e6LtvEfQ0VBEhj[1]"/>
          <p:cNvPicPr/>
          <p:nvPr/>
        </p:nvPicPr>
        <p:blipFill>
          <a:blip r:embed="rId2"/>
          <a:stretch/>
        </p:blipFill>
        <p:spPr>
          <a:xfrm>
            <a:off x="4578480" y="3481560"/>
            <a:ext cx="4572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Z]7VV@CRY][6H%AMO`Z3CPB"/>
          <p:cNvPicPr/>
          <p:nvPr/>
        </p:nvPicPr>
        <p:blipFill>
          <a:blip r:embed="rId1"/>
          <a:stretch/>
        </p:blipFill>
        <p:spPr>
          <a:xfrm>
            <a:off x="152280" y="1908000"/>
            <a:ext cx="3889440" cy="35053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4067280" y="1066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来，齐宣王死了，他的儿子齐湣王继承了王位。齐湣王也爱听吹竽，但他不喜欢听大家一起吹，改成一个一个地吹给他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{8E5C568E-9022-400A-AED3-22A019088DAA}"/>
          <p:cNvPicPr/>
          <p:nvPr/>
        </p:nvPicPr>
        <p:blipFill>
          <a:blip r:embed="rId1"/>
          <a:stretch/>
        </p:blipFill>
        <p:spPr>
          <a:xfrm>
            <a:off x="2212920" y="2590920"/>
            <a:ext cx="4584600" cy="3547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54040" y="609480"/>
            <a:ext cx="731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南郭先生听到这个消息，简直吓坏了，他吓得＿＿＿＿＿＿＿＿。他心想：＿＿＿＿＿＿＿＿＿＿＿＿＿＿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QVMB@BOC2GGGJQ1(N8606{S"/>
          <p:cNvPicPr/>
          <p:nvPr/>
        </p:nvPicPr>
        <p:blipFill>
          <a:blip r:embed="rId1"/>
          <a:stretch/>
        </p:blipFill>
        <p:spPr>
          <a:xfrm>
            <a:off x="3581280" y="839880"/>
            <a:ext cx="5562720" cy="60181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1828800" y="198108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533520" y="1219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到这个消息，南郭先生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好偷偷地溜走了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37280" y="2057400"/>
            <a:ext cx="66780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寓    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676520" y="2111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则寓言讽刺了那些没有真才实学，混在行家里充数，蒙混度日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寓言告诉我们：做人要老老实实，要有真才实学才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7-08-27T04:34:4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