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8A95-CC92-4065-B8AE-99FE86A77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CB3B-8460-471C-97CF-E720C06E8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CBE6-D14D-438B-82FC-8632C3710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6B2A-61D7-4B92-9C48-A73453852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69C1-78AE-4BC1-83FE-FE7C14F7D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7943-8D99-44FF-8ED5-39A823730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3CA8-1CB0-40E9-8356-A83FA3C82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F12B-882D-4690-969A-6AAED5441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CB93-AA4F-4415-BE34-BB2D7A4FE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87A3-9587-4862-9430-05434142B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648D-28D5-49B3-9B74-E4AF87893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69A1-F677-4C2E-8614-03964C120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38018-0E7C-41BE-9E9C-4BC19FF357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矩形 2" descr=""/>
          <p:cNvPicPr/>
          <p:nvPr/>
        </p:nvPicPr>
        <p:blipFill>
          <a:blip r:embed="rId2"/>
          <a:stretch/>
        </p:blipFill>
        <p:spPr>
          <a:xfrm>
            <a:off x="2120760" y="938160"/>
            <a:ext cx="5121360" cy="1567080"/>
          </a:xfrm>
          <a:prstGeom prst="rect">
            <a:avLst/>
          </a:prstGeom>
          <a:ln w="0">
            <a:noFill/>
          </a:ln>
        </p:spPr>
      </p:pic>
      <p:pic>
        <p:nvPicPr>
          <p:cNvPr id="42" name="图片 5" descr=""/>
          <p:cNvPicPr/>
          <p:nvPr/>
        </p:nvPicPr>
        <p:blipFill>
          <a:blip r:embed="rId3"/>
          <a:stretch/>
        </p:blipFill>
        <p:spPr>
          <a:xfrm>
            <a:off x="0" y="2884320"/>
            <a:ext cx="6012000" cy="3969000"/>
          </a:xfrm>
          <a:prstGeom prst="rect">
            <a:avLst/>
          </a:prstGeom>
          <a:ln w="0">
            <a:noFill/>
          </a:ln>
        </p:spPr>
      </p:pic>
      <p:sp>
        <p:nvSpPr>
          <p:cNvPr id="43" name="矩形 7"/>
          <p:cNvSpPr/>
          <p:nvPr/>
        </p:nvSpPr>
        <p:spPr>
          <a:xfrm>
            <a:off x="6500160" y="28828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掩：掩着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" name="矩形 10"/>
          <p:cNvSpPr/>
          <p:nvPr/>
        </p:nvSpPr>
        <p:spPr>
          <a:xfrm>
            <a:off x="6373440" y="403056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盗：偷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45" name="矩形 8" descr=""/>
          <p:cNvPicPr/>
          <p:nvPr/>
        </p:nvPicPr>
        <p:blipFill>
          <a:blip r:embed="rId4"/>
          <a:stretch/>
        </p:blipFill>
        <p:spPr>
          <a:xfrm>
            <a:off x="609480" y="549360"/>
            <a:ext cx="1316160" cy="7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1307083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47" name="WordArt 4"/>
          <p:cNvSpPr txBox="1"/>
          <p:nvPr/>
        </p:nvSpPr>
        <p:spPr>
          <a:xfrm>
            <a:off x="1258920" y="907920"/>
            <a:ext cx="252108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cc3399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楷体"/>
              </a:rPr>
              <a:t>自学提示</a:t>
            </a:r>
            <a:endParaRPr b="0" lang="en-US" sz="4400" spc="1" strike="noStrike">
              <a:ln w="12600">
                <a:solidFill>
                  <a:srgbClr val="cc3399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楷体"/>
              <a:ea typeface="华文楷体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826920" y="2349360"/>
            <a:ext cx="7490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华文楷体"/>
                <a:ea typeface="华文楷体"/>
              </a:rPr>
              <a:t>1</a:t>
            </a:r>
            <a:r>
              <a:rPr b="1" lang="zh-CN" sz="4000" spc="-1" strike="noStrike">
                <a:solidFill>
                  <a:srgbClr val="3333cc"/>
                </a:solidFill>
                <a:latin typeface="华文楷体"/>
                <a:ea typeface="华文楷体"/>
              </a:rPr>
              <a:t>、自学课文生字词。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华文楷体"/>
                <a:ea typeface="华文楷体"/>
              </a:rPr>
              <a:t>2</a:t>
            </a:r>
            <a:r>
              <a:rPr b="1" lang="zh-CN" sz="4000" spc="-1" strike="noStrike">
                <a:solidFill>
                  <a:srgbClr val="3333cc"/>
                </a:solidFill>
                <a:latin typeface="华文楷体"/>
                <a:ea typeface="华文楷体"/>
              </a:rPr>
              <a:t>、找出点明故事结果的语句读一读。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2006112008015257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3203640" y="3860640"/>
            <a:ext cx="328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楷体"/>
                <a:ea typeface="华文楷体"/>
              </a:rPr>
              <a:t>掩耳盗铃</a:t>
            </a:r>
            <a:endParaRPr b="0" lang="en-US" sz="5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3276720" y="1844640"/>
            <a:ext cx="243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楷体"/>
                <a:ea typeface="华文楷体"/>
              </a:rPr>
              <a:t>发觉</a:t>
            </a:r>
            <a:endParaRPr b="0" lang="en-US" sz="5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3276720" y="285264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楷体"/>
                <a:ea typeface="华文楷体"/>
              </a:rPr>
              <a:t>偷走</a:t>
            </a:r>
            <a:endParaRPr b="0" lang="en-US" sz="5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3" name="WordArt 6"/>
          <p:cNvSpPr txBox="1"/>
          <p:nvPr/>
        </p:nvSpPr>
        <p:spPr>
          <a:xfrm>
            <a:off x="755640" y="765000"/>
            <a:ext cx="266400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ffcc66"/>
                  </a:solidFill>
                  <a:miter/>
                </a:ln>
                <a:solidFill>
                  <a:srgbClr val="0099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楷体"/>
              </a:rPr>
              <a:t>我会读</a:t>
            </a:r>
            <a:endParaRPr b="0" lang="en-US" sz="4400" spc="1" strike="noStrike">
              <a:ln w="12600">
                <a:solidFill>
                  <a:srgbClr val="ffcc66"/>
                </a:solidFill>
                <a:miter/>
              </a:ln>
              <a:solidFill>
                <a:srgbClr val="0099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楷体"/>
              <a:ea typeface="华文楷体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3753720" y="472428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楷体"/>
                <a:ea typeface="华文楷体"/>
              </a:rPr>
              <a:t>丁零丁零</a:t>
            </a:r>
            <a:endParaRPr b="0" lang="en-US" sz="5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1307083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1116000" y="2205000"/>
            <a:ext cx="697536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0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他知道，那个铃铛只要用手一碰，就会丁零丁零地响起来。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7" name="WordArt 4"/>
          <p:cNvSpPr txBox="1"/>
          <p:nvPr/>
        </p:nvSpPr>
        <p:spPr>
          <a:xfrm>
            <a:off x="1258920" y="907920"/>
            <a:ext cx="216072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cc3399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楷体"/>
              </a:rPr>
              <a:t>读一读</a:t>
            </a:r>
            <a:endParaRPr b="0" lang="en-US" sz="4400" spc="1" strike="noStrike">
              <a:ln w="12600">
                <a:solidFill>
                  <a:srgbClr val="cc3399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楷体"/>
              <a:ea typeface="华文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6" descr="acby2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2"/>
          <p:cNvSpPr/>
          <p:nvPr/>
        </p:nvSpPr>
        <p:spPr>
          <a:xfrm>
            <a:off x="1584360" y="2306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611280" y="2133720"/>
            <a:ext cx="669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这个人为什么用掩耳的方式去盗铃呢？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" name="WordArt 17"/>
          <p:cNvSpPr txBox="1"/>
          <p:nvPr/>
        </p:nvSpPr>
        <p:spPr>
          <a:xfrm>
            <a:off x="1116000" y="765000"/>
            <a:ext cx="2519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cc3399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楷体"/>
              </a:rPr>
              <a:t>思考交流</a:t>
            </a:r>
            <a:endParaRPr b="0" lang="en-US" sz="4400" spc="1" strike="noStrike">
              <a:ln w="12600">
                <a:solidFill>
                  <a:srgbClr val="cc3399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楷体"/>
              <a:ea typeface="华文楷体"/>
            </a:endParaRPr>
          </a:p>
        </p:txBody>
      </p:sp>
      <p:sp>
        <p:nvSpPr>
          <p:cNvPr id="62" name="Text Box 20"/>
          <p:cNvSpPr/>
          <p:nvPr/>
        </p:nvSpPr>
        <p:spPr>
          <a:xfrm>
            <a:off x="900000" y="3860640"/>
            <a:ext cx="741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华文楷体"/>
                <a:ea typeface="华文楷体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华文楷体"/>
                <a:ea typeface="华文楷体"/>
              </a:rPr>
              <a:t>小提示：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华文楷体"/>
                <a:ea typeface="华文楷体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华文楷体"/>
                <a:ea typeface="华文楷体"/>
              </a:rPr>
              <a:t>默读课文，想一想，想好后在学习小组交流。小组成员交流时，同学们要注意听他说完后，本组成员再做补充。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华文楷体"/>
                <a:ea typeface="华文楷体"/>
              </a:rPr>
              <a:t>         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华文楷体"/>
                <a:ea typeface="华文楷体"/>
              </a:rPr>
              <a:t>        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8" descr="1307083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1116000" y="2205000"/>
            <a:ext cx="697536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0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他想：“响声要用耳朵才能听见，如果把耳朵掩起来，不是就听不见了吗？”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5" name="WordArt 9"/>
          <p:cNvSpPr txBox="1"/>
          <p:nvPr/>
        </p:nvSpPr>
        <p:spPr>
          <a:xfrm>
            <a:off x="1258920" y="907920"/>
            <a:ext cx="216072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cc3399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楷体"/>
              </a:rPr>
              <a:t>读一读</a:t>
            </a:r>
            <a:endParaRPr b="0" lang="en-US" sz="4400" spc="1" strike="noStrike">
              <a:ln w="12600">
                <a:solidFill>
                  <a:srgbClr val="cc3399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楷体"/>
              <a:ea typeface="华文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2483280" y="1341360"/>
            <a:ext cx="4618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讨论：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这个故事可笑在哪里？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200505010510174598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2"/>
          <p:cNvSpPr/>
          <p:nvPr/>
        </p:nvSpPr>
        <p:spPr>
          <a:xfrm>
            <a:off x="611280" y="2205000"/>
            <a:ext cx="7488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3333cc"/>
                </a:solidFill>
                <a:latin typeface="华文楷体"/>
                <a:ea typeface="华文楷体"/>
              </a:rPr>
              <a:t>做了坏事，想叫别人不知道是不可能的，自作聪明的结果是自己害自己。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人们常用“掩耳盗铃”来比喻愚蠢的人自己欺骗自己的行为。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9" name="WordArt 4"/>
          <p:cNvSpPr txBox="1"/>
          <p:nvPr/>
        </p:nvSpPr>
        <p:spPr>
          <a:xfrm>
            <a:off x="1476360" y="765000"/>
            <a:ext cx="172728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cc3399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楷体"/>
              </a:rPr>
              <a:t>寓意</a:t>
            </a:r>
            <a:endParaRPr b="0" lang="en-US" sz="4400" spc="1" strike="noStrike">
              <a:ln w="12600">
                <a:solidFill>
                  <a:srgbClr val="cc3399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楷体"/>
              <a:ea typeface="华文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9T07:09:08Z</dcterms:created>
  <dc:creator>Billgates</dc:creator>
  <dc:description/>
  <dc:language>en-US</dc:language>
  <cp:lastModifiedBy>lenovo</cp:lastModifiedBy>
  <dcterms:modified xsi:type="dcterms:W3CDTF">2017-08-27T04:54:45Z</dcterms:modified>
  <cp:revision>66</cp:revision>
  <dc:subject/>
  <dc:title>PowerPoint 演示文稿</dc:title>
</cp:coreProperties>
</file>