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type.wav" ContentType="audio/x-wav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098-9462-4282-9084-0C00F701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A83-5A53-4521-9079-21941E76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91E-8D15-450C-9107-4BD7B00B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9F5-549B-4BB6-B106-0BA7D2BD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A1A-2145-4A27-A25F-5DB1DDB7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5E3-03DA-4D5E-BA0E-55338511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2D8-8402-4695-97E9-FC2E667D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9CD-F46A-4BC7-A8D4-427FE4CD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66B-14D9-4ACA-9AE3-7625B650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81B-9B88-4B2E-AA62-C50D1EC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197-97B9-42A4-A131-8A8B10A5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D67-B8F3-4AF8-960D-A0893AD0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5ACA-FF93-4EDD-92E2-48A655AEC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2552760" y="2133720"/>
            <a:ext cx="4343400" cy="4125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856240" y="1752480"/>
            <a:ext cx="373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华文楷体"/>
                <a:ea typeface="华文楷体"/>
              </a:rPr>
              <a:t>滥 竽 充 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38934"/>
          <p:cNvPicPr/>
          <p:nvPr/>
        </p:nvPicPr>
        <p:blipFill>
          <a:blip r:embed="rId2"/>
          <a:stretch/>
        </p:blipFill>
        <p:spPr>
          <a:xfrm>
            <a:off x="1219320" y="685800"/>
            <a:ext cx="4114800" cy="3695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5109480" y="2133720"/>
            <a:ext cx="330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竽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yú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1981080" y="3962520"/>
            <a:ext cx="6400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竽是用竹做的，是古代的一种乐器。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http_imgloadCA3F66SO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5080" y="519120"/>
            <a:ext cx="891540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滥竽充数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整齐    排场    继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鼓着腮帮   编排    溜走    改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装腔作势    演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213307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105520" y="265428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 rot="5400000">
            <a:off x="37800" y="270504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14600" y="2533680"/>
            <a:ext cx="4419720" cy="1847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南郭先生滥竽充数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是怎样假装会吹竽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</a:rPr>
              <a:t>、他滥竽充数的结果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滥竽充数[20110531-1238122]"/>
          <p:cNvPicPr/>
          <p:nvPr/>
        </p:nvPicPr>
        <p:blipFill>
          <a:blip r:embed="rId1"/>
          <a:stretch/>
        </p:blipFill>
        <p:spPr>
          <a:xfrm>
            <a:off x="0" y="3432240"/>
            <a:ext cx="4724280" cy="3425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-228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个南郭先生到齐宣王那里，请求参加吹竽队。齐宣王给他很高的待遇，把他编在吹竽队里。其实，南郭先生不会吹竽。演奏的时候，他就鼓着腮帮捂着竽眼儿，装腔作势，混在队里充数。他混过了一次又一次，都没有被人发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380880" y="1981080"/>
            <a:ext cx="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4100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572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5334120" y="16002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1981080" y="22860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685800" y="290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装腔作势：故意做作想引起人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20090216_e18237cb3cf1e70664e6LtvEfQ0VBEhj[1]"/>
          <p:cNvPicPr/>
          <p:nvPr/>
        </p:nvPicPr>
        <p:blipFill>
          <a:blip r:embed="rId2"/>
          <a:stretch/>
        </p:blipFill>
        <p:spPr>
          <a:xfrm>
            <a:off x="4578480" y="3481560"/>
            <a:ext cx="4572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Z]7VV@CRY][6H%AMO`Z3CPB"/>
          <p:cNvPicPr/>
          <p:nvPr/>
        </p:nvPicPr>
        <p:blipFill>
          <a:blip r:embed="rId1"/>
          <a:stretch/>
        </p:blipFill>
        <p:spPr>
          <a:xfrm>
            <a:off x="152280" y="1908000"/>
            <a:ext cx="3889440" cy="350532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4067280" y="10666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来，齐宣王死了，他的儿子齐湣王继承了王位。齐湣王也爱听吹竽，但他不喜欢听大家一起吹，改成一个一个地吹给他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{8E5C568E-9022-400A-AED3-22A019088DAA}"/>
          <p:cNvPicPr/>
          <p:nvPr/>
        </p:nvPicPr>
        <p:blipFill>
          <a:blip r:embed="rId1"/>
          <a:stretch/>
        </p:blipFill>
        <p:spPr>
          <a:xfrm>
            <a:off x="2212920" y="2590920"/>
            <a:ext cx="4584600" cy="3547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54040" y="609480"/>
            <a:ext cx="7315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南郭先生听到这个消息，简直吓坏了，他吓得＿＿＿＿＿＿＿＿。他心想：＿＿＿＿＿＿＿＿＿＿＿＿＿＿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QVMB@BOC2GGGJQ1(N8606{S"/>
          <p:cNvPicPr/>
          <p:nvPr/>
        </p:nvPicPr>
        <p:blipFill>
          <a:blip r:embed="rId1"/>
          <a:stretch/>
        </p:blipFill>
        <p:spPr>
          <a:xfrm>
            <a:off x="3581280" y="839880"/>
            <a:ext cx="5562720" cy="601812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>
            <a:off x="1828800" y="1981080"/>
            <a:ext cx="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533520" y="12193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到这个消息，南郭先生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好偷偷地溜走了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37280" y="2057400"/>
            <a:ext cx="667800" cy="297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寓    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676520" y="2111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则寓言讽刺了那些没有真才实学，混在行家里充数，蒙混度日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寓言告诉我们：做人要老老实实，要有真才实学才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7-08-27T04:34:4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