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942-172C-47B6-AEE6-BC86748C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22D-CD4A-4071-B08C-E8D16B42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D9E-0140-4D99-81EC-92B1606A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942-B58F-4E7C-98AA-33BE5BB3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483-9546-4954-981A-81219740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EAB-A94D-44FA-8ADD-DA4E2E95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9C7-D252-48FC-8F2E-3883E07D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3D6-655C-483A-A796-19B5CA4C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F47-2BF9-4BE8-8B92-A22A48A7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E16-80EE-4F8D-90C6-778EB05A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1EB-8F59-4ACF-BABE-A31A948A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107-BD85-45BE-A9B6-63755D4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763A-EDF8-4A86-B183-75525F4CE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2" descr=""/>
          <p:cNvPicPr/>
          <p:nvPr/>
        </p:nvPicPr>
        <p:blipFill>
          <a:blip r:embed="rId2"/>
          <a:stretch/>
        </p:blipFill>
        <p:spPr>
          <a:xfrm>
            <a:off x="2120760" y="938160"/>
            <a:ext cx="5121360" cy="1567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3"/>
          <a:stretch/>
        </p:blipFill>
        <p:spPr>
          <a:xfrm>
            <a:off x="0" y="2884320"/>
            <a:ext cx="6012000" cy="396900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6500160" y="2882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掩：掩着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6373440" y="40305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盗：偷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5" name="矩形 8" descr=""/>
          <p:cNvPicPr/>
          <p:nvPr/>
        </p:nvPicPr>
        <p:blipFill>
          <a:blip r:embed="rId4"/>
          <a:stretch/>
        </p:blipFill>
        <p:spPr>
          <a:xfrm>
            <a:off x="609480" y="549360"/>
            <a:ext cx="131616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1258920" y="907920"/>
            <a:ext cx="2521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自学提示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26920" y="234936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自学课文生字词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、找出点明故事结果的语句读一读。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611200801525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203640" y="3860640"/>
            <a:ext cx="32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掩耳盗铃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276720" y="184464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觉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76720" y="285264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偷走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755640" y="765000"/>
            <a:ext cx="2664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我会读</a:t>
            </a:r>
            <a:endParaRPr b="0" lang="en-US" sz="4400" spc="1" strike="noStrike">
              <a:ln w="12600">
                <a:solidFill>
                  <a:srgbClr val="ffcc66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753720" y="4724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丁零丁零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116000" y="2205000"/>
            <a:ext cx="6975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知道，那个铃铛只要用手一碰，就会丁零丁零地响起来。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acby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584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11280" y="2133720"/>
            <a:ext cx="66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人为什么用掩耳的方式去盗铃呢？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WordArt 17"/>
          <p:cNvSpPr txBox="1"/>
          <p:nvPr/>
        </p:nvSpPr>
        <p:spPr>
          <a:xfrm>
            <a:off x="1116000" y="765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思考交流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900000" y="386064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小提示：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默读课文，想一想，想好后在学习小组交流。小组成员交流时，同学们要注意听他说完后，本组成员再做补充。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130708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116000" y="2205000"/>
            <a:ext cx="6975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想：“响声要用耳朵才能听见，如果把耳朵掩起来，不是就听不见了吗？”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1258920" y="907920"/>
            <a:ext cx="21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读一读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483280" y="1341360"/>
            <a:ext cx="4618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讨论：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个故事可笑在哪里？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20050501051017459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611280" y="2205000"/>
            <a:ext cx="748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华文楷体"/>
                <a:ea typeface="华文楷体"/>
              </a:rPr>
              <a:t>做了坏事，想叫别人不知道是不可能的，自作聪明的结果是自己害自己。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人们常用“掩耳盗铃”来比喻愚蠢的人自己欺骗自己的行为。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476360" y="765000"/>
            <a:ext cx="1727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cc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楷体"/>
              </a:rPr>
              <a:t>寓意</a:t>
            </a:r>
            <a:endParaRPr b="0" lang="en-US" sz="4400" spc="1" strike="noStrike">
              <a:ln w="12600">
                <a:solidFill>
                  <a:srgbClr val="cc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7:09:08Z</dcterms:created>
  <dc:creator>Billgates</dc:creator>
  <dc:description/>
  <dc:language>en-US</dc:language>
  <cp:lastModifiedBy>lenovo</cp:lastModifiedBy>
  <dcterms:modified xsi:type="dcterms:W3CDTF">2017-08-27T04:54:45Z</dcterms:modified>
  <cp:revision>66</cp:revision>
  <dc:subject/>
  <dc:title>PowerPoint 演示文稿</dc:title>
</cp:coreProperties>
</file>