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D3E-A122-4179-998A-52B7D49B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AF6-3291-435A-A65D-65A08126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3E8-2446-4644-935C-8FDDA52D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5B8-8D1E-4FFD-87DE-524F97A2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63F0-00A4-46D6-8050-962C0DEC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0809-8341-4FC3-B40E-2BECC76F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4B6A-74AB-4CA8-B79F-F3F6EEA6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0430-BA30-4EC2-AC3F-EB7CA0B5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F7C4-FCAE-4D53-89C3-F4FB1663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2CCD-F741-4FC6-9306-6037CDC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AAB9-1A67-4D64-BAB7-7EDC13DE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68A-C90B-49A8-B5CD-D259B2AB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DB98-3541-4E39-BB21-C1FAFFA1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8AFE-9DA4-4325-B62A-BA0B7296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4234-EEF7-4877-BED4-616CC324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0DC0-6ABC-4703-9AD3-35516B1B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625E-FDC4-49F3-9916-669E63EA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1E9-ECB8-4450-B36B-E0A87D73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9F7-5DEB-444F-8464-EFC9EAA4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B9C-E282-4A56-B24E-EDD43B42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28F-8271-4ABA-9F3D-0F21F66C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204-762E-49E8-AC26-48FEFFE4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CFE-635A-484F-849F-D2D6820F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E96-3B86-41CD-906B-345CFA99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25D5-8953-414E-A535-AEAC82E1D7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B668-4D84-49F6-9E77-024B466081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"/>
          <p:cNvSpPr/>
          <p:nvPr/>
        </p:nvSpPr>
        <p:spPr>
          <a:xfrm>
            <a:off x="2181240" y="228924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钓鱼的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19080" y="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38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文本框 5"/>
          <p:cNvSpPr/>
          <p:nvPr/>
        </p:nvSpPr>
        <p:spPr>
          <a:xfrm>
            <a:off x="861840" y="166356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43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"/>
          <p:cNvSpPr/>
          <p:nvPr/>
        </p:nvSpPr>
        <p:spPr>
          <a:xfrm>
            <a:off x="619200" y="226692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6226200" y="22366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668680" y="22334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892760" y="285768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9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2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8"/>
          <p:cNvSpPr/>
          <p:nvPr/>
        </p:nvSpPr>
        <p:spPr>
          <a:xfrm>
            <a:off x="1459080" y="16477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没有一个垂钓者，也没有一条船，当然也就没有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6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8"/>
          <p:cNvSpPr/>
          <p:nvPr/>
        </p:nvSpPr>
        <p:spPr>
          <a:xfrm>
            <a:off x="905040" y="1432080"/>
            <a:ext cx="74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使劲地闭上眼睛，脑中一片空白。他深深地吸了一口气，睁开了眼睛，弯下腰，小心翼翼地把鱼钩从那大鱼的嘴上摘下来，双手捧起这条沉甸甸的、还在不停扭动着的大鱼，吃力地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7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8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83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6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9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grpSp>
        <p:nvGrpSpPr>
          <p:cNvPr id="197" name="组合 16"/>
          <p:cNvGrpSpPr/>
          <p:nvPr/>
        </p:nvGrpSpPr>
        <p:grpSpPr>
          <a:xfrm>
            <a:off x="1035000" y="1741320"/>
            <a:ext cx="6723000" cy="3518280"/>
            <a:chOff x="1035000" y="1741320"/>
            <a:chExt cx="6723000" cy="3518280"/>
          </a:xfrm>
        </p:grpSpPr>
        <p:grpSp>
          <p:nvGrpSpPr>
            <p:cNvPr id="198" name="组合 14"/>
            <p:cNvGrpSpPr/>
            <p:nvPr/>
          </p:nvGrpSpPr>
          <p:grpSpPr>
            <a:xfrm>
              <a:off x="1035000" y="2118240"/>
              <a:ext cx="6723000" cy="3141360"/>
              <a:chOff x="1035000" y="2118240"/>
              <a:chExt cx="6723000" cy="3141360"/>
            </a:xfrm>
          </p:grpSpPr>
          <p:sp>
            <p:nvSpPr>
              <p:cNvPr id="199" name="文本框 8"/>
              <p:cNvSpPr/>
              <p:nvPr/>
            </p:nvSpPr>
            <p:spPr>
              <a:xfrm>
                <a:off x="1035000" y="2118240"/>
                <a:ext cx="6723000" cy="31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君子慎其独也。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《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礼记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·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中庸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10"/>
              <p:cNvSpPr/>
              <p:nvPr/>
            </p:nvSpPr>
            <p:spPr>
              <a:xfrm>
                <a:off x="4037040" y="3705120"/>
                <a:ext cx="866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5"/>
            <p:cNvSpPr/>
            <p:nvPr/>
          </p:nvSpPr>
          <p:spPr>
            <a:xfrm>
              <a:off x="3103200" y="174132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hè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5"/>
          <p:cNvSpPr/>
          <p:nvPr/>
        </p:nvSpPr>
        <p:spPr>
          <a:xfrm>
            <a:off x="981000" y="21430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95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文本框 5"/>
          <p:cNvSpPr/>
          <p:nvPr/>
        </p:nvSpPr>
        <p:spPr>
          <a:xfrm>
            <a:off x="1049400" y="14508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条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2"/>
          <p:cNvSpPr/>
          <p:nvPr/>
        </p:nvSpPr>
        <p:spPr>
          <a:xfrm>
            <a:off x="1068480" y="3522600"/>
            <a:ext cx="73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了一口气使自己镇静下来，开始慢慢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遛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06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4541760" y="2811600"/>
            <a:ext cx="13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5"/>
          <p:cNvSpPr/>
          <p:nvPr/>
        </p:nvSpPr>
        <p:spPr>
          <a:xfrm>
            <a:off x="1481040" y="22096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642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6067440" y="2160720"/>
            <a:ext cx="26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13240" y="3919680"/>
            <a:ext cx="15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4937040" y="169056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92480" y="361152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utoBVT</cp:lastModifiedBy>
  <dcterms:modified xsi:type="dcterms:W3CDTF">2017-10-24T23:59:07Z</dcterms:modified>
  <cp:revision>9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