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101-4963-438A-A616-A470040D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090-3165-47D0-B9A8-5390FF70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5C2-9C24-41F0-86AD-55262B47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2FB-A9B4-41D2-BE6D-8C582796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901E-3CB1-48BE-8AE2-A11879E4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C542-2F2D-46CB-8509-0D8294ED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66D3-D089-43AB-9EC0-B0190434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90AA-4744-47BE-8380-862BEC3B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F651-4292-46D1-B00F-A7583F67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62BC-A052-433B-9C3E-1403F25C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B3DC-A39F-45BE-A6E0-C30653EB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849-94ED-4B61-9013-18AA04E1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C42B-09C5-48AF-AD9E-F6D24ED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E68A-0E20-4C24-A2ED-ED499C45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2DAB-8611-468E-897D-C3C628AF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B7FF-6E95-4556-A7D5-A88F0E6F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0F23-47A8-4329-9F0B-CAD17CA4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4321-CD18-445D-819E-C5F0F0B3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EE1-92C5-42B2-9989-5299D3A8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9D9-424E-4A0F-8530-3F33CF06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BE1-4CF9-44CF-945D-D7E211E1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5FB-496C-41A4-941A-CF73B3B5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039-0CCE-4BE0-AC94-C1514915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52D-7072-4BAE-B39F-BB6DCE5B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DB99-E6D8-4B76-94E1-4977117109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643D-A992-47F0-A9A5-E8F23CE82A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"/>
          <p:cNvPicPr/>
          <p:nvPr/>
        </p:nvPicPr>
        <p:blipFill>
          <a:blip r:embed="rId3"/>
          <a:stretch/>
        </p:blipFill>
        <p:spPr>
          <a:xfrm>
            <a:off x="0" y="-3240"/>
            <a:ext cx="407988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"/>
          <p:cNvSpPr/>
          <p:nvPr/>
        </p:nvSpPr>
        <p:spPr>
          <a:xfrm>
            <a:off x="2181240" y="228924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钓鱼的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19080" y="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38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文本框 5"/>
          <p:cNvSpPr/>
          <p:nvPr/>
        </p:nvSpPr>
        <p:spPr>
          <a:xfrm>
            <a:off x="861840" y="166356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43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"/>
          <p:cNvSpPr/>
          <p:nvPr/>
        </p:nvSpPr>
        <p:spPr>
          <a:xfrm>
            <a:off x="619200" y="2266920"/>
            <a:ext cx="785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6226200" y="223668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2668680" y="2233440"/>
            <a:ext cx="179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了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0"/>
          <p:cNvSpPr/>
          <p:nvPr/>
        </p:nvSpPr>
        <p:spPr>
          <a:xfrm>
            <a:off x="4892760" y="285768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3"/>
          <p:cNvSpPr/>
          <p:nvPr/>
        </p:nvSpPr>
        <p:spPr>
          <a:xfrm>
            <a:off x="905040" y="1760400"/>
            <a:ext cx="7430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爸爸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可哪儿能钓到这么大的鱼呀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59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2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8"/>
          <p:cNvSpPr/>
          <p:nvPr/>
        </p:nvSpPr>
        <p:spPr>
          <a:xfrm>
            <a:off x="1459080" y="1647720"/>
            <a:ext cx="67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向四周望去，月光下，没有一个垂钓者，也没有一条船，当然也就没有一个人会知道这件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67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0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8"/>
          <p:cNvSpPr/>
          <p:nvPr/>
        </p:nvSpPr>
        <p:spPr>
          <a:xfrm>
            <a:off x="905040" y="1432080"/>
            <a:ext cx="74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詹姆斯知道没有商量的余地了，他使劲地闭上眼睛，脑中一片空白。他深深地吸了一口气，睁开了眼睛，弯下腰，小心翼翼地把鱼钩从那大鱼的嘴上摘下来，双手捧起这条沉甸甸的、还在不停扭动着的大鱼，吃力地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7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8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文本框 8"/>
          <p:cNvSpPr/>
          <p:nvPr/>
        </p:nvSpPr>
        <p:spPr>
          <a:xfrm>
            <a:off x="949320" y="1425600"/>
            <a:ext cx="743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这件事在詹姆斯的记忆中永远是那样清晰，他为自己的父亲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也为自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他还可以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骄傲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把这件事告诉他的朋友们和他的子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83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6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3"/>
          <p:cNvSpPr/>
          <p:nvPr/>
        </p:nvSpPr>
        <p:spPr>
          <a:xfrm>
            <a:off x="1197000" y="1878120"/>
            <a:ext cx="689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道德问题虽然是一个简单的正确或错误的问题，但是实施起来却有一定的难度，特别是当你面对很大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诱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2"/>
          <p:cNvGrpSpPr/>
          <p:nvPr/>
        </p:nvGrpSpPr>
        <p:grpSpPr>
          <a:xfrm>
            <a:off x="0" y="857160"/>
            <a:ext cx="9144000" cy="5143680"/>
            <a:chOff x="0" y="857160"/>
            <a:chExt cx="9144000" cy="5143680"/>
          </a:xfrm>
        </p:grpSpPr>
        <p:pic>
          <p:nvPicPr>
            <p:cNvPr id="191" name="图片 3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矩形 1"/>
            <p:cNvSpPr/>
            <p:nvPr/>
          </p:nvSpPr>
          <p:spPr>
            <a:xfrm>
              <a:off x="360360" y="1126800"/>
              <a:ext cx="8472600" cy="460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4" name="图片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矩形 7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图片 9" descr=""/>
          <p:cNvPicPr/>
          <p:nvPr/>
        </p:nvPicPr>
        <p:blipFill>
          <a:blip r:embed="rId3"/>
          <a:stretch/>
        </p:blipFill>
        <p:spPr>
          <a:xfrm>
            <a:off x="0" y="6480"/>
            <a:ext cx="4280040" cy="766800"/>
          </a:xfrm>
          <a:prstGeom prst="rect">
            <a:avLst/>
          </a:prstGeom>
          <a:ln w="0">
            <a:noFill/>
          </a:ln>
        </p:spPr>
      </p:pic>
      <p:grpSp>
        <p:nvGrpSpPr>
          <p:cNvPr id="197" name="组合 16"/>
          <p:cNvGrpSpPr/>
          <p:nvPr/>
        </p:nvGrpSpPr>
        <p:grpSpPr>
          <a:xfrm>
            <a:off x="1035000" y="1741320"/>
            <a:ext cx="6723000" cy="3518280"/>
            <a:chOff x="1035000" y="1741320"/>
            <a:chExt cx="6723000" cy="3518280"/>
          </a:xfrm>
        </p:grpSpPr>
        <p:grpSp>
          <p:nvGrpSpPr>
            <p:cNvPr id="198" name="组合 14"/>
            <p:cNvGrpSpPr/>
            <p:nvPr/>
          </p:nvGrpSpPr>
          <p:grpSpPr>
            <a:xfrm>
              <a:off x="1035000" y="2118240"/>
              <a:ext cx="6723000" cy="3141360"/>
              <a:chOff x="1035000" y="2118240"/>
              <a:chExt cx="6723000" cy="3141360"/>
            </a:xfrm>
          </p:grpSpPr>
          <p:sp>
            <p:nvSpPr>
              <p:cNvPr id="199" name="文本框 8"/>
              <p:cNvSpPr/>
              <p:nvPr/>
            </p:nvSpPr>
            <p:spPr>
              <a:xfrm>
                <a:off x="1035000" y="2118240"/>
                <a:ext cx="6723000" cy="31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君子慎其独也。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                           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《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礼记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·</a:t>
                </a:r>
                <a:r>
                  <a:rPr b="1" lang="zh-CN" sz="4000" spc="-1" strike="noStrike">
                    <a:solidFill>
                      <a:srgbClr val="000000"/>
                    </a:solidFill>
                    <a:latin typeface="Calibri"/>
                  </a:rPr>
                  <a:t>中庸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》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10"/>
              <p:cNvSpPr/>
              <p:nvPr/>
            </p:nvSpPr>
            <p:spPr>
              <a:xfrm>
                <a:off x="4037040" y="3705120"/>
                <a:ext cx="866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5"/>
            <p:cNvSpPr/>
            <p:nvPr/>
          </p:nvSpPr>
          <p:spPr>
            <a:xfrm>
              <a:off x="3103200" y="1741320"/>
              <a:ext cx="262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shè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5"/>
          <p:cNvSpPr/>
          <p:nvPr/>
        </p:nvSpPr>
        <p:spPr>
          <a:xfrm>
            <a:off x="981000" y="21430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Calibri"/>
              </a:rPr>
              <a:t>大家伙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95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文本框 5"/>
          <p:cNvSpPr/>
          <p:nvPr/>
        </p:nvSpPr>
        <p:spPr>
          <a:xfrm>
            <a:off x="1049400" y="1450800"/>
            <a:ext cx="729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条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鱼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2"/>
          <p:cNvSpPr/>
          <p:nvPr/>
        </p:nvSpPr>
        <p:spPr>
          <a:xfrm>
            <a:off x="1068480" y="3522600"/>
            <a:ext cx="734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了一口气使自己镇静下来，开始慢慢地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遛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2"/>
          <p:cNvGrpSpPr/>
          <p:nvPr/>
        </p:nvGrpSpPr>
        <p:grpSpPr>
          <a:xfrm>
            <a:off x="-25560" y="1440"/>
            <a:ext cx="9144000" cy="6858000"/>
            <a:chOff x="-25560" y="1440"/>
            <a:chExt cx="9144000" cy="6858000"/>
          </a:xfrm>
        </p:grpSpPr>
        <p:pic>
          <p:nvPicPr>
            <p:cNvPr id="106" name="图片 3" descr=""/>
            <p:cNvPicPr/>
            <p:nvPr/>
          </p:nvPicPr>
          <p:blipFill>
            <a:blip r:embed="rId1"/>
            <a:stretch/>
          </p:blipFill>
          <p:spPr>
            <a:xfrm>
              <a:off x="-25560" y="14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"/>
            <p:cNvSpPr/>
            <p:nvPr/>
          </p:nvSpPr>
          <p:spPr>
            <a:xfrm>
              <a:off x="334800" y="36180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吸了一口气使自己镇静下来，开始慢慢地遛那个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大家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4541760" y="2811600"/>
            <a:ext cx="132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2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5"/>
          <p:cNvSpPr/>
          <p:nvPr/>
        </p:nvSpPr>
        <p:spPr>
          <a:xfrm>
            <a:off x="1481040" y="22096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詹姆斯的眼珠都瞪圆了：我的天哪，足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公斤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642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6067440" y="2160720"/>
            <a:ext cx="26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瞪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5"/>
          <p:cNvSpPr/>
          <p:nvPr/>
        </p:nvSpPr>
        <p:spPr>
          <a:xfrm>
            <a:off x="974880" y="2170080"/>
            <a:ext cx="71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发现，这不是翻车鱼，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而是一条大鲈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93600" y="3938760"/>
            <a:ext cx="722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子俩对视了一下，又低头看着这条大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13240" y="3919680"/>
            <a:ext cx="15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5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5"/>
          <p:cNvSpPr/>
          <p:nvPr/>
        </p:nvSpPr>
        <p:spPr>
          <a:xfrm>
            <a:off x="866880" y="1273320"/>
            <a:ext cx="764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父亲看了看大鱼，又看了看儿子，说：“孩子，你得把它放回水里去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⑦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   ⑧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还会钓到别的鱼的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⑨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0" name="图片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矩形 1"/>
            <p:cNvSpPr/>
            <p:nvPr/>
          </p:nvSpPr>
          <p:spPr>
            <a:xfrm>
              <a:off x="360360" y="360360"/>
              <a:ext cx="8472600" cy="6132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alibri"/>
                </a:rPr>
                <a:t>                       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5"/>
          <p:cNvSpPr/>
          <p:nvPr/>
        </p:nvSpPr>
        <p:spPr>
          <a:xfrm>
            <a:off x="1461960" y="1738440"/>
            <a:ext cx="666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爸爸！”詹姆斯大叫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2" descr=""/>
          <p:cNvPicPr/>
          <p:nvPr/>
        </p:nvPicPr>
        <p:blipFill>
          <a:blip r:embed="rId2"/>
          <a:stretch/>
        </p:blipFill>
        <p:spPr>
          <a:xfrm>
            <a:off x="7920" y="9360"/>
            <a:ext cx="4281480" cy="766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4937040" y="1690560"/>
            <a:ext cx="210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76200" y="3009960"/>
            <a:ext cx="71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哪儿能钓到这么大的鱼呀！”儿子大声抗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92480" y="3611520"/>
            <a:ext cx="314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声抗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1T06:18:23Z</dcterms:created>
  <dc:creator>ju liu</dc:creator>
  <dc:description/>
  <dc:language>en-US</dc:language>
  <cp:lastModifiedBy>AutoBVT</cp:lastModifiedBy>
  <dcterms:modified xsi:type="dcterms:W3CDTF">2017-10-24T23:59:07Z</dcterms:modified>
  <cp:revision>9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