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8FB9-F2AC-4042-A46D-CEBEEBCA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8AAF-9993-410B-90B6-13F391A5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F753-4C18-4ABF-B2D3-8A04E716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A74-F13E-481E-B71A-29B881EB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A089-CBB9-41E8-BBFD-98C1142F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D2C8-191B-433A-96AA-1DB18381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BBA6-14C7-45C4-9673-596E15C4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60F9-8CFE-4AB8-B6EA-D1A5DC0A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243F-4403-40D9-BD18-D57376B2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43E7-FCFF-47A0-BAF8-C795F055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CD26-A4F6-4497-A665-B26F3689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255-9C6D-4D2F-B7AD-5A7A16C1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30AF-7704-4F8A-9490-03D5EC60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34C7-453C-4D2E-A260-8BA751AE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7F64-6222-4265-B96B-7750A8D6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5CF9-A13F-4734-846B-994B85AD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D995-6CDA-423D-96D4-2337BCE4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CC6-473E-4BB4-B11F-46E8DEE9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3DB8-D637-4A77-A5D2-2A1CA6D5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CA35-F5BB-4D4C-84EE-658A2447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205-A328-4B66-AF97-A88B7E79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7F33-163A-4814-ABC9-0195F4C5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F6C-841E-4351-A56A-315AADAC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434-BD0E-46C0-AA96-AD458D4B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CFA0-64CE-4686-9590-2F635B61B6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209A-7E80-43A3-90E1-956B480CCD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4"/>
          <p:cNvSpPr/>
          <p:nvPr/>
        </p:nvSpPr>
        <p:spPr>
          <a:xfrm>
            <a:off x="2181240" y="228924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钓鱼的启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" descr=""/>
          <p:cNvPicPr/>
          <p:nvPr/>
        </p:nvPicPr>
        <p:blipFill>
          <a:blip r:embed="rId2"/>
          <a:stretch/>
        </p:blipFill>
        <p:spPr>
          <a:xfrm>
            <a:off x="19080" y="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138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文本框 5"/>
          <p:cNvSpPr/>
          <p:nvPr/>
        </p:nvSpPr>
        <p:spPr>
          <a:xfrm>
            <a:off x="861840" y="166356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可哪儿能钓到这么大的鱼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143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文本框 5"/>
          <p:cNvSpPr/>
          <p:nvPr/>
        </p:nvSpPr>
        <p:spPr>
          <a:xfrm>
            <a:off x="619200" y="2266920"/>
            <a:ext cx="785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8"/>
          <p:cNvSpPr/>
          <p:nvPr/>
        </p:nvSpPr>
        <p:spPr>
          <a:xfrm>
            <a:off x="6226200" y="223668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2668680" y="223344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4892760" y="2857680"/>
            <a:ext cx="111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51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4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3"/>
          <p:cNvSpPr/>
          <p:nvPr/>
        </p:nvSpPr>
        <p:spPr>
          <a:xfrm>
            <a:off x="905040" y="1760400"/>
            <a:ext cx="7430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可哪儿能钓到这么大的鱼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59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2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文本框 8"/>
          <p:cNvSpPr/>
          <p:nvPr/>
        </p:nvSpPr>
        <p:spPr>
          <a:xfrm>
            <a:off x="1459080" y="1647720"/>
            <a:ext cx="67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向四周望去，月光下，没有一个垂钓者，也没有一条船，当然也就没有一个人会知道这件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67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0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文本框 8"/>
          <p:cNvSpPr/>
          <p:nvPr/>
        </p:nvSpPr>
        <p:spPr>
          <a:xfrm>
            <a:off x="905040" y="1432080"/>
            <a:ext cx="74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詹姆斯知道没有商量的余地了，他使劲地闭上眼睛，脑中一片空白。他深深地吸了一口气，睁开了眼睛，弯下腰，小心翼翼地把鱼钩从那大鱼的嘴上摘下来，双手捧起这条沉甸甸的、还在不停扭动着的大鱼，吃力地把它放入水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75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8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文本框 8"/>
          <p:cNvSpPr/>
          <p:nvPr/>
        </p:nvSpPr>
        <p:spPr>
          <a:xfrm>
            <a:off x="949320" y="1425600"/>
            <a:ext cx="743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件事在詹姆斯的记忆中永远是那样清晰，他为自己的父亲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也为自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他还可以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把这件事告诉他的朋友们和他的子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83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6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3"/>
          <p:cNvSpPr/>
          <p:nvPr/>
        </p:nvSpPr>
        <p:spPr>
          <a:xfrm>
            <a:off x="1197000" y="18781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德问题虽然是一个简单的正确或错误的问题，但是实施起来却有一定的难度，特别是当你面对很大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诱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时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91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4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  <p:grpSp>
        <p:nvGrpSpPr>
          <p:cNvPr id="197" name="组合 16"/>
          <p:cNvGrpSpPr/>
          <p:nvPr/>
        </p:nvGrpSpPr>
        <p:grpSpPr>
          <a:xfrm>
            <a:off x="1035000" y="1741320"/>
            <a:ext cx="6723000" cy="3518280"/>
            <a:chOff x="1035000" y="1741320"/>
            <a:chExt cx="6723000" cy="3518280"/>
          </a:xfrm>
        </p:grpSpPr>
        <p:grpSp>
          <p:nvGrpSpPr>
            <p:cNvPr id="198" name="组合 14"/>
            <p:cNvGrpSpPr/>
            <p:nvPr/>
          </p:nvGrpSpPr>
          <p:grpSpPr>
            <a:xfrm>
              <a:off x="1035000" y="2118240"/>
              <a:ext cx="6723000" cy="3141360"/>
              <a:chOff x="1035000" y="2118240"/>
              <a:chExt cx="6723000" cy="3141360"/>
            </a:xfrm>
          </p:grpSpPr>
          <p:sp>
            <p:nvSpPr>
              <p:cNvPr id="199" name="文本框 8"/>
              <p:cNvSpPr/>
              <p:nvPr/>
            </p:nvSpPr>
            <p:spPr>
              <a:xfrm>
                <a:off x="1035000" y="2118240"/>
                <a:ext cx="6723000" cy="31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          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Calibri"/>
                  </a:rPr>
                  <a:t>君子慎其独也。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                           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                               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《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Calibri"/>
                  </a:rPr>
                  <a:t>礼记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·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Calibri"/>
                  </a:rPr>
                  <a:t>中庸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接连接符 10"/>
              <p:cNvSpPr/>
              <p:nvPr/>
            </p:nvSpPr>
            <p:spPr>
              <a:xfrm>
                <a:off x="4037040" y="3705120"/>
                <a:ext cx="866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Box 15"/>
            <p:cNvSpPr/>
            <p:nvPr/>
          </p:nvSpPr>
          <p:spPr>
            <a:xfrm>
              <a:off x="3103200" y="1741320"/>
              <a:ext cx="262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shè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0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5"/>
          <p:cNvSpPr/>
          <p:nvPr/>
        </p:nvSpPr>
        <p:spPr>
          <a:xfrm>
            <a:off x="981000" y="21430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9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9600" spc="-1" strike="noStrike">
                <a:solidFill>
                  <a:srgbClr val="ff0000"/>
                </a:solidFill>
                <a:latin typeface="Calibri"/>
              </a:rPr>
              <a:t>大家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95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0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文本框 5"/>
          <p:cNvSpPr/>
          <p:nvPr/>
        </p:nvSpPr>
        <p:spPr>
          <a:xfrm>
            <a:off x="1049400" y="1450800"/>
            <a:ext cx="72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条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鱼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2"/>
          <p:cNvSpPr/>
          <p:nvPr/>
        </p:nvSpPr>
        <p:spPr>
          <a:xfrm>
            <a:off x="1068480" y="3522600"/>
            <a:ext cx="73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了一口气使自己镇静下来，开始慢慢地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遛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106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4541760" y="2811600"/>
            <a:ext cx="132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2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文本框 5"/>
          <p:cNvSpPr/>
          <p:nvPr/>
        </p:nvSpPr>
        <p:spPr>
          <a:xfrm>
            <a:off x="1481040" y="22096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的眼珠都瞪圆了：我的天哪，足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公斤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6429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6067440" y="2160720"/>
            <a:ext cx="262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瞪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8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发现，这不是翻车鱼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而是一条大鲈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93600" y="3938760"/>
            <a:ext cx="72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子俩对视了一下，又低头看着这条大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13240" y="3919680"/>
            <a:ext cx="158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5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文本框 5"/>
          <p:cNvSpPr/>
          <p:nvPr/>
        </p:nvSpPr>
        <p:spPr>
          <a:xfrm>
            <a:off x="866880" y="1273320"/>
            <a:ext cx="764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⑥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⑦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   ⑧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⑨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0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5"/>
          <p:cNvSpPr/>
          <p:nvPr/>
        </p:nvSpPr>
        <p:spPr>
          <a:xfrm>
            <a:off x="1461960" y="1738440"/>
            <a:ext cx="666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6"/>
          <p:cNvSpPr/>
          <p:nvPr/>
        </p:nvSpPr>
        <p:spPr>
          <a:xfrm>
            <a:off x="4937040" y="1690560"/>
            <a:ext cx="210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76200" y="3009960"/>
            <a:ext cx="71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92480" y="3611520"/>
            <a:ext cx="31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声抗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1T06:18:23Z</dcterms:created>
  <dc:creator>ju liu</dc:creator>
  <dc:description/>
  <dc:language>en-US</dc:language>
  <cp:lastModifiedBy>AutoBVT</cp:lastModifiedBy>
  <dcterms:modified xsi:type="dcterms:W3CDTF">2017-10-24T23:59:07Z</dcterms:modified>
  <cp:revision>9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