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410E-C1B3-4584-BF6C-45FFBB5640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2441-2951-4F2B-A126-287E587158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05BC-090A-4BC9-8701-E5FDB75D60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AAC9-600F-45C1-88EF-D549D87840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97B0-1152-4575-A82F-B949F1A7B4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1D29-D3DE-4C68-8403-775C5D1D11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F6A9-97C2-4065-BBFF-6DFCD53358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EE46-D74A-4D7E-A484-C4BC22695C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B006-5A89-4D50-BAA9-2015774F4D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694-476A-4721-910D-42908675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0B2-92CB-4718-9666-5ED580C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DC0-E58A-43ED-9B10-E4207634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CB4-ABFF-4421-8D6A-F5DE1DF3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F930-3D98-4D6B-8C70-150EA2D7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946B-D530-4EB3-9BC1-AF042E27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BA37-4ABF-4F62-8650-D6246412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1D3A-7CA5-4FC3-875C-DEB5B842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A36E-D474-46D8-802D-91D4422F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E126-A3A0-44BF-82DE-6D8940A9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EA2D-21A7-41F7-B079-F3E4DA1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46B-632B-437B-BBC7-93F87794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2ADD-E4A8-4BF7-B686-4E4E7D2B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0C4C-2E97-4435-B87C-717E8CA9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1EB2-CA44-43D4-AACF-891849BB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6754-391A-4B18-B9B6-16BFF869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DB58-FBE2-4516-A777-4859ED60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483-75F3-4DBB-AABB-3326A54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3EE-B711-46C6-A6EB-33BA1D55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14C-2D40-4DFD-A8F5-A8312DDF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DD4-842C-437E-BC1C-05E74A1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C2C-E1FB-45E8-9174-CA5A3C61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983-49C9-49F7-B10F-6D00A805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B00-1E41-4240-BEA9-B2AC985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9AC2-47F5-430F-AFB9-B78BFE1C46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B16D-A740-409F-A42B-F830E0E208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"/>
          <p:cNvSpPr/>
          <p:nvPr/>
        </p:nvSpPr>
        <p:spPr>
          <a:xfrm>
            <a:off x="22320" y="674640"/>
            <a:ext cx="9386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四四班欢迎您</a:t>
            </a:r>
            <a:r>
              <a:rPr b="1" lang="en-US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请各位家长把手机调至振动状态，听课期间，请不要接听手机，以免影响大家听课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在听课期间，请不要随意走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感谢大家的支持配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" descr=""/>
          <p:cNvPicPr/>
          <p:nvPr/>
        </p:nvPicPr>
        <p:blipFill>
          <a:blip r:embed="rId2"/>
          <a:stretch/>
        </p:blipFill>
        <p:spPr>
          <a:xfrm>
            <a:off x="0" y="3529080"/>
            <a:ext cx="4049640" cy="332892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3684600" y="709560"/>
            <a:ext cx="50943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上渔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 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宋   范仲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 上 往 来 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但  爱 鲈 鱼 美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君  看 一 叶 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出  没 风 波 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3619440" y="4022640"/>
            <a:ext cx="5280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1036800" y="2079720"/>
            <a:ext cx="6667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请用自己喜欢的方式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读课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-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然段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从哪些词语中体会到詹姆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" descr=""/>
          <p:cNvPicPr/>
          <p:nvPr/>
        </p:nvPicPr>
        <p:blipFill>
          <a:blip r:embed="rId1"/>
          <a:stretch/>
        </p:blipFill>
        <p:spPr>
          <a:xfrm>
            <a:off x="79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580000" y="173844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33640" y="361944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5"/>
          <p:cNvSpPr/>
          <p:nvPr/>
        </p:nvSpPr>
        <p:spPr>
          <a:xfrm>
            <a:off x="787320" y="295920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378480" y="29494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789280" y="29336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5348160" y="359424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"/>
          <p:cNvSpPr/>
          <p:nvPr/>
        </p:nvSpPr>
        <p:spPr>
          <a:xfrm>
            <a:off x="846000" y="369720"/>
            <a:ext cx="739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3381480" y="9842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8"/>
          <p:cNvSpPr/>
          <p:nvPr/>
        </p:nvSpPr>
        <p:spPr>
          <a:xfrm>
            <a:off x="773280" y="7621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垂钓者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条船，当然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就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3" descr=""/>
          <p:cNvPicPr/>
          <p:nvPr/>
        </p:nvPicPr>
        <p:blipFill>
          <a:blip r:embed="rId3"/>
          <a:stretch/>
        </p:blipFill>
        <p:spPr>
          <a:xfrm>
            <a:off x="360360" y="3321000"/>
            <a:ext cx="8472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"/>
          <p:cNvSpPr/>
          <p:nvPr/>
        </p:nvSpPr>
        <p:spPr>
          <a:xfrm>
            <a:off x="861840" y="16635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1434960" y="148428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默读课文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自然段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你从哪些词语体会出詹姆斯怎样的心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9" descr=""/>
          <p:cNvPicPr/>
          <p:nvPr/>
        </p:nvPicPr>
        <p:blipFill>
          <a:blip r:embed="rId1"/>
          <a:stretch/>
        </p:blipFill>
        <p:spPr>
          <a:xfrm>
            <a:off x="0" y="46080"/>
            <a:ext cx="9121680" cy="684036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8"/>
          <p:cNvSpPr/>
          <p:nvPr/>
        </p:nvSpPr>
        <p:spPr>
          <a:xfrm>
            <a:off x="905040" y="1432080"/>
            <a:ext cx="74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使劲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闭上眼睛，脑中一片空白。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深深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吸了一口气，睁开了眼睛，弯下腰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小心翼翼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鱼钩从那大鱼的嘴上摘下来，双手捧起这条沉甸甸的、还在不停扭动着的大鱼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吃力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"/>
          <p:cNvGrpSpPr/>
          <p:nvPr/>
        </p:nvGrpSpPr>
        <p:grpSpPr>
          <a:xfrm>
            <a:off x="905040" y="2028960"/>
            <a:ext cx="5865480" cy="3330360"/>
            <a:chOff x="905040" y="2028960"/>
            <a:chExt cx="5865480" cy="3330360"/>
          </a:xfrm>
        </p:grpSpPr>
        <p:sp>
          <p:nvSpPr>
            <p:cNvPr id="170" name="文本框 2"/>
            <p:cNvSpPr/>
            <p:nvPr/>
          </p:nvSpPr>
          <p:spPr>
            <a:xfrm>
              <a:off x="2743560" y="2028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9"/>
            <p:cNvSpPr/>
            <p:nvPr/>
          </p:nvSpPr>
          <p:spPr>
            <a:xfrm>
              <a:off x="274356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0"/>
            <p:cNvSpPr/>
            <p:nvPr/>
          </p:nvSpPr>
          <p:spPr>
            <a:xfrm>
              <a:off x="549540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1"/>
            <p:cNvSpPr/>
            <p:nvPr/>
          </p:nvSpPr>
          <p:spPr>
            <a:xfrm>
              <a:off x="905040" y="3117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2743560" y="36709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3"/>
            <p:cNvSpPr/>
            <p:nvPr/>
          </p:nvSpPr>
          <p:spPr>
            <a:xfrm>
              <a:off x="5495400" y="3666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4"/>
            <p:cNvSpPr/>
            <p:nvPr/>
          </p:nvSpPr>
          <p:spPr>
            <a:xfrm>
              <a:off x="3196440" y="47167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文本框 2"/>
          <p:cNvSpPr/>
          <p:nvPr/>
        </p:nvSpPr>
        <p:spPr>
          <a:xfrm>
            <a:off x="2743200" y="6000840"/>
            <a:ext cx="327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5443560" y="5164200"/>
            <a:ext cx="367812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电影原声-离别(纯音乐).mp3" descr=""/>
          <p:cNvPicPr/>
          <p:nvPr/>
        </p:nvPicPr>
        <p:blipFill>
          <a:blip r:embed="rId3"/>
          <a:stretch/>
        </p:blipFill>
        <p:spPr>
          <a:xfrm>
            <a:off x="68400" y="6289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2332080" y="5238720"/>
            <a:ext cx="48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钓鱼的启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14480" y="6510240"/>
            <a:ext cx="9144000" cy="24624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0" y="7920"/>
            <a:ext cx="911052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1744560" y="773280"/>
            <a:ext cx="49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1157400" y="2230560"/>
            <a:ext cx="689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中面临的诱惑还有哪些？你是怎样抵制的？父母是如何引导你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我记忆中永远是那样清晰，我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我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我的朋友们和我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4" descr="timg (1)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"/>
          <p:cNvSpPr/>
          <p:nvPr/>
        </p:nvSpPr>
        <p:spPr>
          <a:xfrm>
            <a:off x="1014480" y="1351080"/>
            <a:ext cx="75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以规矩，不成方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只有按照正当的法规生活的人，才不同于动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俄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列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3" descr=""/>
          <p:cNvPicPr/>
          <p:nvPr/>
        </p:nvPicPr>
        <p:blipFill>
          <a:blip r:embed="rId1"/>
          <a:stretch/>
        </p:blipFill>
        <p:spPr>
          <a:xfrm>
            <a:off x="-176040" y="9216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推荐阅读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2"/>
          <a:stretch/>
        </p:blipFill>
        <p:spPr>
          <a:xfrm>
            <a:off x="1913040" y="1252440"/>
            <a:ext cx="399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3" descr=""/>
          <p:cNvPicPr/>
          <p:nvPr/>
        </p:nvPicPr>
        <p:blipFill>
          <a:blip r:embed="rId1"/>
          <a:stretch/>
        </p:blipFill>
        <p:spPr>
          <a:xfrm>
            <a:off x="-814320" y="0"/>
            <a:ext cx="99583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133200" y="1211400"/>
            <a:ext cx="8877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Arial"/>
              </a:rPr>
              <a:t>谢谢大家的倾听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"/>
          <p:cNvSpPr/>
          <p:nvPr/>
        </p:nvSpPr>
        <p:spPr>
          <a:xfrm>
            <a:off x="2708280" y="804960"/>
            <a:ext cx="4186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1"/>
          <a:stretch/>
        </p:blipFill>
        <p:spPr>
          <a:xfrm>
            <a:off x="-15840" y="109440"/>
            <a:ext cx="9097920" cy="67485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"/>
          <p:cNvSpPr/>
          <p:nvPr/>
        </p:nvSpPr>
        <p:spPr>
          <a:xfrm>
            <a:off x="1535040" y="4043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687240" y="662040"/>
            <a:ext cx="2298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1535040" y="1535040"/>
            <a:ext cx="719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允许      悲哀       压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道德      教诲       实施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清晰      钓鱼       余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抵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诱惑       骄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心翼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筋疲力尽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据为己有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404040"/>
                </a:solidFill>
                <a:latin typeface="Calibri"/>
              </a:rPr>
              <a:t>一声不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4" descr=""/>
          <p:cNvPicPr/>
          <p:nvPr/>
        </p:nvPicPr>
        <p:blipFill>
          <a:blip r:embed="rId1"/>
          <a:stretch/>
        </p:blipFill>
        <p:spPr>
          <a:xfrm>
            <a:off x="158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5"/>
          <p:cNvSpPr/>
          <p:nvPr/>
        </p:nvSpPr>
        <p:spPr>
          <a:xfrm>
            <a:off x="888840" y="210996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1006560" y="2340000"/>
            <a:ext cx="71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）抵制住了（      ）     的诱惑，最后为（      ）感到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1928880" y="2340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詹姆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3078000" y="4656240"/>
            <a:ext cx="4622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6497640" y="23400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鱼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"/>
          <p:cNvSpPr/>
          <p:nvPr/>
        </p:nvSpPr>
        <p:spPr>
          <a:xfrm>
            <a:off x="4950000" y="295596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5"/>
          <p:cNvSpPr/>
          <p:nvPr/>
        </p:nvSpPr>
        <p:spPr>
          <a:xfrm>
            <a:off x="735120" y="1143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61120" y="1143000"/>
            <a:ext cx="26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488880" y="2627280"/>
            <a:ext cx="8344080" cy="386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2"/>
          <a:stretch/>
        </p:blipFill>
        <p:spPr>
          <a:xfrm>
            <a:off x="-171360" y="0"/>
            <a:ext cx="9315360" cy="7072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4"/>
          <p:cNvSpPr/>
          <p:nvPr/>
        </p:nvSpPr>
        <p:spPr>
          <a:xfrm>
            <a:off x="4303440" y="87156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"/>
          <p:cNvSpPr/>
          <p:nvPr/>
        </p:nvSpPr>
        <p:spPr>
          <a:xfrm>
            <a:off x="49320" y="5526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68120" y="1638360"/>
            <a:ext cx="734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2"/>
          <a:stretch/>
        </p:blipFill>
        <p:spPr>
          <a:xfrm>
            <a:off x="360360" y="2335320"/>
            <a:ext cx="8472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939960" y="90792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010120" y="152568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367000" y="9079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360360" y="2884320"/>
            <a:ext cx="84726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tretch/>
        </p:blipFill>
        <p:spPr>
          <a:xfrm>
            <a:off x="0" y="-27000"/>
            <a:ext cx="903924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2"/>
          <a:stretch/>
        </p:blipFill>
        <p:spPr>
          <a:xfrm>
            <a:off x="4003560" y="4237200"/>
            <a:ext cx="50356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SUS</cp:lastModifiedBy>
  <dcterms:modified xsi:type="dcterms:W3CDTF">2017-12-21T11:19:24Z</dcterms:modified>
  <cp:revision>2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