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8B56-EF46-4912-986D-1FD11C234A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B99C-EF3F-45CD-B1F8-14E6B767B5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5FA6-55E3-4829-8183-5DD4171469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748-6D8C-4430-8DF0-8103031119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EE1B-CF67-4974-B38C-39DC717552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653C-C204-48F2-A2D5-CE0B24857B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6427-B238-4D9B-8571-C7702A7DA6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D9AC-91D2-4639-BB4A-B9E5ACA3FC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61B1-C833-4522-9704-A1A42B18C0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BAC-DCD0-48DA-BDA8-59061359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763-3E36-48C7-8809-AF1BFDE3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C44-8E1B-4A40-9A67-A54D9B57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A70-9475-4E90-909A-A8B03DF8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B104-36A2-4B32-9F1E-828325BD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9324-8723-40F2-BD60-653CEBF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59E3-1743-4232-8A20-E501E0AB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0361-ECFF-41B0-A8DF-9F2330E4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8BFB-FA6E-44F6-84B6-637AFE46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F793-8967-40E0-98F7-5842B166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281A-7745-4E77-BB22-E55EDBA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CAE-A3C9-4395-8B7E-8D474162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6342-5265-4F04-99BA-54F574E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684A-602F-4255-BB79-A36799DB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A713-5110-4547-8D1F-C0C2DB62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B4A0-40A3-469C-A509-53655799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EC29-0CB9-4D0A-BBB5-D6194176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72E-1502-4D0F-9D0F-5CA9D91D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997-C485-4B04-B718-85E79848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BB9-4F42-4F93-BF56-956CB359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6C4-A509-4BB0-9230-050088F6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646-453A-4602-8215-2CB4E290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0CE-3E84-4295-A8CB-42327C8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3B8-A510-4E52-824E-3F638AFA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43FF-5270-4482-8FF6-9CA9771B5A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1D43-2BAC-4AA0-95BA-8EA5367EDD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"/>
          <p:cNvSpPr/>
          <p:nvPr/>
        </p:nvSpPr>
        <p:spPr>
          <a:xfrm>
            <a:off x="22320" y="674640"/>
            <a:ext cx="9386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四四班欢迎您</a:t>
            </a:r>
            <a:r>
              <a:rPr b="1" lang="en-US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请各位家长把手机调至振动状态，听课期间，请不要接听手机，以免影响大家听课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"/>
                <a:ea typeface="仿宋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在听课期间，请不要随意走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"/>
                <a:ea typeface="仿宋"/>
              </a:rPr>
              <a:t>感谢大家的支持配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2" descr=""/>
          <p:cNvPicPr/>
          <p:nvPr/>
        </p:nvPicPr>
        <p:blipFill>
          <a:blip r:embed="rId2"/>
          <a:stretch/>
        </p:blipFill>
        <p:spPr>
          <a:xfrm>
            <a:off x="0" y="3529080"/>
            <a:ext cx="4049640" cy="332892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3684600" y="709560"/>
            <a:ext cx="50943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上渔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 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宋   范仲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江 上 往 来 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但  爱 鲈 鱼 美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君  看 一 叶 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出  没 风 波 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4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3619440" y="4022640"/>
            <a:ext cx="52801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1036800" y="2079720"/>
            <a:ext cx="66672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请用自己喜欢的方式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读课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-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然段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从哪些词语中体会到詹姆斯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3" descr=""/>
          <p:cNvPicPr/>
          <p:nvPr/>
        </p:nvPicPr>
        <p:blipFill>
          <a:blip r:embed="rId1"/>
          <a:stretch/>
        </p:blipFill>
        <p:spPr>
          <a:xfrm>
            <a:off x="79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5580000" y="173844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33640" y="361944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5"/>
          <p:cNvSpPr/>
          <p:nvPr/>
        </p:nvSpPr>
        <p:spPr>
          <a:xfrm>
            <a:off x="787320" y="295920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378480" y="29494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789280" y="29336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5348160" y="359424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"/>
          <p:cNvSpPr/>
          <p:nvPr/>
        </p:nvSpPr>
        <p:spPr>
          <a:xfrm>
            <a:off x="846000" y="369720"/>
            <a:ext cx="739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3381480" y="9842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8"/>
          <p:cNvSpPr/>
          <p:nvPr/>
        </p:nvSpPr>
        <p:spPr>
          <a:xfrm>
            <a:off x="773280" y="7621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垂钓者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条船，当然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也就没有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3" descr=""/>
          <p:cNvPicPr/>
          <p:nvPr/>
        </p:nvPicPr>
        <p:blipFill>
          <a:blip r:embed="rId3"/>
          <a:stretch/>
        </p:blipFill>
        <p:spPr>
          <a:xfrm>
            <a:off x="360360" y="3321000"/>
            <a:ext cx="84726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"/>
          <p:cNvSpPr/>
          <p:nvPr/>
        </p:nvSpPr>
        <p:spPr>
          <a:xfrm>
            <a:off x="861840" y="16635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"/>
          <p:cNvSpPr/>
          <p:nvPr/>
        </p:nvSpPr>
        <p:spPr>
          <a:xfrm>
            <a:off x="1434960" y="1484280"/>
            <a:ext cx="707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默读课文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自然段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你从哪些词语体会出詹姆斯怎样的心情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9" descr=""/>
          <p:cNvPicPr/>
          <p:nvPr/>
        </p:nvPicPr>
        <p:blipFill>
          <a:blip r:embed="rId1"/>
          <a:stretch/>
        </p:blipFill>
        <p:spPr>
          <a:xfrm>
            <a:off x="0" y="46080"/>
            <a:ext cx="9121680" cy="684036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8"/>
          <p:cNvSpPr/>
          <p:nvPr/>
        </p:nvSpPr>
        <p:spPr>
          <a:xfrm>
            <a:off x="905040" y="1432080"/>
            <a:ext cx="74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使劲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闭上眼睛，脑中一片空白。他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深深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吸了一口气，睁开了眼睛，弯下腰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小心翼翼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鱼钩从那大鱼的嘴上摘下来，双手捧起这条沉甸甸的、还在不停扭动着的大鱼，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吃力地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"/>
          <p:cNvGrpSpPr/>
          <p:nvPr/>
        </p:nvGrpSpPr>
        <p:grpSpPr>
          <a:xfrm>
            <a:off x="905040" y="2028960"/>
            <a:ext cx="5865480" cy="3330360"/>
            <a:chOff x="905040" y="2028960"/>
            <a:chExt cx="5865480" cy="3330360"/>
          </a:xfrm>
        </p:grpSpPr>
        <p:sp>
          <p:nvSpPr>
            <p:cNvPr id="170" name="文本框 2"/>
            <p:cNvSpPr/>
            <p:nvPr/>
          </p:nvSpPr>
          <p:spPr>
            <a:xfrm>
              <a:off x="2743560" y="2028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9"/>
            <p:cNvSpPr/>
            <p:nvPr/>
          </p:nvSpPr>
          <p:spPr>
            <a:xfrm>
              <a:off x="274356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0"/>
            <p:cNvSpPr/>
            <p:nvPr/>
          </p:nvSpPr>
          <p:spPr>
            <a:xfrm>
              <a:off x="5495400" y="25740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1"/>
            <p:cNvSpPr/>
            <p:nvPr/>
          </p:nvSpPr>
          <p:spPr>
            <a:xfrm>
              <a:off x="905040" y="3117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2"/>
            <p:cNvSpPr/>
            <p:nvPr/>
          </p:nvSpPr>
          <p:spPr>
            <a:xfrm>
              <a:off x="2743560" y="36709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3"/>
            <p:cNvSpPr/>
            <p:nvPr/>
          </p:nvSpPr>
          <p:spPr>
            <a:xfrm>
              <a:off x="5495400" y="366696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4"/>
            <p:cNvSpPr/>
            <p:nvPr/>
          </p:nvSpPr>
          <p:spPr>
            <a:xfrm>
              <a:off x="3196440" y="471672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Calibri"/>
                </a:rPr>
                <a:t>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文本框 2"/>
          <p:cNvSpPr/>
          <p:nvPr/>
        </p:nvSpPr>
        <p:spPr>
          <a:xfrm>
            <a:off x="2743200" y="6000840"/>
            <a:ext cx="327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2" descr=""/>
          <p:cNvPicPr/>
          <p:nvPr/>
        </p:nvPicPr>
        <p:blipFill>
          <a:blip r:embed="rId2"/>
          <a:stretch/>
        </p:blipFill>
        <p:spPr>
          <a:xfrm>
            <a:off x="5443560" y="5164200"/>
            <a:ext cx="3678120" cy="1643040"/>
          </a:xfrm>
          <a:prstGeom prst="rect">
            <a:avLst/>
          </a:prstGeom>
          <a:ln w="0">
            <a:noFill/>
          </a:ln>
        </p:spPr>
      </p:pic>
      <p:pic>
        <p:nvPicPr>
          <p:cNvPr id="179" name="电影原声-离别(纯音乐).mp3" descr=""/>
          <p:cNvPicPr/>
          <p:nvPr/>
        </p:nvPicPr>
        <p:blipFill>
          <a:blip r:embed="rId3"/>
          <a:stretch/>
        </p:blipFill>
        <p:spPr>
          <a:xfrm>
            <a:off x="68400" y="6289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96" name="矩形 7"/>
          <p:cNvSpPr/>
          <p:nvPr/>
        </p:nvSpPr>
        <p:spPr>
          <a:xfrm>
            <a:off x="2332080" y="5238720"/>
            <a:ext cx="48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钓鱼的启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14480" y="6510240"/>
            <a:ext cx="9144000" cy="246240"/>
          </a:xfrm>
          <a:prstGeom prst="rect">
            <a:avLst/>
          </a:prstGeom>
          <a:solidFill>
            <a:srgbClr val="2e75b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0" y="7920"/>
            <a:ext cx="9110520" cy="68500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3"/>
          <p:cNvSpPr/>
          <p:nvPr/>
        </p:nvSpPr>
        <p:spPr>
          <a:xfrm>
            <a:off x="2247840" y="43099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1744560" y="773280"/>
            <a:ext cx="49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畅所欲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"/>
          <p:cNvSpPr/>
          <p:nvPr/>
        </p:nvSpPr>
        <p:spPr>
          <a:xfrm>
            <a:off x="1157400" y="2230560"/>
            <a:ext cx="689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中面临的诱惑还有哪些？你是怎样抵制的？父母是如何引导你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我记忆中永远是那样清晰，我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我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我的朋友们和我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4" descr="timg (1).jpg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"/>
          <p:cNvSpPr/>
          <p:nvPr/>
        </p:nvSpPr>
        <p:spPr>
          <a:xfrm>
            <a:off x="1014480" y="1351080"/>
            <a:ext cx="75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不以规矩，不成方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只有按照正当的法规生活的人，才不同于动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俄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列夫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3" descr=""/>
          <p:cNvPicPr/>
          <p:nvPr/>
        </p:nvPicPr>
        <p:blipFill>
          <a:blip r:embed="rId1"/>
          <a:stretch/>
        </p:blipFill>
        <p:spPr>
          <a:xfrm>
            <a:off x="-176040" y="9216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推荐阅读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2"/>
          <a:stretch/>
        </p:blipFill>
        <p:spPr>
          <a:xfrm>
            <a:off x="1913040" y="1252440"/>
            <a:ext cx="3992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3" descr=""/>
          <p:cNvPicPr/>
          <p:nvPr/>
        </p:nvPicPr>
        <p:blipFill>
          <a:blip r:embed="rId1"/>
          <a:stretch/>
        </p:blipFill>
        <p:spPr>
          <a:xfrm>
            <a:off x="-814320" y="0"/>
            <a:ext cx="995832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8"/>
          <p:cNvSpPr/>
          <p:nvPr/>
        </p:nvSpPr>
        <p:spPr>
          <a:xfrm>
            <a:off x="852480" y="503280"/>
            <a:ext cx="74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133200" y="1211400"/>
            <a:ext cx="8877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Arial"/>
              </a:rPr>
              <a:t>谢谢大家的倾听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"/>
          <p:cNvSpPr/>
          <p:nvPr/>
        </p:nvSpPr>
        <p:spPr>
          <a:xfrm>
            <a:off x="2708280" y="804960"/>
            <a:ext cx="4186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" descr=""/>
          <p:cNvPicPr/>
          <p:nvPr/>
        </p:nvPicPr>
        <p:blipFill>
          <a:blip r:embed="rId1"/>
          <a:stretch/>
        </p:blipFill>
        <p:spPr>
          <a:xfrm>
            <a:off x="-15840" y="109440"/>
            <a:ext cx="9097920" cy="67485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"/>
          <p:cNvSpPr/>
          <p:nvPr/>
        </p:nvSpPr>
        <p:spPr>
          <a:xfrm>
            <a:off x="1535040" y="4043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687240" y="662040"/>
            <a:ext cx="22989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1535040" y="1535040"/>
            <a:ext cx="719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允许      悲哀       压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道德      教诲       实施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清晰      钓鱼       余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抵制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诱惑       骄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心翼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筋疲力尽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据为己有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404040"/>
                </a:solidFill>
                <a:latin typeface="Calibri"/>
              </a:rPr>
              <a:t>一声不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4" descr=""/>
          <p:cNvPicPr/>
          <p:nvPr/>
        </p:nvPicPr>
        <p:blipFill>
          <a:blip r:embed="rId1"/>
          <a:stretch/>
        </p:blipFill>
        <p:spPr>
          <a:xfrm>
            <a:off x="1584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5"/>
          <p:cNvSpPr/>
          <p:nvPr/>
        </p:nvSpPr>
        <p:spPr>
          <a:xfrm>
            <a:off x="888840" y="210996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1006560" y="2340000"/>
            <a:ext cx="714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  ）抵制住了（      ）     的诱惑，最后为（      ）感到骄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1928880" y="234000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詹姆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3078000" y="4656240"/>
            <a:ext cx="4622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6"/>
          <p:cNvSpPr/>
          <p:nvPr/>
        </p:nvSpPr>
        <p:spPr>
          <a:xfrm>
            <a:off x="6497640" y="234000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鱼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7"/>
          <p:cNvSpPr/>
          <p:nvPr/>
        </p:nvSpPr>
        <p:spPr>
          <a:xfrm>
            <a:off x="4950000" y="295596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4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5"/>
          <p:cNvSpPr/>
          <p:nvPr/>
        </p:nvSpPr>
        <p:spPr>
          <a:xfrm>
            <a:off x="735120" y="1143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61120" y="1143000"/>
            <a:ext cx="26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2" descr=""/>
          <p:cNvPicPr/>
          <p:nvPr/>
        </p:nvPicPr>
        <p:blipFill>
          <a:blip r:embed="rId2"/>
          <a:stretch/>
        </p:blipFill>
        <p:spPr>
          <a:xfrm>
            <a:off x="488880" y="2627280"/>
            <a:ext cx="8344080" cy="386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899964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"/>
          <p:cNvPicPr/>
          <p:nvPr/>
        </p:nvPicPr>
        <p:blipFill>
          <a:blip r:embed="rId2"/>
          <a:stretch/>
        </p:blipFill>
        <p:spPr>
          <a:xfrm>
            <a:off x="-171360" y="0"/>
            <a:ext cx="9315360" cy="7072200"/>
          </a:xfrm>
          <a:prstGeom prst="rect">
            <a:avLst/>
          </a:prstGeom>
          <a:ln w="0">
            <a:noFill/>
          </a:ln>
        </p:spPr>
      </p:pic>
      <p:sp>
        <p:nvSpPr>
          <p:cNvPr id="116" name="矩形 4"/>
          <p:cNvSpPr/>
          <p:nvPr/>
        </p:nvSpPr>
        <p:spPr>
          <a:xfrm>
            <a:off x="4303440" y="87156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5"/>
          <p:cNvSpPr/>
          <p:nvPr/>
        </p:nvSpPr>
        <p:spPr>
          <a:xfrm>
            <a:off x="49320" y="5526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68120" y="1638360"/>
            <a:ext cx="734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马上意识到那是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2"/>
          <a:stretch/>
        </p:blipFill>
        <p:spPr>
          <a:xfrm>
            <a:off x="360360" y="2335320"/>
            <a:ext cx="84726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939960" y="90792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010120" y="152568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367000" y="9079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2"/>
          <a:stretch/>
        </p:blipFill>
        <p:spPr>
          <a:xfrm>
            <a:off x="360360" y="2884320"/>
            <a:ext cx="847260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4" descr=""/>
          <p:cNvPicPr/>
          <p:nvPr/>
        </p:nvPicPr>
        <p:blipFill>
          <a:blip r:embed="rId1"/>
          <a:stretch/>
        </p:blipFill>
        <p:spPr>
          <a:xfrm>
            <a:off x="0" y="-27000"/>
            <a:ext cx="903924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2" descr=""/>
          <p:cNvPicPr/>
          <p:nvPr/>
        </p:nvPicPr>
        <p:blipFill>
          <a:blip r:embed="rId2"/>
          <a:stretch/>
        </p:blipFill>
        <p:spPr>
          <a:xfrm>
            <a:off x="4003560" y="4237200"/>
            <a:ext cx="50356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SUS</cp:lastModifiedBy>
  <dcterms:modified xsi:type="dcterms:W3CDTF">2017-12-21T11:19:24Z</dcterms:modified>
  <cp:revision>2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