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122-2194-4802-836F-8072FDDE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97D-1B62-4CF6-A3D7-78884C7E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A2E-ECDA-4164-856E-BE7D4B62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F35-B2BD-45D6-BDC8-DCA2C84F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236-1CE8-47A4-941F-24566458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50E-1E94-40C7-A914-0CF7E889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F00-42C6-4FBA-BF65-F100C605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166-937F-4494-B35A-7FF02EE7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B8F-0727-4809-BC52-B14078CD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EFF-C0EE-4670-B7B8-88D3A2BC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21E-6FFB-4D4D-9B40-510EB611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3F8-EA5E-47B6-8CCF-DC2A2483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B987-F958-46E5-8FE4-1E5DCB1FA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684360" y="2133720"/>
            <a:ext cx="5975280" cy="2401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476360" y="0"/>
            <a:ext cx="446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林中乐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19640" y="184464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苏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塔利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安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767640" y="522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教：陈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684360" y="4653000"/>
            <a:ext cx="5975280" cy="220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6732720" y="314172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师大版小学语文    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元       音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树林小鸟1"/>
          <p:cNvPicPr/>
          <p:nvPr/>
        </p:nvPicPr>
        <p:blipFill>
          <a:blip r:embed="rId1"/>
          <a:srcRect l="0" t="0" r="0" b="12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4067280" y="1557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清脆   纯净   婉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4292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奏乐    啭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71640" y="2421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咳嗽  呻吟  嗥叫   喧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3213000"/>
            <a:ext cx="727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吱吱声  嗡嗡声   呱呱声   吱吱嘎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哼哼   咩咩    咕噜咕噜   嘎吱嘎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42920" y="47941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拉提琴   打鼓   吹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71640" y="5586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异想天开       不折不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2195640" y="404640"/>
            <a:ext cx="40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547640" y="1628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在清晨和黄昏，不光是鸟，森林里所有的动物都在唱歌奏乐：各唱各的曲子，各用各的乐器；各有各的唱法，各有各的奏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 rot="5400000">
            <a:off x="-721440" y="1232640"/>
            <a:ext cx="302436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找出一句能概括动物唱歌奏乐的情形的句子，并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——”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画出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 rot="5400000">
            <a:off x="-1009080" y="389664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动物们唱歌奏乐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Picture 6" descr="跳动小鸟"/>
          <p:cNvPicPr/>
          <p:nvPr/>
        </p:nvPicPr>
        <p:blipFill>
          <a:blip r:embed="rId1"/>
          <a:stretch/>
        </p:blipFill>
        <p:spPr>
          <a:xfrm>
            <a:off x="3132000" y="2637000"/>
            <a:ext cx="4608720" cy="23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2700360" y="476280"/>
          <a:ext cx="5975280" cy="118908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动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唱歌奏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00360" y="1700280"/>
          <a:ext cx="5975280" cy="435924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啄木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打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尖声尖气地吹笛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母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咳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嗥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猫头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哼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蜜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嗡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咕噜咕噜吵   呱呱呱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嘎吱嘎吱（拉小提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蚱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小爪子抓翅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红色水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嘴把水吹得扑噜扑噜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沙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尾巴兜风，发出“咩咩”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222"/>
          <p:cNvSpPr/>
          <p:nvPr/>
        </p:nvSpPr>
        <p:spPr>
          <a:xfrm>
            <a:off x="3681360" y="8827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燕雀、莺和鸫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3"/>
          <p:cNvSpPr/>
          <p:nvPr/>
        </p:nvSpPr>
        <p:spPr>
          <a:xfrm>
            <a:off x="5501520" y="882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清脆、纯净的声音唱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4"/>
          <p:cNvSpPr/>
          <p:nvPr/>
        </p:nvSpPr>
        <p:spPr>
          <a:xfrm>
            <a:off x="2948040" y="1243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甲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5"/>
          <p:cNvSpPr/>
          <p:nvPr/>
        </p:nvSpPr>
        <p:spPr>
          <a:xfrm>
            <a:off x="5366520" y="1268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吱吱嘎嘎拉提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26"/>
          <p:cNvSpPr txBox="1"/>
          <p:nvPr/>
        </p:nvSpPr>
        <p:spPr>
          <a:xfrm>
            <a:off x="468360" y="404640"/>
            <a:ext cx="223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会学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227"/>
          <p:cNvSpPr/>
          <p:nvPr/>
        </p:nvSpPr>
        <p:spPr>
          <a:xfrm>
            <a:off x="250920" y="170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小组合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沙雉"/>
          <p:cNvPicPr/>
          <p:nvPr/>
        </p:nvPicPr>
        <p:blipFill>
          <a:blip r:embed="rId1"/>
          <a:stretch/>
        </p:blipFill>
        <p:spPr>
          <a:xfrm>
            <a:off x="4788000" y="3068640"/>
            <a:ext cx="4105080" cy="338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826920" y="18900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沙雉更是异想天开，它竟用尾巴唱起歌来了：它一个腾身冲入云霄，然后张开尾巴，头朝下直冲下来。它的尾巴兜着风，发出一种“咩咩”的声音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不折不扣，活像羊羔在森林的上空叫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933720"/>
            <a:ext cx="42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124000" y="4941720"/>
            <a:ext cx="172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仿写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95页破折号作用"/>
          <p:cNvPicPr/>
          <p:nvPr/>
        </p:nvPicPr>
        <p:blipFill>
          <a:blip r:embed="rId1">
            <a:lum bright="6000"/>
          </a:blip>
          <a:srcRect l="23741" t="78053" r="19182" b="8515"/>
          <a:stretch/>
        </p:blipFill>
        <p:spPr>
          <a:xfrm>
            <a:off x="2771640" y="3976560"/>
            <a:ext cx="5832720" cy="288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116000" y="2852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尾巴兜着风，发出一种“咩咩”的声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折不扣，活像羊羔在森林的上空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71640" y="155736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牛的脖子嘎吱嘎吱地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不是活像在拉一把小提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476360" y="26028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体会破折号的作用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音乐符号3电子课本99页"/>
          <p:cNvPicPr/>
          <p:nvPr/>
        </p:nvPicPr>
        <p:blipFill>
          <a:blip r:embed="rId1"/>
          <a:srcRect l="0" t="59462" r="0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79280" y="0"/>
            <a:ext cx="4221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积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692360" y="1268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关于音乐的诗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242100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大弦嘈嘈如急雨，小弦切切如私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26920" y="3284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嘈嘈切切错杂弹，大珠小珠落玉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26920" y="4076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此曲只应天上有，人间能得几回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26920" y="494172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曲终收拨当心画，四弦一声如裂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0"/>
            <a:ext cx="9144000" cy="432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0" y="4319640"/>
            <a:ext cx="91440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音乐符号3电子课本99页"/>
          <p:cNvPicPr/>
          <p:nvPr/>
        </p:nvPicPr>
        <p:blipFill>
          <a:blip r:embed="rId1"/>
          <a:srcRect l="28736" t="59462" r="11408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黄鹂"/>
          <p:cNvPicPr/>
          <p:nvPr/>
        </p:nvPicPr>
        <p:blipFill>
          <a:blip r:embed="rId2"/>
          <a:srcRect l="0" t="26759" r="0" b="0"/>
          <a:stretch/>
        </p:blipFill>
        <p:spPr>
          <a:xfrm>
            <a:off x="0" y="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476360" y="45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只要我们亲近自然，亲近生活，美好的音乐就在你我身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03:30Z</dcterms:created>
  <dc:creator>tw</dc:creator>
  <dc:description/>
  <dc:language>en-US</dc:language>
  <cp:lastModifiedBy>chenfeng</cp:lastModifiedBy>
  <dcterms:modified xsi:type="dcterms:W3CDTF">2014-10-25T15:54:35Z</dcterms:modified>
  <cp:revision>76</cp:revision>
  <dc:subject/>
  <dc:title>幻灯片 1</dc:title>
</cp:coreProperties>
</file>