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573-1E56-4855-B2EA-639E0A51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640-F66A-405C-899E-367F50F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E5A-85B3-46F3-AF4C-FD9EA099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383-0DC9-43FE-9F90-9D333A9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288-7C2A-4B0E-8CC7-BB0359C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2A2-86A7-4816-B790-02C13D9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1E1-D6E8-4397-AE3A-03A6DFC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A69-BA98-493D-87D7-A9818AEF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540-4EAB-46CC-AA99-96206682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612-DCE6-4825-8664-9AE8F26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9FC-480A-4DA3-9051-3BDEFF7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D24-91A8-4224-9269-778CA19E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C17-5BA7-42FE-95CE-B3CDC97B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684360" y="2133720"/>
            <a:ext cx="597528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476360" y="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林中乐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19640" y="184464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塔利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安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67640" y="522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：陈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684360" y="4653000"/>
            <a:ext cx="597528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6732720" y="314172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师大版小学语文    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元       音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树林小鸟1"/>
          <p:cNvPicPr/>
          <p:nvPr/>
        </p:nvPicPr>
        <p:blipFill>
          <a:blip r:embed="rId1"/>
          <a:srcRect l="0" t="0" r="0" b="12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557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脆   纯净   婉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4292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奏乐    啭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71640" y="2421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咳嗽  呻吟  嗥叫   喧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3213000"/>
            <a:ext cx="72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吱吱声  嗡嗡声   呱呱声   吱吱嘎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哼哼   咩咩    咕噜咕噜   嘎吱嘎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42920" y="4794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拉提琴   打鼓   吹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71640" y="5586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异想天开       不折不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195640" y="404640"/>
            <a:ext cx="40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547640" y="162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在清晨和黄昏，不光是鸟，森林里所有的动物都在唱歌奏乐：各唱各的曲子，各用各的乐器；各有各的唱法，各有各的奏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 rot="5400000">
            <a:off x="-721440" y="1232640"/>
            <a:ext cx="302436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找出一句能概括动物唱歌奏乐的情形的句子，并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——”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出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1009080" y="389664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动物们唱歌奏乐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跳动小鸟"/>
          <p:cNvPicPr/>
          <p:nvPr/>
        </p:nvPicPr>
        <p:blipFill>
          <a:blip r:embed="rId1"/>
          <a:stretch/>
        </p:blipFill>
        <p:spPr>
          <a:xfrm>
            <a:off x="3132000" y="2637000"/>
            <a:ext cx="4608720" cy="23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700360" y="476280"/>
          <a:ext cx="5975280" cy="118908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奏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00360" y="1700280"/>
          <a:ext cx="5975280" cy="4359240"/>
        </p:xfrm>
        <a:graphic>
          <a:graphicData uri="http://schemas.openxmlformats.org/drawingml/2006/table">
            <a:tbl>
              <a:tblPr/>
              <a:tblGrid>
                <a:gridCol w="21589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啄木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尖声尖气地吹笛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母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咳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嗥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猫头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哼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蜜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嗡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青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咕噜咕噜吵   呱呱呱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嘎吱嘎吱（拉小提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蚱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小爪子抓翅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红色水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嘴把水吹得扑噜扑噜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沙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尾巴兜风，发出“咩咩”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222"/>
          <p:cNvSpPr/>
          <p:nvPr/>
        </p:nvSpPr>
        <p:spPr>
          <a:xfrm>
            <a:off x="3681360" y="8827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燕雀、莺和鸫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3"/>
          <p:cNvSpPr/>
          <p:nvPr/>
        </p:nvSpPr>
        <p:spPr>
          <a:xfrm>
            <a:off x="5501520" y="882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清脆、纯净的声音唱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2948040" y="12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5366520" y="1268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吱吱嘎嘎拉提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6"/>
          <p:cNvSpPr txBox="1"/>
          <p:nvPr/>
        </p:nvSpPr>
        <p:spPr>
          <a:xfrm>
            <a:off x="468360" y="404640"/>
            <a:ext cx="223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会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25092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小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沙雉"/>
          <p:cNvPicPr/>
          <p:nvPr/>
        </p:nvPicPr>
        <p:blipFill>
          <a:blip r:embed="rId1"/>
          <a:stretch/>
        </p:blipFill>
        <p:spPr>
          <a:xfrm>
            <a:off x="4788000" y="306864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26920" y="189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沙雉更是异想天开，它竟用尾巴唱起歌来了：它一个腾身冲入云霄，然后张开尾巴，头朝下直冲下来。它的尾巴兜着风，发出一种“咩咩”的声音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不折不扣，活像羊羔在森林的上空叫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93372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124000" y="4941720"/>
            <a:ext cx="17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95页破折号作用"/>
          <p:cNvPicPr/>
          <p:nvPr/>
        </p:nvPicPr>
        <p:blipFill>
          <a:blip r:embed="rId1">
            <a:lum bright="6000"/>
          </a:blip>
          <a:srcRect l="23741" t="78053" r="19182" b="8515"/>
          <a:stretch/>
        </p:blipFill>
        <p:spPr>
          <a:xfrm>
            <a:off x="2771640" y="397656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116000" y="2852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尾巴兜着风，发出一种“咩咩”的声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折不扣，活像羊羔在森林的上空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155736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牛的脖子嘎吱嘎吱地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不是活像在拉一把小提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476360" y="26028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破折号的作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音乐符号3电子课本99页"/>
          <p:cNvPicPr/>
          <p:nvPr/>
        </p:nvPicPr>
        <p:blipFill>
          <a:blip r:embed="rId1"/>
          <a:srcRect l="0" t="59462" r="0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79280" y="0"/>
            <a:ext cx="4221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92360" y="126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关于音乐的诗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242100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大弦嘈嘈如急雨，小弦切切如私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2692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26920" y="407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此曲只应天上有，人间能得几回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26920" y="494172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曲终收拨当心画，四弦一声如裂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林中乐队"/>
          <p:cNvPicPr/>
          <p:nvPr/>
        </p:nvPicPr>
        <p:blipFill>
          <a:blip r:embed="rId1"/>
          <a:srcRect l="12283" t="66638" r="12283" b="11585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林中乐队2"/>
          <p:cNvPicPr/>
          <p:nvPr/>
        </p:nvPicPr>
        <p:blipFill>
          <a:blip r:embed="rId2"/>
          <a:srcRect l="12535" t="66925" r="12214" b="10321"/>
          <a:stretch/>
        </p:blipFill>
        <p:spPr>
          <a:xfrm>
            <a:off x="0" y="4319640"/>
            <a:ext cx="9144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音乐符号3电子课本99页"/>
          <p:cNvPicPr/>
          <p:nvPr/>
        </p:nvPicPr>
        <p:blipFill>
          <a:blip r:embed="rId1"/>
          <a:srcRect l="28736" t="59462" r="11408" b="8260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黄鹂"/>
          <p:cNvPicPr/>
          <p:nvPr/>
        </p:nvPicPr>
        <p:blipFill>
          <a:blip r:embed="rId2"/>
          <a:srcRect l="0" t="26759" r="0" b="0"/>
          <a:stretch/>
        </p:blipFill>
        <p:spPr>
          <a:xfrm>
            <a:off x="0" y="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476360" y="45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只要我们亲近自然，亲近生活，美好的音乐就在你我身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03:30Z</dcterms:created>
  <dc:creator>tw</dc:creator>
  <dc:description/>
  <dc:language>en-US</dc:language>
  <cp:lastModifiedBy>chenfeng</cp:lastModifiedBy>
  <dcterms:modified xsi:type="dcterms:W3CDTF">2014-10-25T15:54:35Z</dcterms:modified>
  <cp:revision>76</cp:revision>
  <dc:subject/>
  <dc:title>幻灯片 1</dc:title>
</cp:coreProperties>
</file>