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BEE-E73E-4D7F-9D50-E15447AE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A7BB-8ACA-4B30-B308-AA50904E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767-B624-49D8-81E6-AB802341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1AAE-E632-4F0C-B44B-5BE89BC1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C55-1A3E-4F0D-BA6A-953D1F2B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B47-FAFC-42CE-89C9-6B8E65CB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3FC-5FAF-4304-A09B-AEEFB6E0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637-256E-4FB0-9C35-7051F748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2FB-7B38-4DED-9264-EBB4CB8D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2DFE-7367-446A-BE8C-65335AF7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D1A5-BF33-41BA-974E-11AC131C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64F-1D3A-44EC-B17D-C02FF977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8CD6-E8E3-43EF-9D3B-942C0B346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EX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2" descr=""/>
          <p:cNvPicPr/>
          <p:nvPr/>
        </p:nvPicPr>
        <p:blipFill>
          <a:blip r:embed="rId2"/>
          <a:stretch/>
        </p:blipFill>
        <p:spPr>
          <a:xfrm>
            <a:off x="1182600" y="1835280"/>
            <a:ext cx="6802560" cy="907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3127320" y="3933720"/>
            <a:ext cx="30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莲都区大洋路学校  陈建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-360" y="-360"/>
            <a:ext cx="9141120" cy="6857640"/>
            <a:chOff x="-360" y="-360"/>
            <a:chExt cx="9141120" cy="6857640"/>
          </a:xfrm>
        </p:grpSpPr>
        <p:pic>
          <p:nvPicPr>
            <p:cNvPr id="10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-36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Picture 38" descr=""/>
          <p:cNvPicPr/>
          <p:nvPr/>
        </p:nvPicPr>
        <p:blipFill>
          <a:blip r:embed="rId3"/>
          <a:stretch/>
        </p:blipFill>
        <p:spPr>
          <a:xfrm rot="670200">
            <a:off x="6741720" y="3789000"/>
            <a:ext cx="2401920" cy="25639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9"/>
          <p:cNvSpPr/>
          <p:nvPr/>
        </p:nvSpPr>
        <p:spPr>
          <a:xfrm>
            <a:off x="611280" y="1197000"/>
            <a:ext cx="6121440" cy="3311640"/>
          </a:xfrm>
          <a:prstGeom prst="borderCallout1">
            <a:avLst>
              <a:gd name="adj1" fmla="val 18750"/>
              <a:gd name="adj2" fmla="val -8333"/>
              <a:gd name="adj3" fmla="val 105319"/>
              <a:gd name="adj4" fmla="val 117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怎样判断物质在水中是不是溶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还知道哪些物质能在水中溶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想做一做其他物质的溶解实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如果做，你准备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8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45" name="Picture 9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11" descr="1"/>
          <p:cNvPicPr/>
          <p:nvPr/>
        </p:nvPicPr>
        <p:blipFill>
          <a:blip r:embed="rId3"/>
          <a:stretch/>
        </p:blipFill>
        <p:spPr>
          <a:xfrm>
            <a:off x="468360" y="692280"/>
            <a:ext cx="3960720" cy="2674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2"/>
          <p:cNvSpPr/>
          <p:nvPr/>
        </p:nvSpPr>
        <p:spPr>
          <a:xfrm>
            <a:off x="1567440" y="393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食盐在水中溶解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4788000" y="765000"/>
            <a:ext cx="3544920" cy="2664000"/>
            <a:chOff x="4788000" y="765000"/>
            <a:chExt cx="3544920" cy="2664000"/>
          </a:xfrm>
        </p:grpSpPr>
        <p:pic>
          <p:nvPicPr>
            <p:cNvPr id="50" name="Picture 13" descr="2"/>
            <p:cNvPicPr/>
            <p:nvPr/>
          </p:nvPicPr>
          <p:blipFill>
            <a:blip r:embed="rId4"/>
            <a:stretch/>
          </p:blipFill>
          <p:spPr>
            <a:xfrm>
              <a:off x="6084720" y="765000"/>
              <a:ext cx="22482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AutoShape 14"/>
            <p:cNvSpPr/>
            <p:nvPr/>
          </p:nvSpPr>
          <p:spPr>
            <a:xfrm>
              <a:off x="4788000" y="1916280"/>
              <a:ext cx="936360" cy="360360"/>
            </a:xfrm>
            <a:prstGeom prst="rightArrow">
              <a:avLst>
                <a:gd name="adj1" fmla="val 50000"/>
                <a:gd name="adj2" fmla="val 649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5"/>
          <p:cNvSpPr/>
          <p:nvPr/>
        </p:nvSpPr>
        <p:spPr>
          <a:xfrm>
            <a:off x="1813680" y="5083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食盐在水中是怎么溶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"/>
          <p:cNvPicPr/>
          <p:nvPr/>
        </p:nvPicPr>
        <p:blipFill>
          <a:blip r:embed="rId5"/>
          <a:stretch/>
        </p:blipFill>
        <p:spPr>
          <a:xfrm rot="670200">
            <a:off x="5795640" y="3789000"/>
            <a:ext cx="24019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55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Rectangle 5"/>
          <p:cNvSpPr/>
          <p:nvPr/>
        </p:nvSpPr>
        <p:spPr>
          <a:xfrm>
            <a:off x="2635920" y="6912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想不想亲眼看看物质的溶解过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110040" y="191520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给大家找了一位朋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2143440" y="321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它能实现大家的愿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947240" y="4605480"/>
            <a:ext cx="20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它的名字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4932360" y="3789360"/>
            <a:ext cx="30542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高锰酸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63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Rectangle 5"/>
          <p:cNvSpPr/>
          <p:nvPr/>
        </p:nvSpPr>
        <p:spPr>
          <a:xfrm>
            <a:off x="2916360" y="47520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化学品名： 高锰酸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469760" y="14835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深紫色细长斜方柱状结晶，带蓝色的金属光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24000" y="2592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易溶于水，水溶液不稳定。遇光发生分解，生成灰黑色二氧化锰沉淀并附着于器皿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813040" y="37893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可以用做消毒剂和漂白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95280" y="53830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吸入后可引起呼吸道损害。溅落眼睛内，刺激结膜，重者致灼伤。刺激皮肤。浓溶液或结晶对皮肤有腐蚀性，对组织有刺激性易污染皮肤致黑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7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Rectangle 5"/>
          <p:cNvSpPr/>
          <p:nvPr/>
        </p:nvSpPr>
        <p:spPr>
          <a:xfrm>
            <a:off x="3421440" y="40392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锰酸钾的溶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330080" y="1197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想一想：高锰酸钾颗粒放多点好还是放少点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高锰酸钾的数量实验.AVI" descr=""/>
          <p:cNvPicPr/>
          <p:nvPr/>
        </p:nvPicPr>
        <p:blipFill>
          <a:blip r:embed="rId3"/>
          <a:stretch/>
        </p:blipFill>
        <p:spPr>
          <a:xfrm>
            <a:off x="1187280" y="19890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9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77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Rectangle 5"/>
          <p:cNvSpPr/>
          <p:nvPr/>
        </p:nvSpPr>
        <p:spPr>
          <a:xfrm>
            <a:off x="900000" y="1125360"/>
            <a:ext cx="7634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实验器材：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烧杯、水、玻璃棒、高锰酸钾、小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627280" y="260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锰酸钾的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826920" y="1989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验操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一个装水的烧杯内，轻轻地放入几小粒高锰酸钾，先静观高锰酸钾在水中的分散现象，然后用筷子轻轻搅拌一下水，继续观察水和高锰酸钾的变化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826920" y="4724280"/>
            <a:ext cx="32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观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高锰酸钾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水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11"/>
          <p:cNvPicPr/>
          <p:nvPr/>
        </p:nvPicPr>
        <p:blipFill>
          <a:blip r:embed="rId3"/>
          <a:stretch/>
        </p:blipFill>
        <p:spPr>
          <a:xfrm>
            <a:off x="3995640" y="4076640"/>
            <a:ext cx="446400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6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85" name="Picture 7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8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 rot="670200">
            <a:off x="6372000" y="475920"/>
            <a:ext cx="2401920" cy="2563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042920" y="155736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是一个什么过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900000" y="3068640"/>
            <a:ext cx="63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锰酸钾从可见到不可见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水从无色到紫色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紫色由浓变淡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60" y="-360"/>
            <a:ext cx="9141120" cy="6857640"/>
            <a:chOff x="-360" y="-360"/>
            <a:chExt cx="9141120" cy="6857640"/>
          </a:xfrm>
        </p:grpSpPr>
        <p:pic>
          <p:nvPicPr>
            <p:cNvPr id="9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-36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Rectangle 9"/>
          <p:cNvSpPr/>
          <p:nvPr/>
        </p:nvSpPr>
        <p:spPr>
          <a:xfrm>
            <a:off x="4155840" y="90792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面粉、沙、食盐、高锰酸钾在水中的状态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4360" y="2133720"/>
          <a:ext cx="7418160" cy="3105000"/>
        </p:xfrm>
        <a:graphic>
          <a:graphicData uri="http://schemas.openxmlformats.org/drawingml/2006/table">
            <a:tbl>
              <a:tblPr/>
              <a:tblGrid>
                <a:gridCol w="2881080"/>
                <a:gridCol w="936720"/>
                <a:gridCol w="863640"/>
                <a:gridCol w="1152360"/>
                <a:gridCol w="158436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面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食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高锰酸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看见颗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布是否均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有沉淀出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用过滤的方法分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溶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96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Rectangle 5"/>
          <p:cNvSpPr/>
          <p:nvPr/>
        </p:nvSpPr>
        <p:spPr>
          <a:xfrm>
            <a:off x="4084560" y="105264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面粉、沙、食盐、高锰酸钾在水中的状态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2133720"/>
          <a:ext cx="7418160" cy="2898720"/>
        </p:xfrm>
        <a:graphic>
          <a:graphicData uri="http://schemas.openxmlformats.org/drawingml/2006/table">
            <a:tbl>
              <a:tblPr/>
              <a:tblGrid>
                <a:gridCol w="2881080"/>
                <a:gridCol w="936720"/>
                <a:gridCol w="863640"/>
                <a:gridCol w="1152360"/>
                <a:gridCol w="15843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面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食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高锰酸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看见颗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布是否均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有沉淀出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用过滤的方法分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溶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3:02:01Z</dcterms:created>
  <dc:creator>hp</dc:creator>
  <dc:description/>
  <dc:language>en-US</dc:language>
  <cp:lastModifiedBy>Administrator</cp:lastModifiedBy>
  <dcterms:modified xsi:type="dcterms:W3CDTF">2013-10-24T02:00:38Z</dcterms:modified>
  <cp:revision>44</cp:revision>
  <dc:subject/>
  <dc:title>幻灯片 1</dc:title>
</cp:coreProperties>
</file>